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097-6DCA-4919-8EC6-FD55DE9A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B50-C389-479D-A16F-A27BC855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A83-0B44-43CD-9D28-02431601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F4F-B1B9-4FB8-9118-10F37513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FF99-70B2-4D7E-9A55-0D79E42B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66E7-49E5-4D2A-ACDD-9CDA7147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D731-D479-4A3C-969D-8362DCF5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D22D-01E3-4410-8FF3-04F71C79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EFB3-F7A0-4870-9E93-8494D897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CC61-03A4-4A96-94DB-FBC627A5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D6DA-90ED-4BE6-82B3-783FD5B6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5843-4AE1-4678-9A1D-6BF48792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5619-775D-4698-92D9-9625BB49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6916-A7A1-4013-AE7A-CA9A11FC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8432-D4C3-4172-AE49-988CE92E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A2A0-7B4A-422D-BBD1-C2788D0B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ADEE-A14A-44A6-8738-56EED3E2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110EC-5631-4602-9CF7-50D5FDC1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26C48-357C-4928-BC3D-9BB133F2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52149-E01F-4593-BFCE-689A77C8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7E694-EA59-4CAA-8CF5-6436B234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DDE7A-4E66-4481-85B0-6F3FCB97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096-B3C0-42D6-8F58-C184DCF2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9A3AB-2370-4147-905A-9178923A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860D6-4424-48FC-B04C-FF0E7229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B1272-AAB0-46B8-A195-542B6EAA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8C44F-9FFF-4B55-9D5B-74D95750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FEE7F-385B-4333-A914-C59B7B8D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CAA98-538D-4BCB-8FCA-3E1A3677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CAA5C-4AB4-435B-93D3-E8820C95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971-4843-4142-9E88-E10ED514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AC7-74F3-457A-889F-EE26A635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D7C7-3B59-4FD7-BF13-BC667265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645A-6B8D-4106-A5EF-B021601B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4CB-FFC8-45DD-8A10-BC04C948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BDC-11DD-4512-B1DE-E6546EF3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E0E0-3EE1-4D44-8B2E-A4CA383FB1B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1C07-87B4-4822-B90C-F3A839ED648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65C8-D41E-4F92-9D1E-09FE44B6E7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B5DE-47F3-4819-8A95-A34CAFFA54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未标题-1"/>
          <p:cNvPicPr/>
          <p:nvPr/>
        </p:nvPicPr>
        <p:blipFill>
          <a:blip r:embed="rId1"/>
          <a:stretch/>
        </p:blipFill>
        <p:spPr>
          <a:xfrm>
            <a:off x="36360" y="9360"/>
            <a:ext cx="9072720" cy="680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826920" y="1957320"/>
            <a:ext cx="456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anWangWCL10"/>
              </a:rPr>
              <a:t>工作即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971640" y="2744640"/>
            <a:ext cx="61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康娃娃体W5"/>
                <a:ea typeface="华康娃娃体W5"/>
              </a:rPr>
              <a:t>simple</a:t>
            </a:r>
            <a:r>
              <a:rPr b="1" lang="zh-CN" sz="2400" spc="-1" strike="noStrike">
                <a:solidFill>
                  <a:srgbClr val="000000"/>
                </a:solidFill>
                <a:latin typeface="华康娃娃体W5"/>
                <a:ea typeface="华康娃娃体W5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康娃娃体W5"/>
                <a:ea typeface="华康娃娃体W5"/>
              </a:rPr>
              <a:t>powerful and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未标题-2"/>
          <p:cNvPicPr/>
          <p:nvPr/>
        </p:nvPicPr>
        <p:blipFill>
          <a:blip r:embed="rId1"/>
          <a:stretch/>
        </p:blipFill>
        <p:spPr>
          <a:xfrm>
            <a:off x="0" y="-19080"/>
            <a:ext cx="9107640" cy="6832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3117960" y="1406520"/>
            <a:ext cx="45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康娃娃体W5"/>
                <a:ea typeface="华康娃娃体W5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康娃娃体W5"/>
                <a:ea typeface="华康娃娃体W5"/>
              </a:rPr>
              <a:t>工作即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421000" y="2698920"/>
            <a:ext cx="424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康娃娃体W5"/>
                <a:ea typeface="华康娃娃体W5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康娃娃体W5"/>
                <a:ea typeface="华康娃娃体W5"/>
              </a:rPr>
              <a:t>生活可以简单，自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康娃娃体W5"/>
                <a:ea typeface="华康娃娃体W5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康娃娃体W5"/>
                <a:ea typeface="华康娃娃体W5"/>
              </a:rPr>
              <a:t>也可以绚烂多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419640" y="4282920"/>
            <a:ext cx="32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康娃娃体W5"/>
                <a:ea typeface="华康娃娃体W5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华康娃娃体W5"/>
                <a:ea typeface="华康娃娃体W5"/>
              </a:rPr>
              <a:t>工作何尝不是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未标题-3"/>
          <p:cNvPicPr/>
          <p:nvPr/>
        </p:nvPicPr>
        <p:blipFill>
          <a:blip r:embed="rId1"/>
          <a:stretch/>
        </p:blipFill>
        <p:spPr>
          <a:xfrm>
            <a:off x="0" y="0"/>
            <a:ext cx="9109080" cy="6832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42807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康娃娃体W5"/>
              </a:rPr>
              <a:t>工作即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未标题-4"/>
          <p:cNvPicPr/>
          <p:nvPr/>
        </p:nvPicPr>
        <p:blipFill>
          <a:blip r:embed="rId1"/>
          <a:stretch/>
        </p:blipFill>
        <p:spPr>
          <a:xfrm>
            <a:off x="-27000" y="0"/>
            <a:ext cx="9134640" cy="6865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425600" y="1844640"/>
            <a:ext cx="645948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康娃娃体W5"/>
                <a:ea typeface="华康娃娃体W5"/>
              </a:rPr>
              <a:t>* </a:t>
            </a:r>
            <a:r>
              <a:rPr b="0" lang="zh-CN" sz="2400" spc="-1" strike="noStrike">
                <a:solidFill>
                  <a:srgbClr val="000000"/>
                </a:solidFill>
                <a:latin typeface="华康娃娃体W5"/>
                <a:ea typeface="华康娃娃体W5"/>
              </a:rPr>
              <a:t>每天的每天，我们在重复着一样的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康娃娃体W5"/>
                <a:ea typeface="华康娃娃体W5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华康娃娃体W5"/>
                <a:ea typeface="华康娃娃体W5"/>
              </a:rPr>
              <a:t>挤公车，上班，打卡，等下班，再挤公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康娃娃体W5"/>
                <a:ea typeface="华康娃娃体W5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华康娃娃体W5"/>
                <a:ea typeface="华康娃娃体W5"/>
              </a:rPr>
              <a:t>这不就是生活的缩影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康娃娃体W5"/>
                <a:ea typeface="华康娃娃体W5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华康娃娃体W5"/>
                <a:ea typeface="华康娃娃体W5"/>
              </a:rPr>
              <a:t>我们每天在重复，但重要的是，我们的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康娃娃体W5"/>
                <a:ea typeface="华康娃娃体W5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华康娃娃体W5"/>
                <a:ea typeface="华康娃娃体W5"/>
              </a:rPr>
              <a:t>情在不断更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未标题-5"/>
          <p:cNvPicPr/>
          <p:nvPr/>
        </p:nvPicPr>
        <p:blipFill>
          <a:blip r:embed="rId1"/>
          <a:stretch/>
        </p:blipFill>
        <p:spPr>
          <a:xfrm>
            <a:off x="36360" y="27000"/>
            <a:ext cx="9072720" cy="68054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3549240" y="2401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康娃娃体W5"/>
              </a:rPr>
              <a:t>谢谢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anWangWCL10"/>
              </a:rPr>
              <a:t>聆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1T06:48:22Z</dcterms:modified>
  <cp:revision>1</cp:revision>
  <dc:subject/>
  <dc:title>PowerPoint 演示文稿</dc:title>
</cp:coreProperties>
</file>