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D7AA-F648-4796-A6A8-986B41FF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B0A4-316A-4EED-8B4A-AA646A95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3F5E-F247-4925-8C54-24E48DDC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5B39-605A-4A25-A64A-E4EB96F2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D2AC-97B0-4E4E-BAE9-6BEE8062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EC78-95BA-4CFB-927F-951A298C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038A-36D4-4146-9DED-A4CD073F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86C8-E0B9-479F-BD4B-32654407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E49D-FCFA-4195-A20B-67508603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BAF2-730A-4231-A684-DCD446BA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CC78-75A8-4976-A8F8-46C0FDD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0D86-9187-4AED-9A4A-2337E794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6469-F8E5-433C-99F2-C8591D30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C379-28FA-4258-8C76-6BC6722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9F41-2CF8-417F-B6C3-9819BC42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97AA-D5E4-451A-92A6-0B07739C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6577-9F77-46FD-9059-2AA6CCBA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2F5B-09AF-4E64-9A35-66F90960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F144-D4FB-4A81-A545-21B1E511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C58B-CB19-4444-864A-38161F90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6B65-C120-4A04-A449-7FDD1240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793C-47C4-4B78-ABA8-10E5540D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6118-A892-4620-8E0E-863B115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C2C4-2599-4787-82BF-D60C70E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4629-E3E8-4448-8C8F-78AE40B9E271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0" y="6572160"/>
            <a:ext cx="755640" cy="287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FBC3-BFB6-44CA-94D2-A582103DA99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1F08-75EF-4B86-88C8-24A5B158DB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-17640" y="6573960"/>
            <a:ext cx="14940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7-16T08:49:10Z</dcterms:modified>
  <cp:revision>7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