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FFE0-4C8B-477A-8843-B9B59BA09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59AA-B721-401C-B052-45C7E082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2F94A-1F9D-42ED-A0E8-0E664B6B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6ACDB-0149-4EF8-9A5E-3339121C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91301-1235-483B-BFB2-1736370C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7AE76-D544-4E53-81C5-C8FCDFCD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573D7-4153-4460-A8E4-697CEFE0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23FD5-8BA8-4F45-AF8F-A5CCC548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064DA-D732-436C-9A7B-44F70FBF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B07FE-B0E1-4690-BFDB-1D541FBB1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F283A-F0BF-40F2-A7FB-9C635128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7D778-D5AA-4B32-9469-097B7C3EB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BC58-85D0-4906-B1CA-491312ED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65206-D174-48CD-9165-414E7ECD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A2D81-CCB8-4DEF-B54C-4ADBAAC5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30015-3256-42AC-9F90-174827C1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C813A-F926-4936-A4EE-D261B7AA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AA394-35F2-4F61-AEB7-6E7E21A3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FBD22-3EE1-4942-9402-BFC07C62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10641-1C60-4CD0-BA4C-5E177CFB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6305C-E35C-4E81-BF09-394DC350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0994E-74A6-4D3F-AA63-56042257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B9FCD-674D-47DC-BA34-23155CD5B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8B0E-0C98-4B4C-83CE-DF3FA6D0C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1CFA4-9B1F-4EAE-8FC4-4F5845C31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EA326-4B4F-4B03-89CE-995E1DD03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94D4D-83C2-4377-8B2C-6027BC78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E3C08-C5AC-44FD-9F9B-F99A657D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6B052-5AE2-4719-A77F-669EC22C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0E862-5322-4188-805F-97EECB11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E5CC9-5C10-4C40-9F5A-C4657780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62529-A6B0-41EF-A0FF-0C23AA61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C088A-5826-4BA0-8EAF-F320B70F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54942-A500-4B99-8131-2D153F14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C20A-B867-4894-B795-69736A027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18524-04D2-4303-A2F4-A97AD5B9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F89AB-3524-4E81-9EC8-264E1CFE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BBB78-5396-46A2-9D88-EA4F5DFF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2DDA8E-3882-40AF-87BF-D476EF01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3ACBF4-D659-40C6-979C-7AA0AA19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D2DD5F-138E-4ED7-9E9D-EBBED82D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4297B-2201-4585-882B-14D2241C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1EC78-06FC-4B99-8D93-B6911B8E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252D06-7185-41AD-AA28-2C32EE17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9E31B-2333-41FE-B247-73864125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0F1E-B67F-49D4-AE56-F616E2C2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768833-3A62-4C12-8646-2DEB8DE7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8C5EA9-3DE5-4CCB-9843-252F023A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9DC8B4-62C4-4813-8C9B-23BCC837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41EB75-57D8-408E-A993-D743B955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6395E-41CD-4AD0-916A-BB27C49B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7AEEB1-8D8F-42F7-A660-C5907F4C7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F09C51-E396-49C8-87C6-20007332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D27922-DABC-452B-AF99-4C6B59F4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FEF10D-B432-44C1-9C5E-D5988466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8E84E1-D323-4571-87C0-C4C7B74E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6982-105E-4383-B71E-A1ABC2E7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B0E6FB-EF48-48B1-8478-A23D606F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95F53C-BB51-4E94-AF6A-3F3428FA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34D8DE-BE1B-459A-9F8F-D7823749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DE7800-4225-4391-B405-CA8626B9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D8D0DC-C085-492D-BCD7-6E7D1003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4E472C-C371-4AF1-9F85-34D0E99B2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A2CBD3-BA7E-4982-8542-E596D3BEA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8EBDB6-D5CF-465C-BBEC-5B497D30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3165F3-AF99-4DF4-AEE7-E0339E0F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8712F5-F1E3-49D5-B693-0EE134EF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7E03-20B5-439B-A88C-7419FFDD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1725C6-CDE8-49FA-BAED-0C06E561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084162-7861-4AD5-B83E-D20B3889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1267DC-CB77-4CD5-A060-B7301ED8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D94F86-2257-4E79-8285-E67A2074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0344BE-F626-4949-A921-54D84720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F54CFA-B419-4BBC-B662-3482AC6A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32DDCA-9C3F-4DDF-831B-E7ACB36A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12AFA2-626A-4C5D-BD5F-17F71951B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D4F716-2EE9-4B44-8E9E-244B81C1C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2BBE-AE75-46D4-839B-903005C2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3D01-0724-4CED-9E95-4DEE2831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D1D7-1AF3-4296-B993-E203E701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B1D9-B314-483E-A168-5AEC7418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0D4B-E107-4DFA-BF6B-6803AD4D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BF30-F0F0-4D1B-BD25-3BADEB78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268F-1989-4995-8EC9-1C31E3DE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B64D-48E9-4BB7-AF35-E2FD24D67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5B8A-B72D-4B82-A98A-7C0344F2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B6D83-0905-481E-870A-FC93259C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4025A-A705-41F7-9C4B-0FE7B96E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3A89A-A398-4291-BACE-8B8C66E8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FAC08-9625-48AE-8FEB-8BC14A4A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1B9F7-56C5-46C4-AE3A-894AA60A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E857-D0B0-4B33-97C4-D2A98942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6AA6F-C667-4757-B3B7-F36522A5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7B8A3-3899-4241-A0C5-E2CDD146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525E9-244F-4048-9B33-FE19AB14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CADFE-2B3B-4077-A20A-5568970C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A0837-BBC1-40F1-BB37-D92BB072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8479B-B2BB-4186-BBEE-9A9C2352D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817C8-1A60-4BAF-8203-F3814EC7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2C8F6-3AA1-400D-B098-CBF7E6241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8CF0E-A42F-466A-BBD2-3E844FDC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8973D-6A76-44BD-BA52-DC4FE348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B5A1-D69F-4F9C-9566-24CC5B37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581A6-97F6-4C68-9796-CC1DC471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C9BBE-AD0B-47B8-AAD7-21E757DA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941B6-7B39-45C4-A785-779484BC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0264B-3899-46DE-BB3F-D3DF9666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919D6-839D-4E82-AA5D-9F845137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D531B-3B44-4852-8EA7-AFDD764B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39AC3-DE34-46A1-B1F8-D3992FCF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52744-5F13-4375-A494-427108627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D1945-90EA-448D-99FE-5D8187BE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C1325-C5ED-4ADF-8B56-77E671CB9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1488-8653-4127-820E-8A1DCDB0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E8CA5-B18D-4D41-A511-B4F7AC95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F14B3-16AD-4180-B9BE-3EF11645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A73AF-DA56-4B4C-AC07-DB135D03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58C62-AD0C-4033-B5F7-5893B099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6152F-5E76-45DE-B906-A17B2C4F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9C4D6-D499-4805-B6C3-E89600DD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24A9C-219D-43FB-9A11-C47B7AB2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BF297-4CFA-4702-9BD1-5F564E31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4B6BD-0C82-49F6-A4B4-356F0887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4BBF5-49AB-4ED1-BB82-4CA031928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D8D9-AA10-42A9-B029-D5BB1FE4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42DC8-D455-45EE-B73C-4571615FA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5FF5E-144E-4781-8196-7D89B7402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8C46D-E314-4785-B2C0-BC9BCB15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765D4-6DDE-4EBE-8AB6-26D3244C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00762-CAF7-49A9-A1C0-6DA71E9B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B61CA-0EEC-4AD1-8B7D-D6606DA7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986B3-2CC1-481B-A011-7FBBD0AC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33FD7-31D8-465B-82DA-2FE82E09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294E6-3720-4C7E-9BA5-C4D49D32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6C4AD-28B4-4360-B639-9913E704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E649-A083-4BD8-A1A7-125811FA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7D19A-EE58-4A67-8B98-F384DE0C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60908-432B-4DC0-8C1B-B5C50E2C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B8230-93AA-4D07-80B8-C20CBDCA1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F1B2C-A49A-44D8-92D1-11C34213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8C403-5250-4600-8DD5-B3E89DED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8812B-A690-44E6-AC5A-C3CCA1A2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FA3CD-E67F-47B0-95B5-BB90A48F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2293D-2B60-4475-8D49-14987EA4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39A36-E2B4-461A-826A-ED2C9831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2354F-B427-4ADA-B411-5A6A0FF1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0B4C-BA58-42B5-B2A3-D74E100E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34BD1-2BD0-4A85-ACDE-E05C1BBD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6E273-5929-45DD-81A9-B31B6345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1D0C8-C9BD-46A4-838E-95E130D2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D0E04-778C-4E00-8A80-35B13353A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84E68-E188-4D58-B774-67ECE8ED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8AA22-D2F8-496B-81DB-9CBF4BF97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F1A4A-7C2F-481B-903D-81EDFE14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342B4-87C3-4391-B3AC-21D4FAF2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246F0-577E-4C84-9F31-F018E07C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56C43-C42A-4F78-835E-C6A94035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6ED8-CA15-4E29-875C-523F4CD1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A112D-0550-47EA-8CA8-1C93BCFF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65399-7050-4C7D-9D41-26A8E16D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4735A-5B2D-4237-BD9B-98DA9E83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D44E9-C996-4FDE-93A0-27397ACE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C4AF3-659B-42BB-861D-9DBFCA67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AE8D8-0915-461D-933C-FFA43113B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70FB8-AB3F-45E1-A5F8-B072FB057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3BF22-32B0-4996-9455-62BE257A5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0A7FF-D1CB-4151-AE96-753DC742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2A5F7C-F0B8-467E-BCC0-963FE2B4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8560" y="925200"/>
            <a:ext cx="7886880" cy="52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2d05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6C41-D750-42B2-B8F2-9580B47C74C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图片 6" descr=""/>
          <p:cNvPicPr/>
          <p:nvPr/>
        </p:nvPicPr>
        <p:blipFill>
          <a:blip r:embed="rId2"/>
          <a:srcRect l="0" t="12622" r="0" b="69678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5" name="矩形 7"/>
          <p:cNvSpPr/>
          <p:nvPr/>
        </p:nvSpPr>
        <p:spPr>
          <a:xfrm>
            <a:off x="0" y="657360"/>
            <a:ext cx="6823080" cy="56880"/>
          </a:xfrm>
          <a:prstGeom prst="rect">
            <a:avLst/>
          </a:prstGeom>
          <a:solidFill>
            <a:srgbClr val="ccff66"/>
          </a:solidFill>
          <a:ln w="0">
            <a:noFill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矩形 8"/>
          <p:cNvSpPr/>
          <p:nvPr/>
        </p:nvSpPr>
        <p:spPr>
          <a:xfrm>
            <a:off x="6823080" y="655560"/>
            <a:ext cx="2320920" cy="58680"/>
          </a:xfrm>
          <a:prstGeom prst="rect">
            <a:avLst/>
          </a:prstGeom>
          <a:solidFill>
            <a:srgbClr val="a6a6a6"/>
          </a:solidFill>
          <a:ln w="0">
            <a:noFill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628560" y="84240"/>
            <a:ext cx="788688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5EDC-C96E-4E98-BC97-7FF99315A3E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436D-4B5B-4A96-999D-891B02FF0B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CBFE-2FA4-4B27-A017-BF3556EC237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FCE1-5D59-4955-889C-7EAA0007F5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F707-7E12-4D2C-A3E6-73EE2713F0B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8E8F-B7DA-4711-AB47-13A2DC8AC6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4DE7-A502-4546-9B2D-8FE2634148F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F90F-24E3-4EAD-8BCF-899004B7BC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5573-8B62-4ADA-B01E-750FBBA295D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7D39-8DED-4958-9F56-D67CE2601E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9" descr=""/>
          <p:cNvPicPr/>
          <p:nvPr/>
        </p:nvPicPr>
        <p:blipFill>
          <a:blip r:embed="rId2"/>
          <a:srcRect l="0" t="0" r="0" b="42102"/>
          <a:stretch/>
        </p:blipFill>
        <p:spPr>
          <a:xfrm>
            <a:off x="0" y="4519440"/>
            <a:ext cx="9144000" cy="2338560"/>
          </a:xfrm>
          <a:prstGeom prst="rect">
            <a:avLst/>
          </a:prstGeom>
          <a:ln w="0">
            <a:noFill/>
          </a:ln>
        </p:spPr>
      </p:pic>
      <p:sp>
        <p:nvSpPr>
          <p:cNvPr id="45" name="矩形 10"/>
          <p:cNvSpPr/>
          <p:nvPr/>
        </p:nvSpPr>
        <p:spPr>
          <a:xfrm>
            <a:off x="0" y="4519440"/>
            <a:ext cx="6823080" cy="204840"/>
          </a:xfrm>
          <a:prstGeom prst="rect">
            <a:avLst/>
          </a:prstGeom>
          <a:solidFill>
            <a:srgbClr val="9ce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11"/>
          <p:cNvSpPr/>
          <p:nvPr/>
        </p:nvSpPr>
        <p:spPr>
          <a:xfrm>
            <a:off x="5686560" y="4325760"/>
            <a:ext cx="3457440" cy="1936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28560" y="925200"/>
            <a:ext cx="7886880" cy="52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2d05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28560" y="84240"/>
            <a:ext cx="788688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8ADF-265D-4B86-80CB-E1B6AEB537F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35CB-2447-4843-96BC-2ADC680B229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8739-504F-4133-AEAC-8A0FDA13FA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8865-A870-4852-898C-E51C45C026F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415F-4568-47D3-8435-465299D07E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9DF9-D4BE-4C3F-8AE2-9368CD698B8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D2A6-85F0-4E74-94A0-EA5FFED09D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ADA5-A418-4BF8-93F2-686F75ED1A1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FD1D-C5CE-43AC-8C7F-5ADE962535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2F7A-B2FB-4A18-95D4-F0E83499033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F207-3203-4271-A629-882A3352F3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39F6-89FE-40FF-A5F0-553EDFB7F6D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DCB9-E650-41D5-9B0D-73639CCAB8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9E5C-5C61-4B81-9D63-2621ACEEF4F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BA73-5314-4B10-935C-669587713E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613728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黑白年终总结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模板</a:t>
            </a:r>
            <a:endParaRPr b="1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5686560" y="3601800"/>
            <a:ext cx="30002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ce53b"/>
                </a:solidFill>
                <a:latin typeface="Calibri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84240"/>
            <a:ext cx="788688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 Light"/>
              </a:rPr>
              <a:t>此处添加标题</a:t>
            </a:r>
            <a:endParaRPr b="1" lang="en-US" sz="3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628560" y="925200"/>
            <a:ext cx="7886880" cy="52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2d05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3T17:17:19Z</dcterms:created>
  <dc:creator>邹恩栋</dc:creator>
  <dc:description/>
  <cp:keywords>XS-普屏 4：3;SC-淡绿色;BG-浅色;DH-静态</cp:keywords>
  <dc:language>en-US</dc:language>
  <cp:lastModifiedBy>a</cp:lastModifiedBy>
  <dcterms:modified xsi:type="dcterms:W3CDTF">2015-01-15T02:40:40Z</dcterms:modified>
  <cp:revision>6</cp:revision>
  <dc:subject>TP-通用纹理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