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11520488" cy="86407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063-4FF3-411C-97A6-6B6061E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C00-8E25-470C-95C9-C5C1DE98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1DB-39A3-4215-BED0-E693888F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9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55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00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9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55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1EC7-8C2F-4400-8ADF-CC376DA1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562-E872-437A-8C8B-AEE91319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0B3A-A721-4410-A993-5D2DECA0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27F6-B8B5-43A8-BD24-D9BE798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62D9-D79C-49EE-ABA8-906CAE69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9CC3-C020-4431-8069-034F9315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6000" y="345960"/>
            <a:ext cx="103662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ACB-072D-4F3A-9956-DA5D9DB8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E847-592B-4F02-AF07-CE9414A1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64B-A716-48BD-B6DC-D4F133D3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70881-EF62-4B30-A6A3-A53FEBFE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86E0-2970-4FDC-9759-740318DC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990D-1C4B-4634-A259-97F59B09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AC3D-9D3C-4DFE-AA00-739D974D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809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855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600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809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5855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E4D0-5043-4A63-9B4C-5A5F3F28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3E15-343D-4E6A-8451-82984427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A8AAD-DBD4-4C00-A766-BF81F016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172B6-08B5-407A-8602-984F690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0D377-2679-4300-8F2C-597ED9B3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0B7C-B3A3-40B0-9605-DB334C9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F00-726E-442F-B89F-BACCAFD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6000" y="345960"/>
            <a:ext cx="103662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37140-25D7-4595-9175-47F1AF97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6F423-C05F-4902-AA43-0D153265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F5CAF-3102-4D88-83FA-53E9DC1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CC3D-51B7-4E16-A871-D5EB573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A47A-8623-4963-A36D-D2D3A39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CA7BC-8136-4958-8F89-9FB0F549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809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5855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600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809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5855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939E-ECB2-4B54-BADA-17D97F2E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5800-3E6B-426B-A814-5ED3E48F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A41A-67F2-4A63-912E-4B4055FD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9804E-2FCA-4874-9F74-FDFB720C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91E-62EA-4BCE-B2B0-F3F118E9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381B-3005-42A2-A4ED-41718A22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03C61-C77B-4D87-8BF3-68897E36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6000" y="345960"/>
            <a:ext cx="103662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4A9AA-BCCA-432D-AC14-E4BC08A9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9E6C-05C9-46DE-9EE8-9B3C09B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1910-0FCF-4B31-9F5D-9ACD4E9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E64E1-C7AD-4E9F-B459-6E2219A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DF69-F062-4D87-B690-4818C62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1A23-4276-480E-9B8C-FFC2E369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809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85560" y="201600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600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809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585560" y="4993920"/>
            <a:ext cx="33375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8E31F-0E87-4FAA-A9A8-B0FAE457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E57-5104-4D9F-AACB-52172226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000" y="345960"/>
            <a:ext cx="1036620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4B9-083B-4E55-B51E-D533C35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AF7-B2A6-451E-A2E1-32DACFF6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7800" y="499392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41D-7170-4D20-9CB3-770A3F48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0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7800" y="2016000"/>
            <a:ext cx="505836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000" y="4993920"/>
            <a:ext cx="10366200" cy="27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5CA-9FB9-41C0-994A-D0A1F0C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351000"/>
            <a:ext cx="10368000" cy="1436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ctr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2016000"/>
            <a:ext cx="10368000" cy="570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rmAutofit/>
          </a:bodyPr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1" marL="936720" indent="-360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2" marL="1440000" indent="-287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3" marL="2016000" indent="-2887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4" marL="2592360" indent="-288720">
              <a:spcBef>
                <a:spcPts val="550"/>
              </a:spcBef>
              <a:buClr>
                <a:srgbClr val="80808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5" marL="2592360" indent="-2887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6" marL="2592360" indent="-2887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7867440"/>
            <a:ext cx="268740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5160" y="7867440"/>
            <a:ext cx="364788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5160" y="7867440"/>
            <a:ext cx="268920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235-C4DB-4144-9AE6-2A41A789DF20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360" y="351000"/>
            <a:ext cx="10368000" cy="1436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ctr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6000" y="2016000"/>
            <a:ext cx="5182920" cy="570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rmAutofit/>
          </a:bodyPr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1" marL="936720" indent="-360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2" marL="1440000" indent="-287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3" marL="2016000" indent="-2887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4" marL="2592360" indent="-288720">
              <a:spcBef>
                <a:spcPts val="550"/>
              </a:spcBef>
              <a:buClr>
                <a:srgbClr val="80808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5" marL="2592360" indent="-2887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6" marL="2592360" indent="-2887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7867440"/>
            <a:ext cx="268740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35160" y="7867440"/>
            <a:ext cx="364788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55160" y="7867440"/>
            <a:ext cx="2689200" cy="603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CDFB-DC3A-4E0D-AAB9-E1A4906195E8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851440" y="2016000"/>
            <a:ext cx="509292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2200" spc="-1" strike="noStrike">
                <a:solidFill>
                  <a:srgbClr val="80808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2200" spc="-1" strike="noStrike">
                <a:solidFill>
                  <a:srgbClr val="808080"/>
                </a:solidFill>
                <a:latin typeface="Arial"/>
                <a:ea typeface="微软雅黑"/>
              </a:rPr>
              <a:t>第二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2200" spc="-1" strike="noStrike">
                <a:solidFill>
                  <a:srgbClr val="808080"/>
                </a:solidFill>
                <a:latin typeface="Arial"/>
                <a:ea typeface="微软雅黑"/>
              </a:rPr>
              <a:t>第三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2200" spc="-1" strike="noStrike">
                <a:solidFill>
                  <a:srgbClr val="808080"/>
                </a:solidFill>
                <a:latin typeface="Arial"/>
                <a:ea typeface="微软雅黑"/>
              </a:rPr>
              <a:t>第四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2200" spc="-1" strike="noStrike">
                <a:solidFill>
                  <a:srgbClr val="808080"/>
                </a:solidFill>
                <a:latin typeface="Arial"/>
                <a:ea typeface="微软雅黑"/>
              </a:rPr>
              <a:t>第五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6360" y="345960"/>
            <a:ext cx="10368000" cy="14400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76360" y="2016000"/>
            <a:ext cx="10368000" cy="570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603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440000" indent="-287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016000" indent="-28872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592360" indent="-2887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592360" indent="-2887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592360" indent="-28872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76000" y="7867800"/>
            <a:ext cx="2687400" cy="599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35160" y="7867800"/>
            <a:ext cx="3647880" cy="599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255160" y="7867800"/>
            <a:ext cx="2689200" cy="599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1AE4-1758-4E07-BE32-6C3AB9FC8414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6000" y="345960"/>
            <a:ext cx="103662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76000" y="2016000"/>
            <a:ext cx="10366200" cy="57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35856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438200" indent="-287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014560" indent="-2872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590920" indent="-2872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590920" indent="-2872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590920" indent="-28728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76000" y="7867800"/>
            <a:ext cx="268740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685C-70D2-4E31-B6BD-CEAA159845EF}" type="datetime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935160" y="7867800"/>
            <a:ext cx="364788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54800" y="7867800"/>
            <a:ext cx="2687400" cy="59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6E83-6FB7-4242-9BB4-5FAD0642410D}" type="slidenum">
              <a:rPr b="0" lang="zh-CN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2684520"/>
            <a:ext cx="9791640" cy="18511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Arial"/>
              </a:rPr>
              <a:t>输入标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726920" y="4895640"/>
            <a:ext cx="80643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6360" y="345960"/>
            <a:ext cx="10361520" cy="14385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ctr">
            <a:noAutofit/>
          </a:bodyPr>
          <a:p>
            <a:pPr indent="0" algn="ct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zh-CN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6360" y="2016000"/>
            <a:ext cx="10368000" cy="570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rmAutofit/>
          </a:bodyPr>
          <a:p>
            <a:pPr marL="431640" indent="-4316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输入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输入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Bef>
                <a:spcPts val="1001"/>
              </a:spcBef>
              <a:buNone/>
              <a:tabLst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10666440" cy="8638920"/>
            <a:chOff x="0" y="0"/>
            <a:chExt cx="10666440" cy="8638920"/>
          </a:xfrm>
        </p:grpSpPr>
        <p:sp>
          <p:nvSpPr>
            <p:cNvPr id="170" name="矩形 4"/>
            <p:cNvSpPr/>
            <p:nvPr/>
          </p:nvSpPr>
          <p:spPr>
            <a:xfrm>
              <a:off x="808920" y="0"/>
              <a:ext cx="8385840" cy="8557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5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5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5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2159640"/>
              <a:ext cx="10666440" cy="64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7"/>
            <p:cNvSpPr/>
            <p:nvPr/>
          </p:nvSpPr>
          <p:spPr>
            <a:xfrm rot="20926800">
              <a:off x="2401560" y="4506840"/>
              <a:ext cx="5879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4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</cp:lastModifiedBy>
  <dcterms:modified xsi:type="dcterms:W3CDTF">2014-07-21T06:49:32Z</dcterms:modified>
  <cp:revision>1</cp:revision>
  <dc:subject/>
  <dc:title>输入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