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A22-EEE6-43F6-B49D-AFA58857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16C-6906-41C4-A08E-1F7D74B6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B3F-4E30-49B9-A723-FF6A54C2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CD5-D817-4A25-BBDC-08699B0E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BE0-5E0E-4B97-9FAB-E7727241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95D4-7BF7-4B90-99F4-FECEB1B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75F3-F77F-4807-A64E-47C8A057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B1B-C997-407F-8A50-9DEF2762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4F09-4883-4AF6-8A8E-DCAE3E5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7B3D-8CDA-4EA1-A3EB-28330ECF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0F1D-16A5-44F0-A37D-3A2E230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F2D-7B8D-46B6-8BAE-0FEDC3CE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45EE-2C91-4E91-BEEA-3951897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452-7029-46E6-8297-711EDF8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A88-C79F-4C7A-9BE8-3CBDFA9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6008-CC68-4ADF-8BF1-D7F08FA2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A0A-5335-47F3-B067-83F821E8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05A0-5C2A-491C-8E27-9861D87C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DB28-E189-4474-9B05-E2D244EA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D61A-2B85-4F75-8338-9514EB72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4A1E-08B6-4CB2-8973-AB9D04DC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E540-A308-41E1-BA4A-243726A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7E7-F780-4CA1-A459-B6FC76D6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078C-831C-4D39-A860-4339B852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9513-20A3-4DFF-9858-CA4659B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5138-129E-496D-98A7-8BF7898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7F6F-189D-4588-8642-3862015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B0BC-FDFC-429D-8BDC-DAAD966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C1A2-074D-4725-9357-56B6B34A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18A3-5984-4C70-804E-79D605A6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A05-8BA6-403E-84A2-CAB0147A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D4B-E721-47D6-B554-60FCA34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39E-DC01-4545-BEC0-DBB2DCE3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584-57DF-4095-A8D1-E106ECE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CAA-A7BC-41BF-B5C4-8B2F444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88E-167E-4F6C-911F-ACBA327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S_Template0011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0BB9-AEB7-4EF6-8EE8-4B5A8D725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P_Template0011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35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042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923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3272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1183-BE71-4CE4-A617-F1E8715A1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66C5-040B-478A-B913-5126A77D5C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B5C-D7C4-433C-89A6-5948C787C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LT_Template0011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46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8000" y="1182600"/>
            <a:ext cx="64008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35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4:06:14Z</dcterms:created>
  <dc:creator>Jack</dc:creator>
  <dc:description/>
  <dc:language>en-US</dc:language>
  <cp:lastModifiedBy>a</cp:lastModifiedBy>
  <dcterms:modified xsi:type="dcterms:W3CDTF">2015-01-14T17:26:2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