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190-1428-43FF-9819-8A73C6A9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BF31-AC52-4C16-9BAA-CCAD38F9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805-754F-4BA7-B62F-445942D6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46F-C2FF-4883-B0FF-BC95F983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F433-CDBA-4AF8-BB8A-CDBF3D95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005D-BF27-4539-B063-153ADA2E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918E-7E19-4DB9-BB67-4FE3A36F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3D4A-2475-40A8-A5E0-7195E968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9870-70D4-44F8-B3EE-5380D562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37EF-6138-4775-B0B1-7B515970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7A58-46F4-447F-BD6B-1FFA5B46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5C6-4AD1-4051-989D-6795DBA2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57C0-B00C-4F33-A482-BCCB7BA7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A232-147B-4C1D-82AF-AEF6D15A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3DE5-9D2C-4BA0-A49A-84322514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DF87-57AD-4C07-AF5D-2C6C5148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D175-4F68-4887-8063-E6ABCCA3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C68-D093-49F9-95D8-3498499E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682-32DB-40CE-A3AF-D49853CD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CB6-D2EA-41F2-A42C-70FC4A97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1D5-95DC-4A3B-B3E3-B083EDA9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4500-C698-488E-B32B-8F480619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414-3543-40F9-B941-F32CEF7F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586-757B-4DAA-AB2A-91215787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1022-D771-4535-89EF-868D5EA812C3}" type="slidenum">
              <a:rPr b="0" lang="zh-TW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7582-2016-48EF-B8E7-8D774C04A31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EC9F-DC54-4BC6-ABF5-2EB747F668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f2f2"/>
                </a:solidFill>
                <a:latin typeface="Georgia"/>
                <a:ea typeface="宋体"/>
              </a:rPr>
              <a:t>黑色古典艺术花纹</a:t>
            </a:r>
            <a:r>
              <a:rPr b="0" lang="zh-CN" sz="3600" spc="-1" strike="noStrike">
                <a:solidFill>
                  <a:srgbClr val="f2f2f2"/>
                </a:solidFill>
                <a:latin typeface="Georgia"/>
                <a:ea typeface="宋体"/>
              </a:rPr>
              <a:t>PPT</a:t>
            </a:r>
            <a:r>
              <a:rPr b="0" lang="zh-CN" sz="3600" spc="-1" strike="noStrike">
                <a:solidFill>
                  <a:srgbClr val="f2f2f2"/>
                </a:solidFill>
                <a:latin typeface="Georgia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14720" y="27432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1472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600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fr-CA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fr-CA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fr-CA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fr-CA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fr-CA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fr-CA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2:50:16Z</dcterms:created>
  <dc:creator>kingsoft</dc:creator>
  <dc:description/>
  <dc:language>en-US</dc:language>
  <cp:lastModifiedBy>a</cp:lastModifiedBy>
  <dcterms:modified xsi:type="dcterms:W3CDTF">2015-01-14T17:12:49Z</dcterms:modified>
  <cp:revision>3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