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EA9E-39EB-4355-9E28-C2184405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A35-4334-4344-8C91-FDC494E1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759C-8232-4612-AE81-C8758A337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677-8C25-472A-9278-5C6B7069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0537-7B3C-4C03-8697-3D9D32B7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AC7-CC3A-48AC-83DD-7D0976D6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CD1-8B70-4E24-8347-066C333B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C00E-0D69-4ECA-8291-6A311E0B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74C4-59BF-4F67-9524-92F57AFB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782-B22C-4C09-A6A8-38A8120B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9646-3476-4C27-99A6-6DFB2921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6B48-9FB2-48EA-BB45-C5D12F679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2EAD-8F37-4B62-9BA9-14DAC19A84E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F0D3-8E01-4FAE-87DA-3253B3B88A9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09320" y="61722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YOUR</a:t>
            </a:r>
            <a:r>
              <a:rPr b="1" lang="en-US" sz="20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SUBTITLE</a:t>
            </a:r>
            <a:r>
              <a:rPr b="1" lang="en-US" sz="20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GOES</a:t>
            </a:r>
            <a:r>
              <a:rPr b="1" lang="en-US" sz="20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" y="55627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SKATEBOARD ZON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skate"/>
          <p:cNvPicPr/>
          <p:nvPr/>
        </p:nvPicPr>
        <p:blipFill>
          <a:blip r:embed="rId2"/>
          <a:stretch/>
        </p:blipFill>
        <p:spPr>
          <a:xfrm>
            <a:off x="5943600" y="2209680"/>
            <a:ext cx="264168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1333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icrostyle Bold Extended ATT"/>
                <a:ea typeface="宋体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5800" y="16765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icrostyle Bold Extended ATT"/>
                <a:ea typeface="宋体"/>
              </a:rPr>
              <a:t>YOUR 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4876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icrostyle Bold Extended ATT"/>
                <a:ea typeface="宋体"/>
              </a:rPr>
              <a:t>TRANS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skateboarder"/>
          <p:cNvPicPr/>
          <p:nvPr/>
        </p:nvPicPr>
        <p:blipFill>
          <a:blip r:embed="rId2"/>
          <a:stretch/>
        </p:blipFill>
        <p:spPr>
          <a:xfrm>
            <a:off x="2798640" y="1371600"/>
            <a:ext cx="36021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6248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ero"/>
                <a:ea typeface="宋体"/>
              </a:rPr>
              <a:t>YOUR TITLE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ero"/>
                <a:ea typeface="宋体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ero"/>
                <a:ea typeface="宋体"/>
              </a:rPr>
              <a:t>YOUR SUBTOPIC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5800" y="3124080"/>
            <a:ext cx="8229600" cy="3200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80880" y="6705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457200" y="274320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skateboard_zone_qx"/>
          <p:cNvPicPr/>
          <p:nvPr/>
        </p:nvPicPr>
        <p:blipFill>
          <a:blip r:embed="rId1"/>
          <a:stretch/>
        </p:blipFill>
        <p:spPr>
          <a:xfrm>
            <a:off x="2590920" y="1368360"/>
            <a:ext cx="1527120" cy="1146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27" name="Picture 9" descr="skateboard_zone_sld"/>
          <p:cNvPicPr/>
          <p:nvPr/>
        </p:nvPicPr>
        <p:blipFill>
          <a:blip r:embed="rId2"/>
          <a:stretch/>
        </p:blipFill>
        <p:spPr>
          <a:xfrm>
            <a:off x="4191120" y="1368360"/>
            <a:ext cx="1527120" cy="1146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28" name="Picture 10" descr="skateboard_zone_trs"/>
          <p:cNvPicPr/>
          <p:nvPr/>
        </p:nvPicPr>
        <p:blipFill>
          <a:blip r:embed="rId3"/>
          <a:stretch/>
        </p:blipFill>
        <p:spPr>
          <a:xfrm>
            <a:off x="5791320" y="1368360"/>
            <a:ext cx="1527120" cy="1146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29" name="Picture 11" descr="skateboard_zone_prt"/>
          <p:cNvPicPr/>
          <p:nvPr/>
        </p:nvPicPr>
        <p:blipFill>
          <a:blip r:embed="rId4"/>
          <a:stretch/>
        </p:blipFill>
        <p:spPr>
          <a:xfrm>
            <a:off x="7391520" y="1368360"/>
            <a:ext cx="1527120" cy="1146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30" name="Picture 12" descr="skateboarder"/>
          <p:cNvPicPr/>
          <p:nvPr/>
        </p:nvPicPr>
        <p:blipFill>
          <a:blip r:embed="rId5"/>
          <a:stretch/>
        </p:blipFill>
        <p:spPr>
          <a:xfrm>
            <a:off x="5410080" y="2895480"/>
            <a:ext cx="3108600" cy="3657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skate"/>
          <p:cNvPicPr/>
          <p:nvPr/>
        </p:nvPicPr>
        <p:blipFill>
          <a:blip r:embed="rId6"/>
          <a:stretch/>
        </p:blipFill>
        <p:spPr>
          <a:xfrm>
            <a:off x="1165320" y="4010040"/>
            <a:ext cx="439740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8T04:57:51Z</dcterms:modified>
  <cp:revision>1</cp:revision>
  <dc:subject/>
  <dc:title>PowerPoint 演示文稿</dc:title>
</cp:coreProperties>
</file>