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6B9-93BC-4D54-85DE-6EBEBFB6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F0E-A328-4F4A-96BB-5C4D9BC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BCD-4992-47DC-88C9-8AB98E62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E26-19C3-471B-A62F-026AD573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D8B7-87E9-4A7D-8352-B389AE25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5A42-774B-4610-9EDD-C2E6BE8B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EFB5-4FC8-4930-B7D0-DD0CF0D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6AE8-DDB5-4228-AF99-18CF7DDF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7B16-869D-4703-9D17-A5B5507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689E-546E-4871-9067-0C08585B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BD95-0B21-4FA9-B3B8-FF7F662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DB2-457D-4086-AA61-A79AF5AA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F0C9-7CD8-4429-86CD-B5A6A1B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945E-3983-44F0-8D02-1B5CC003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FB8-BACD-4E67-9A72-4E6FB0CB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1C65-153D-4421-8A9D-076C3117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1A1F-F83A-4EBA-B54C-8C42E6B8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8AA7-240E-4B34-876B-CF2FCDFD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D2EED-8593-47B8-AC22-1E3D45B2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97B7-D774-427D-9AA1-F9CB99E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8A2F-9C49-4558-B403-E8F117D3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5B33-B428-473A-AD07-CEF096C0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599-B6DF-499B-857E-B3DB712F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36FC-FDAF-4210-A4DF-33FE47FB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1083-DB94-460C-85AA-FA9E29B4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74BB-FF40-4665-AE8B-99F4EF15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DE39-2D4D-4E37-BBFB-7DC15F64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5D20-2809-4546-9191-DC621AD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C175-8599-440D-AFAB-4D76412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CB1D-23B7-40E7-BCFF-34469A6B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C38-BF64-4220-898B-DD2F6F64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843-A30D-446F-85EB-CA4991A8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4DE0-C43D-454A-8EDD-83C0743A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AFD-EBDF-4868-B95B-3FD7163B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BAB-0382-40BB-A5C0-F63FE1F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65E-754A-4231-9E7A-0214F69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738-6396-4765-9B22-F7F13210EF55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7705-5CFC-40AB-9E23-B0A5D321BE2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655C-E27E-4523-9B04-AACCA2E388F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AA2-B497-4EC9-9575-5F48A52290F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FCD5-8834-49C2-9BBF-86CE9B2E66E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38D-AF12-4B1A-95C2-755FE209DD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厚重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g_blurred_backgrounds_19"/>
          <p:cNvPicPr/>
          <p:nvPr/>
        </p:nvPicPr>
        <p:blipFill>
          <a:blip r:embed="rId1"/>
          <a:srcRect l="0" t="0" r="0" b="78199"/>
          <a:stretch/>
        </p:blipFill>
        <p:spPr>
          <a:xfrm>
            <a:off x="0" y="4699080"/>
            <a:ext cx="899964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570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1403280"/>
            <a:ext cx="6570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wg_blurred_backgrounds_19"/>
          <p:cNvPicPr/>
          <p:nvPr/>
        </p:nvPicPr>
        <p:blipFill>
          <a:blip r:embed="rId1"/>
          <a:srcRect l="51009" t="0" r="29059" b="0"/>
          <a:stretch/>
        </p:blipFill>
        <p:spPr>
          <a:xfrm>
            <a:off x="0" y="6480"/>
            <a:ext cx="17924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047600" y="1832040"/>
            <a:ext cx="201456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047600" y="1832040"/>
            <a:ext cx="20145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049400" y="2717640"/>
            <a:ext cx="201276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049400" y="2717640"/>
            <a:ext cx="20127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43400" y="1832040"/>
            <a:ext cx="201276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443400" y="1832040"/>
            <a:ext cx="20127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441600" y="2717640"/>
            <a:ext cx="201312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3441600" y="2717640"/>
            <a:ext cx="20131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794200" y="1832040"/>
            <a:ext cx="2013120" cy="806400"/>
          </a:xfrm>
          <a:prstGeom prst="rect">
            <a:avLst/>
          </a:prstGeom>
          <a:solidFill>
            <a:srgbClr val="c66a46"/>
          </a:solidFill>
          <a:ln w="25560">
            <a:solidFill>
              <a:srgbClr val="c68e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794200" y="1832040"/>
            <a:ext cx="2013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5640" rIns="305640" tIns="174600" bIns="1746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794200" y="2717640"/>
            <a:ext cx="2013120" cy="1613160"/>
          </a:xfrm>
          <a:prstGeom prst="rect">
            <a:avLst/>
          </a:prstGeom>
          <a:solidFill>
            <a:srgbClr val="c66a46">
              <a:alpha val="89000"/>
            </a:srgbClr>
          </a:solidFill>
          <a:ln w="25560">
            <a:solidFill>
              <a:srgbClr val="c68e46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794200" y="2717640"/>
            <a:ext cx="201312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9320" rIns="305640" tIns="229320" bIns="344160" anchor="t">
            <a:normAutofit fontScale="99000"/>
          </a:bodyPr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4327560" y="3108240"/>
            <a:ext cx="1163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162240" y="2550960"/>
            <a:ext cx="701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02040" y="1521000"/>
            <a:ext cx="777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0680" rIns="40680" tIns="40680" bIns="4068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3790800" y="2357280"/>
            <a:ext cx="2489400" cy="2489400"/>
          </a:xfrm>
          <a:custGeom>
            <a:avLst/>
            <a:gdLst>
              <a:gd name="textAreaLeft" fmla="*/ 364320 w 2489400"/>
              <a:gd name="textAreaRight" fmla="*/ 2125080 w 2489400"/>
              <a:gd name="textAreaTop" fmla="*/ 364320 h 2489400"/>
              <a:gd name="textAreaBottom" fmla="*/ 2125080 h 2489400"/>
            </a:gdLst>
            <a:ahLst/>
            <a:rect l="textAreaLeft" t="textAreaTop" r="textAreaRight" b="textAreaBottom"/>
            <a:pathLst>
              <a:path w="21600" h="21600">
                <a:moveTo>
                  <a:pt x="18067" y="17357"/>
                </a:moveTo>
                <a:cubicBezTo>
                  <a:pt x="19689" y="15558"/>
                  <a:pt x="20588" y="13222"/>
                  <a:pt x="20588" y="10800"/>
                </a:cubicBezTo>
                <a:cubicBezTo>
                  <a:pt x="20588" y="5394"/>
                  <a:pt x="16205" y="1012"/>
                  <a:pt x="10800" y="1012"/>
                </a:cubicBezTo>
                <a:cubicBezTo>
                  <a:pt x="10463" y="1012"/>
                  <a:pt x="10127" y="1029"/>
                  <a:pt x="9792" y="1064"/>
                </a:cubicBezTo>
                <a:lnTo>
                  <a:pt x="9688" y="57"/>
                </a:lnTo>
                <a:cubicBezTo>
                  <a:pt x="10057" y="19"/>
                  <a:pt x="10428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3472"/>
                  <a:pt x="20608" y="16050"/>
                  <a:pt x="18818" y="18034"/>
                </a:cubicBezTo>
                <a:lnTo>
                  <a:pt x="20823" y="19843"/>
                </a:lnTo>
                <a:lnTo>
                  <a:pt x="16295" y="20075"/>
                </a:lnTo>
                <a:lnTo>
                  <a:pt x="16062" y="15548"/>
                </a:lnTo>
                <a:lnTo>
                  <a:pt x="18067" y="17357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2556000" y="1879560"/>
            <a:ext cx="1807920" cy="1808280"/>
          </a:xfrm>
          <a:custGeom>
            <a:avLst/>
            <a:gdLst>
              <a:gd name="textAreaLeft" fmla="*/ 264600 w 1807920"/>
              <a:gd name="textAreaRight" fmla="*/ 1543320 w 1807920"/>
              <a:gd name="textAreaTop" fmla="*/ 264600 h 1808280"/>
              <a:gd name="textAreaBottom" fmla="*/ 1543680 h 1808280"/>
            </a:gdLst>
            <a:ahLst/>
            <a:rect l="textAreaLeft" t="textAreaTop" r="textAreaRight" b="textAreaBottom"/>
            <a:pathLst>
              <a:path w="21600" h="21600">
                <a:moveTo>
                  <a:pt x="1431" y="11649"/>
                </a:moveTo>
                <a:cubicBezTo>
                  <a:pt x="1870" y="16495"/>
                  <a:pt x="5933" y="20207"/>
                  <a:pt x="10800" y="20207"/>
                </a:cubicBezTo>
                <a:cubicBezTo>
                  <a:pt x="15995" y="20207"/>
                  <a:pt x="20207" y="15995"/>
                  <a:pt x="20207" y="10800"/>
                </a:cubicBezTo>
                <a:cubicBezTo>
                  <a:pt x="20207" y="5604"/>
                  <a:pt x="15995" y="1393"/>
                  <a:pt x="10800" y="1393"/>
                </a:cubicBezTo>
                <a:cubicBezTo>
                  <a:pt x="9553" y="1393"/>
                  <a:pt x="8319" y="1640"/>
                  <a:pt x="7169" y="2121"/>
                </a:cubicBezTo>
                <a:lnTo>
                  <a:pt x="6631" y="836"/>
                </a:lnTo>
                <a:cubicBezTo>
                  <a:pt x="7951" y="284"/>
                  <a:pt x="9368" y="0"/>
                  <a:pt x="10799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5213" y="21600"/>
                  <a:pt x="548" y="17339"/>
                  <a:pt x="44" y="11775"/>
                </a:cubicBezTo>
                <a:lnTo>
                  <a:pt x="-2645" y="12019"/>
                </a:lnTo>
                <a:lnTo>
                  <a:pt x="430" y="8329"/>
                </a:lnTo>
                <a:lnTo>
                  <a:pt x="4120" y="11405"/>
                </a:lnTo>
                <a:lnTo>
                  <a:pt x="1431" y="11649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3276720" y="912960"/>
            <a:ext cx="1950840" cy="1949400"/>
          </a:xfrm>
          <a:custGeom>
            <a:avLst/>
            <a:gdLst>
              <a:gd name="textAreaLeft" fmla="*/ 285480 w 1950840"/>
              <a:gd name="textAreaRight" fmla="*/ 1665360 w 1950840"/>
              <a:gd name="textAreaTop" fmla="*/ 285480 h 1949400"/>
              <a:gd name="textAreaBottom" fmla="*/ 1663920 h 1949400"/>
            </a:gdLst>
            <a:ahLst/>
            <a:rect l="textAreaLeft" t="textAreaTop" r="textAreaRight" b="textAreaBottom"/>
            <a:pathLst>
              <a:path w="21600" h="21600">
                <a:moveTo>
                  <a:pt x="3722" y="4450"/>
                </a:moveTo>
                <a:cubicBezTo>
                  <a:pt x="2157" y="6195"/>
                  <a:pt x="1292" y="8456"/>
                  <a:pt x="1292" y="10800"/>
                </a:cubicBezTo>
                <a:cubicBezTo>
                  <a:pt x="1292" y="11069"/>
                  <a:pt x="1303" y="11337"/>
                  <a:pt x="1326" y="11606"/>
                </a:cubicBezTo>
                <a:lnTo>
                  <a:pt x="38" y="11715"/>
                </a:lnTo>
                <a:cubicBezTo>
                  <a:pt x="12" y="11411"/>
                  <a:pt x="0" y="11105"/>
                  <a:pt x="0" y="10800"/>
                </a:cubicBezTo>
                <a:cubicBezTo>
                  <a:pt x="0" y="8137"/>
                  <a:pt x="983" y="5569"/>
                  <a:pt x="2761" y="3587"/>
                </a:cubicBezTo>
                <a:lnTo>
                  <a:pt x="751" y="1784"/>
                </a:lnTo>
                <a:lnTo>
                  <a:pt x="5475" y="1528"/>
                </a:lnTo>
                <a:lnTo>
                  <a:pt x="5732" y="6253"/>
                </a:lnTo>
                <a:lnTo>
                  <a:pt x="3722" y="4450"/>
                </a:lnTo>
                <a:close/>
              </a:path>
            </a:pathLst>
          </a:custGeom>
          <a:solidFill>
            <a:srgbClr val="c68e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g_blurred_backgrounds_19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280" y="214956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53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13T02:09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