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0B8-6142-4FF3-BA0F-AD5CC24E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29C-E8D2-48F4-8737-C4D6609B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D6397-6C18-429D-BF13-BF9FA53F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BF1F-1117-4FFE-84AC-3CDA600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EA22B-7C50-4CF2-A57A-76093C8C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07139-DADB-4357-BEA6-948B5CC2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D5620-C53E-4FE0-9D0D-F81BB56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66B28-BE6B-4116-AB69-F17FDAD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C0716-1F47-4183-9640-5D3A8AE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9EE1B-5011-4983-861E-7B8522C6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E6107-CA16-469F-ACBE-7DE7D2BE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2B05B-9723-4A85-9ADB-AA8C1DE0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75D-BB76-4A1A-86FB-F6EDF383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14EED-77E5-4B5E-BF95-7C88D126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15381-24FB-4C48-BA33-9C7A163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05B8B-9B93-4614-9A67-4CC15BE0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9C53A-C5AA-4998-9975-9BA36E72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5B73F-4DE6-4D45-8CE4-C69A84DD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51191-F4E4-4339-8FE8-1347866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0CA12-333B-4B83-B29D-8FC59BE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57A78-D4B5-4169-B870-8C2E440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8E357-B2BC-4671-A26F-51B9CF7A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1593C-40BF-472F-B6EF-C4712FC7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51E-67F4-4C10-9B48-023E0D0C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FDFE3-F03B-4405-BDB5-37B15B6A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D7841-C474-4B50-A367-BD924A87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8EE95-B89F-4254-88B3-DF0EEDE1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2AEA8-B9F6-4F39-867F-C26FC138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752DE-4681-4540-858D-2F41C828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3F7B2-BB0C-4668-B4D1-29211765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643C7-5D71-4116-8B04-E72479B3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39694-254B-454D-904C-119E916F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38D3E-AA45-4278-90EF-31848F3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6D12B-8459-4ABA-A887-72F5F940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AD7-9C0D-44D5-A6DF-1790654A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6292C-EB62-46FF-B43A-FCA0F90C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22998-908C-4236-89E9-0D0D8E7B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6EB77-AECF-4F40-91F3-80E32559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2E6F2-190D-4D7E-9EC8-DA75B993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A1B02-1016-40CC-91FA-1376AFB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79C5D-B752-40C5-8CE1-8C630FE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B9846-8147-40AC-96E8-4EA74094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EDEAA-2819-4FAA-922A-9E59F8CA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FD130-C6A7-4B69-B4C4-944239FE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65C2B-2F34-4D46-B2FA-852C903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DE36-747D-4723-80FE-82141CC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3EE53-5583-4359-A251-EB7FDC7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7CE80-41E8-414F-91E7-93BB13D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00DE5-69BD-4A10-91C7-0A2AC495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6245A-F67B-4A78-A860-CCB6C355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93044-CFDC-420B-AB38-2EB033EA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E1D8D-485F-4017-AFBB-021B1F96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85EC0-2647-4531-A29C-BB83C4BA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CA36A-D176-4C73-BC93-E5CF36D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57847-6095-4952-A4B8-1FBDD95F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FCD77-C89A-46C3-91A2-7EA895F3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A6AE-1C6F-483B-88A1-9E1E805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637ED-02D6-4040-9C81-9110069C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DCF86-1656-4A26-BEF6-EA3E295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ECCDA-6C1B-459B-930F-E981AD1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4AD4F-C0E7-4342-92CB-A553C649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9668A-8A60-4075-9DD9-44F579B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925EC-C581-4B99-869B-29EC0467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7EB9E-18E0-4693-9A57-ACDA67FD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6A10-405C-474B-ADA0-80F5CD1B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228-1547-4DAC-8D51-C74E39D7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622B-38D4-4753-B50D-53F4596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047A-5129-4A1A-BC7D-1964D29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CD7-27BF-4754-9AD4-EEBA8AD0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2B21-2BD1-42D4-B5ED-A662B66F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DF2D-673A-4730-B11C-DB9C0057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B1E1-57EF-4354-91AD-02AE8849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A93-1C4F-4BB2-B629-F52CD4C2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1DBF-B34B-403E-8FD2-83778F71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63F9-1302-44A3-85BC-98B3A531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CD17-A0FB-48A5-82A9-5FDDC58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38F0-FE0B-438A-B741-98442AD2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CC6F-74E7-436B-AA48-4DF88E5A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4A8A-BA6F-475A-8D22-68FD46A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8C3-752A-4623-9FF0-9B81F3D3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5FE1-600E-476B-AA85-BDFD4E8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1B87-3BC2-489B-9D87-93AFB9A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83FE-9ECE-44E1-B6E1-25EC46A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9468-BAB1-4E80-912A-9B3381B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BF90-3E08-4BFB-A262-C8E98128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DCA6-E6DC-443E-ACC5-8ECDF60B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D19E-B9C3-470D-8806-A00DBCA8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0C26-DADB-49EC-B77B-392836D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E241-6FEF-4F9B-BEC6-E89465E1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D5B4-CED2-43E0-9BF7-B9FC51B2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E8A-00B3-49DE-AC32-664B866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2220-F74B-4CF5-A0AD-BE7F5152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11A2-DE13-40C1-BFE6-E761DE11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9E99-42BC-4AE3-A088-3DBFF96B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D0FB2-9A92-4145-A98C-BA7E69C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8F6C-25AA-4D29-94D2-2F63D7B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FB46-7F33-48A0-9A5D-4DE97AE3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D27B-2B7F-4F79-A9EC-DDDF20CA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7F96-41E7-4BFB-AF73-FBD9F8AD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7FDA-6003-4456-BFBD-3510A700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2E4C7-7F98-4FA9-BD91-FEE39C67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495-8314-421E-859B-8FB9BC30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EC26-8CD1-4541-B6FD-5B6030F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622EC-E4DC-4E6D-BBB2-4E38B5A0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5E12-C8DF-4291-BAF6-509FEE72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9A254-61B4-4446-BC99-D0A3BE18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729D-C8D9-4119-B818-08977F54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BEAE-E5F4-4143-9451-43685CB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DF79-3374-42C8-8984-CC264F57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70525-AB9A-45C2-80F4-1A640D0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200B-6A81-49D6-A5C7-4BAB88BA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F259-E185-4D78-B188-CDDDACDA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4FB-412E-412F-AA43-9990195C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F634-DFA3-4051-BCCA-A35489A9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ACA3-11C0-4015-A4B6-C7B6F194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9C81-0C71-4E9F-9744-63BAAA90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9D808-01CC-443D-9475-C5579E17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BDDA0-F4F4-4697-925C-88416D2D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62E72-1004-4E3D-83E5-7F17B470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22692-2F3E-4B12-8305-A821C8D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80915-6995-429E-BED9-D1FDC26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B6A5-5DC4-457E-84AA-27511959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FB3C-99DA-4283-9883-F1E0BF7A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784-01C5-4AE3-AD87-5BB3D916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11D97-C012-4339-8EE7-9B18E87C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DBFF1-7918-4C4B-927B-FD7ADC01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5B7EB-65EC-4DDD-8D80-C1226888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4303-E3F7-4FD6-8833-01F3C096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41107-BFA6-4046-A3E4-72617AA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9DD3E-6878-4ECC-96F1-C9DBDCEB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08AD-022D-40D0-AAFD-DA5D4D21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BF413-ADD3-491D-901B-2D09F3DD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AD284-04F2-401F-B1BF-3CBAAC93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6F76-E9BA-41EB-A198-FA482F0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F3A-6B75-4BA7-93B8-CF881C69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14490-0EB4-43CE-8BEC-90F02978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CCB36-B8F9-43C8-9EAF-29238FB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54FF6-2177-44E6-8C70-892EB13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B3D1D-2BF5-41E6-B457-DF9EE1CC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FD99-9899-422B-A25E-35AA9159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931B-C580-4BB1-8E80-64A719B0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B7C08-26BD-4B4F-BE3B-FB32D616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3B705-C169-4209-9CA7-CC212EE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3D26C-359F-400F-8254-5740A3A9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223C-1AF5-4A46-B5A7-2585B131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242-0DEC-43FD-9048-C0D1AAC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20965-28E3-4AB3-A553-4A30237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6C2CC-63E8-4D94-B3D4-A99A00F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B98A1-B123-4344-B69A-B6E5966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C45A9-3459-4572-B20B-4A88ABC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36A2-F22B-499D-A616-1DC648AD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4E60B-DE2B-4318-8DF7-DA2E8DFF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33CC3-80BF-454A-BA72-E8565A1C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F1629-3167-4B2D-BD9B-F318C103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C50A3-7C5F-4950-B189-D180A4E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E58A9-D974-459A-933E-CC1CF3C0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FED-0EC3-49A4-BC4F-174AE71485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C584-E9EC-457A-80E3-61B9E056586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278D-498B-4D3A-9A48-EC15A4B8465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674A-912D-4E58-B845-54653EB6879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479B-E35C-4EB5-9778-674038A9CC7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B479-5E09-42BB-87BF-CD9F15FE9BC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D00A-1BA6-4CBA-9817-3E7AF53EA3C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C46-9EC4-4E72-9CC4-D9F51C07C8F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3A01-E35E-4774-A5C6-07A0C5E2EE0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52C-782B-4050-BBEA-D04A481CFE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D5AF-DAC2-4353-B0FD-C8E40518E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57C4-B89F-4CBE-BFFA-4A915A6DC7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7C9C-F2F4-4004-8F30-864E25DE56A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FD5-1920-45B8-B561-2AC12E73F43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D435-78D3-40DA-A1E0-6E6966E564C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F5B-AAF2-4F7C-9E47-A81DCA2BC0F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B231-3341-4CF3-BAE9-5C4752DE7A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39A1-B26B-4E19-8431-6584487FAF7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FBA4-1E6A-4F77-A0B8-D33E276F8E4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A89E-C12C-48FF-B736-2111BC6060A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F25-5D17-4F82-B342-9DD1947BF8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3E2-0B4C-4AD3-A403-89935AA6BCE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7910-455D-4241-98D5-9A574560877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C9E2-9F18-4C33-8A18-238613C0558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718A-E367-410F-BE93-40F62AAF40F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图片1"/>
          <p:cNvPicPr/>
          <p:nvPr/>
        </p:nvPicPr>
        <p:blipFill>
          <a:blip r:embed="rId1"/>
          <a:srcRect l="0" t="0" r="0" b="18434"/>
          <a:stretch/>
        </p:blipFill>
        <p:spPr>
          <a:xfrm>
            <a:off x="4633920" y="1547640"/>
            <a:ext cx="2238480" cy="193212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3"/>
          <p:cNvSpPr/>
          <p:nvPr/>
        </p:nvSpPr>
        <p:spPr>
          <a:xfrm rot="17931600">
            <a:off x="2708640" y="337860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AutoShape 4"/>
          <p:cNvSpPr/>
          <p:nvPr/>
        </p:nvSpPr>
        <p:spPr>
          <a:xfrm rot="15238200">
            <a:off x="2783160" y="336096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AutoShape 5"/>
          <p:cNvSpPr/>
          <p:nvPr/>
        </p:nvSpPr>
        <p:spPr>
          <a:xfrm flipH="1" rot="16951200">
            <a:off x="2516040" y="298908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AutoShape 6"/>
          <p:cNvSpPr/>
          <p:nvPr/>
        </p:nvSpPr>
        <p:spPr>
          <a:xfrm flipH="1" rot="15908400">
            <a:off x="2673360" y="3003120"/>
            <a:ext cx="101772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AutoShape 7"/>
          <p:cNvSpPr/>
          <p:nvPr/>
        </p:nvSpPr>
        <p:spPr>
          <a:xfrm rot="17700000">
            <a:off x="3157920" y="339264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AutoShape 8"/>
          <p:cNvSpPr/>
          <p:nvPr/>
        </p:nvSpPr>
        <p:spPr>
          <a:xfrm flipH="1" rot="15238800">
            <a:off x="3018240" y="3661200"/>
            <a:ext cx="7840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AutoShape 9"/>
          <p:cNvSpPr/>
          <p:nvPr/>
        </p:nvSpPr>
        <p:spPr>
          <a:xfrm flipH="1" rot="16951200">
            <a:off x="3122280" y="354960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AutoShape 10"/>
          <p:cNvSpPr/>
          <p:nvPr/>
        </p:nvSpPr>
        <p:spPr>
          <a:xfrm flipH="1" rot="14958600">
            <a:off x="3553200" y="3304800"/>
            <a:ext cx="53496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11"/>
          <p:cNvSpPr/>
          <p:nvPr/>
        </p:nvSpPr>
        <p:spPr>
          <a:xfrm rot="17212200">
            <a:off x="3849840" y="3460320"/>
            <a:ext cx="1918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12"/>
          <p:cNvSpPr/>
          <p:nvPr/>
        </p:nvSpPr>
        <p:spPr>
          <a:xfrm>
            <a:off x="3946680" y="3403440"/>
            <a:ext cx="1077840" cy="71640"/>
          </a:xfrm>
          <a:prstGeom prst="roundRect">
            <a:avLst>
              <a:gd name="adj" fmla="val 50000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13"/>
          <p:cNvSpPr/>
          <p:nvPr/>
        </p:nvSpPr>
        <p:spPr>
          <a:xfrm>
            <a:off x="-9360" y="3443400"/>
            <a:ext cx="2781000" cy="712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6566040" y="3405240"/>
            <a:ext cx="5626080" cy="712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WordArt 15"/>
          <p:cNvSpPr txBox="1"/>
          <p:nvPr/>
        </p:nvSpPr>
        <p:spPr>
          <a:xfrm>
            <a:off x="4076640" y="4102200"/>
            <a:ext cx="3708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bd292"/>
                  </a:solidFill>
                  <a:miter/>
                </a:ln>
                <a:solidFill>
                  <a:srgbClr val="fbd292"/>
                </a:solidFill>
                <a:latin typeface="Gulim"/>
              </a:rPr>
              <a:t>JIAN DAN SIMPLE</a:t>
            </a:r>
            <a:endParaRPr b="1" lang="en-US" sz="1800" spc="1" strike="noStrike">
              <a:ln w="12600">
                <a:solidFill>
                  <a:srgbClr val="fbd292"/>
                </a:solidFill>
                <a:miter/>
              </a:ln>
              <a:solidFill>
                <a:srgbClr val="fbd292"/>
              </a:solidFill>
              <a:latin typeface="Gulim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WordArt 2"/>
          <p:cNvSpPr txBox="1"/>
          <p:nvPr/>
        </p:nvSpPr>
        <p:spPr>
          <a:xfrm>
            <a:off x="1785960" y="222876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1c9"/>
                  </a:solidFill>
                  <a:miter/>
                </a:ln>
                <a:solidFill>
                  <a:srgbClr val="fbd292"/>
                </a:solidFill>
                <a:latin typeface="黑体"/>
              </a:rPr>
              <a:t>目 录</a:t>
            </a:r>
            <a:endParaRPr b="1" lang="en-US" sz="1800" spc="1" strike="noStrike">
              <a:ln w="9360">
                <a:solidFill>
                  <a:srgbClr val="fff1c9"/>
                </a:solidFill>
                <a:miter/>
              </a:ln>
              <a:solidFill>
                <a:srgbClr val="fbd292"/>
              </a:solidFill>
              <a:latin typeface="黑体"/>
              <a:ea typeface="黑体"/>
            </a:endParaRPr>
          </a:p>
        </p:txBody>
      </p:sp>
      <p:sp>
        <p:nvSpPr>
          <p:cNvPr id="548" name="Oval 3"/>
          <p:cNvSpPr/>
          <p:nvPr/>
        </p:nvSpPr>
        <p:spPr>
          <a:xfrm>
            <a:off x="3530520" y="3332160"/>
            <a:ext cx="152640" cy="165240"/>
          </a:xfrm>
          <a:prstGeom prst="ellipse">
            <a:avLst/>
          </a:prstGeom>
          <a:solidFill>
            <a:srgbClr val="fbd292"/>
          </a:solidFill>
          <a:ln w="9360">
            <a:solidFill>
              <a:srgbClr val="fff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4"/>
          <p:cNvSpPr/>
          <p:nvPr/>
        </p:nvSpPr>
        <p:spPr>
          <a:xfrm>
            <a:off x="3530520" y="3560760"/>
            <a:ext cx="5105520" cy="0"/>
          </a:xfrm>
          <a:prstGeom prst="line">
            <a:avLst/>
          </a:prstGeom>
          <a:ln w="38160">
            <a:solidFill>
              <a:srgbClr val="fbd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3530520" y="4513320"/>
            <a:ext cx="152640" cy="164880"/>
          </a:xfrm>
          <a:prstGeom prst="ellipse">
            <a:avLst/>
          </a:prstGeom>
          <a:solidFill>
            <a:srgbClr val="fbd292"/>
          </a:solidFill>
          <a:ln w="9360">
            <a:solidFill>
              <a:srgbClr val="fff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3530520" y="4741920"/>
            <a:ext cx="5105520" cy="0"/>
          </a:xfrm>
          <a:prstGeom prst="line">
            <a:avLst/>
          </a:prstGeom>
          <a:ln w="38160">
            <a:solidFill>
              <a:srgbClr val="fbd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7"/>
          <p:cNvSpPr/>
          <p:nvPr/>
        </p:nvSpPr>
        <p:spPr>
          <a:xfrm>
            <a:off x="3530520" y="5643720"/>
            <a:ext cx="152640" cy="164880"/>
          </a:xfrm>
          <a:prstGeom prst="ellipse">
            <a:avLst/>
          </a:prstGeom>
          <a:solidFill>
            <a:srgbClr val="fbd292"/>
          </a:solidFill>
          <a:ln w="9360">
            <a:solidFill>
              <a:srgbClr val="fff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3530520" y="5872320"/>
            <a:ext cx="5105520" cy="0"/>
          </a:xfrm>
          <a:prstGeom prst="line">
            <a:avLst/>
          </a:prstGeom>
          <a:ln w="38160">
            <a:solidFill>
              <a:srgbClr val="fbd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WordArt 9" descr=""/>
          <p:cNvPicPr/>
          <p:nvPr/>
        </p:nvPicPr>
        <p:blipFill>
          <a:blip r:embed="rId1"/>
          <a:stretch/>
        </p:blipFill>
        <p:spPr>
          <a:xfrm>
            <a:off x="4340160" y="4200480"/>
            <a:ext cx="3309840" cy="474840"/>
          </a:xfrm>
          <a:prstGeom prst="rect">
            <a:avLst/>
          </a:prstGeom>
          <a:ln w="0">
            <a:noFill/>
          </a:ln>
        </p:spPr>
      </p:pic>
      <p:pic>
        <p:nvPicPr>
          <p:cNvPr id="555" name="WordArt 10" descr=""/>
          <p:cNvPicPr/>
          <p:nvPr/>
        </p:nvPicPr>
        <p:blipFill>
          <a:blip r:embed="rId2"/>
          <a:stretch/>
        </p:blipFill>
        <p:spPr>
          <a:xfrm>
            <a:off x="4340160" y="3017880"/>
            <a:ext cx="3309840" cy="474480"/>
          </a:xfrm>
          <a:prstGeom prst="rect">
            <a:avLst/>
          </a:prstGeom>
          <a:ln w="0">
            <a:noFill/>
          </a:ln>
        </p:spPr>
      </p:pic>
      <p:pic>
        <p:nvPicPr>
          <p:cNvPr id="556" name="WordArt 11" descr=""/>
          <p:cNvPicPr/>
          <p:nvPr/>
        </p:nvPicPr>
        <p:blipFill>
          <a:blip r:embed="rId3"/>
          <a:stretch/>
        </p:blipFill>
        <p:spPr>
          <a:xfrm>
            <a:off x="4340160" y="5340240"/>
            <a:ext cx="3309840" cy="4748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2"/>
          <p:cNvSpPr/>
          <p:nvPr/>
        </p:nvSpPr>
        <p:spPr>
          <a:xfrm>
            <a:off x="1506600" y="798480"/>
            <a:ext cx="9221760" cy="4284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11410920" y="797040"/>
            <a:ext cx="781200" cy="4284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14"/>
          <p:cNvSpPr/>
          <p:nvPr/>
        </p:nvSpPr>
        <p:spPr>
          <a:xfrm rot="17931600">
            <a:off x="306720" y="792720"/>
            <a:ext cx="22860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AutoShape 15"/>
          <p:cNvSpPr/>
          <p:nvPr/>
        </p:nvSpPr>
        <p:spPr>
          <a:xfrm rot="15238200">
            <a:off x="380160" y="811440"/>
            <a:ext cx="22860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AutoShape 16"/>
          <p:cNvSpPr/>
          <p:nvPr/>
        </p:nvSpPr>
        <p:spPr>
          <a:xfrm flipH="1" rot="16951200">
            <a:off x="182520" y="500040"/>
            <a:ext cx="861840" cy="460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17"/>
          <p:cNvSpPr/>
          <p:nvPr/>
        </p:nvSpPr>
        <p:spPr>
          <a:xfrm rot="15908400">
            <a:off x="318960" y="510480"/>
            <a:ext cx="841320" cy="44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18"/>
          <p:cNvSpPr/>
          <p:nvPr/>
        </p:nvSpPr>
        <p:spPr>
          <a:xfrm rot="17700000">
            <a:off x="712080" y="817560"/>
            <a:ext cx="22860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19"/>
          <p:cNvSpPr/>
          <p:nvPr/>
        </p:nvSpPr>
        <p:spPr>
          <a:xfrm flipH="1" rot="15238800">
            <a:off x="575640" y="1085040"/>
            <a:ext cx="78444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0"/>
          <p:cNvSpPr/>
          <p:nvPr/>
        </p:nvSpPr>
        <p:spPr>
          <a:xfrm flipH="1" rot="16951200">
            <a:off x="666720" y="965160"/>
            <a:ext cx="101772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21"/>
          <p:cNvSpPr/>
          <p:nvPr/>
        </p:nvSpPr>
        <p:spPr>
          <a:xfrm flipH="1" rot="14958600">
            <a:off x="1110600" y="715680"/>
            <a:ext cx="53496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22"/>
          <p:cNvSpPr/>
          <p:nvPr/>
        </p:nvSpPr>
        <p:spPr>
          <a:xfrm rot="17212200">
            <a:off x="1401480" y="862920"/>
            <a:ext cx="191880" cy="428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-7920" y="868320"/>
            <a:ext cx="393840" cy="4284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4" descr="图片1"/>
          <p:cNvPicPr/>
          <p:nvPr/>
        </p:nvPicPr>
        <p:blipFill>
          <a:blip r:embed="rId4"/>
          <a:srcRect l="0" t="0" r="0" b="18434"/>
          <a:stretch/>
        </p:blipFill>
        <p:spPr>
          <a:xfrm>
            <a:off x="10611000" y="38160"/>
            <a:ext cx="9554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WordArt 2" descr=""/>
          <p:cNvPicPr/>
          <p:nvPr/>
        </p:nvPicPr>
        <p:blipFill>
          <a:blip r:embed="rId1"/>
          <a:stretch/>
        </p:blipFill>
        <p:spPr>
          <a:xfrm>
            <a:off x="3670200" y="2597040"/>
            <a:ext cx="4114800" cy="84132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-9360" y="3543480"/>
            <a:ext cx="1465200" cy="7128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4"/>
          <p:cNvSpPr/>
          <p:nvPr/>
        </p:nvSpPr>
        <p:spPr>
          <a:xfrm rot="17931600">
            <a:off x="9860400" y="346896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5"/>
          <p:cNvSpPr/>
          <p:nvPr/>
        </p:nvSpPr>
        <p:spPr>
          <a:xfrm rot="15238200">
            <a:off x="9934920" y="346428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AutoShape 6"/>
          <p:cNvSpPr/>
          <p:nvPr/>
        </p:nvSpPr>
        <p:spPr>
          <a:xfrm flipH="1" rot="16951200">
            <a:off x="9680400" y="309240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7"/>
          <p:cNvSpPr/>
          <p:nvPr/>
        </p:nvSpPr>
        <p:spPr>
          <a:xfrm flipH="1" rot="15908400">
            <a:off x="9839160" y="3106440"/>
            <a:ext cx="101736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8"/>
          <p:cNvSpPr/>
          <p:nvPr/>
        </p:nvSpPr>
        <p:spPr>
          <a:xfrm rot="17700000">
            <a:off x="10335240" y="350856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"/>
          <p:cNvSpPr/>
          <p:nvPr/>
        </p:nvSpPr>
        <p:spPr>
          <a:xfrm flipH="1" rot="15238800">
            <a:off x="10195200" y="3777120"/>
            <a:ext cx="7840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"/>
          <p:cNvSpPr/>
          <p:nvPr/>
        </p:nvSpPr>
        <p:spPr>
          <a:xfrm flipH="1" rot="16951200">
            <a:off x="10286280" y="3652560"/>
            <a:ext cx="1017360" cy="7200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AutoShape 11"/>
          <p:cNvSpPr/>
          <p:nvPr/>
        </p:nvSpPr>
        <p:spPr>
          <a:xfrm flipH="1" rot="14958600">
            <a:off x="10717560" y="3395520"/>
            <a:ext cx="53496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AutoShape 12"/>
          <p:cNvSpPr/>
          <p:nvPr/>
        </p:nvSpPr>
        <p:spPr>
          <a:xfrm rot="17212200">
            <a:off x="11013840" y="3563640"/>
            <a:ext cx="19224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AutoShape 13"/>
          <p:cNvSpPr/>
          <p:nvPr/>
        </p:nvSpPr>
        <p:spPr>
          <a:xfrm>
            <a:off x="11122200" y="3505320"/>
            <a:ext cx="1077840" cy="71280"/>
          </a:xfrm>
          <a:prstGeom prst="roundRect">
            <a:avLst>
              <a:gd name="adj" fmla="val 50000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14"/>
          <p:cNvSpPr/>
          <p:nvPr/>
        </p:nvSpPr>
        <p:spPr>
          <a:xfrm>
            <a:off x="2800440" y="3532320"/>
            <a:ext cx="7127640" cy="838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15" descr="图片1"/>
          <p:cNvPicPr/>
          <p:nvPr/>
        </p:nvPicPr>
        <p:blipFill>
          <a:blip r:embed="rId2"/>
          <a:srcRect l="0" t="0" r="0" b="18434"/>
          <a:stretch/>
        </p:blipFill>
        <p:spPr>
          <a:xfrm>
            <a:off x="1103400" y="1903320"/>
            <a:ext cx="2043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 rot="5400000">
            <a:off x="-2620080" y="3344040"/>
            <a:ext cx="5651280" cy="411120"/>
          </a:xfrm>
          <a:prstGeom prst="roundRect">
            <a:avLst>
              <a:gd name="adj" fmla="val 16667"/>
            </a:avLst>
          </a:prstGeom>
          <a:solidFill>
            <a:srgbClr val="f9c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3"/>
          <p:cNvSpPr/>
          <p:nvPr/>
        </p:nvSpPr>
        <p:spPr>
          <a:xfrm rot="5400000">
            <a:off x="-876960" y="3275640"/>
            <a:ext cx="2165400" cy="411120"/>
          </a:xfrm>
          <a:prstGeom prst="rect">
            <a:avLst/>
          </a:prstGeom>
          <a:solidFill>
            <a:srgbClr val="da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4"/>
          <p:cNvSpPr/>
          <p:nvPr/>
        </p:nvSpPr>
        <p:spPr>
          <a:xfrm rot="5400000">
            <a:off x="209160" y="3373200"/>
            <a:ext cx="690840" cy="316080"/>
          </a:xfrm>
          <a:prstGeom prst="triangle">
            <a:avLst>
              <a:gd name="adj" fmla="val 50000"/>
            </a:avLst>
          </a:prstGeom>
          <a:solidFill>
            <a:srgbClr val="da8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WordArt 5" descr=""/>
          <p:cNvPicPr/>
          <p:nvPr/>
        </p:nvPicPr>
        <p:blipFill>
          <a:blip r:embed="rId1"/>
          <a:stretch/>
        </p:blipFill>
        <p:spPr>
          <a:xfrm>
            <a:off x="49320" y="755640"/>
            <a:ext cx="274680" cy="1523880"/>
          </a:xfrm>
          <a:prstGeom prst="rect">
            <a:avLst/>
          </a:prstGeom>
          <a:ln w="0">
            <a:noFill/>
          </a:ln>
        </p:spPr>
      </p:pic>
      <p:pic>
        <p:nvPicPr>
          <p:cNvPr id="588" name="WordArt 6" descr=""/>
          <p:cNvPicPr/>
          <p:nvPr/>
        </p:nvPicPr>
        <p:blipFill>
          <a:blip r:embed="rId2"/>
          <a:stretch/>
        </p:blipFill>
        <p:spPr>
          <a:xfrm>
            <a:off x="49320" y="2743200"/>
            <a:ext cx="274680" cy="1523880"/>
          </a:xfrm>
          <a:prstGeom prst="rect">
            <a:avLst/>
          </a:prstGeom>
          <a:ln w="0">
            <a:noFill/>
          </a:ln>
        </p:spPr>
      </p:pic>
      <p:pic>
        <p:nvPicPr>
          <p:cNvPr id="589" name="WordArt 7" descr=""/>
          <p:cNvPicPr/>
          <p:nvPr/>
        </p:nvPicPr>
        <p:blipFill>
          <a:blip r:embed="rId3"/>
          <a:stretch/>
        </p:blipFill>
        <p:spPr>
          <a:xfrm>
            <a:off x="42840" y="4780080"/>
            <a:ext cx="268200" cy="1528560"/>
          </a:xfrm>
          <a:prstGeom prst="rect">
            <a:avLst/>
          </a:prstGeom>
          <a:ln w="0">
            <a:noFill/>
          </a:ln>
        </p:spPr>
      </p:pic>
      <p:pic>
        <p:nvPicPr>
          <p:cNvPr id="590" name="WordArt 8" descr=""/>
          <p:cNvPicPr/>
          <p:nvPr/>
        </p:nvPicPr>
        <p:blipFill>
          <a:blip r:embed="rId4"/>
          <a:stretch/>
        </p:blipFill>
        <p:spPr>
          <a:xfrm>
            <a:off x="1962000" y="1859040"/>
            <a:ext cx="1414440" cy="3603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696760" y="2701440"/>
            <a:ext cx="7069320" cy="24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d292"/>
                </a:solidFill>
                <a:latin typeface="Calibri Light"/>
                <a:ea typeface="黑体"/>
              </a:rPr>
              <a:t>以简洁的表现形式来满足人们对环境的那种感性、本能的和理性的需求，这是当今国际社会流行的设计风格</a:t>
            </a:r>
            <a:r>
              <a:rPr b="1" lang="zh-CN" sz="2400" spc="-1" strike="noStrike">
                <a:solidFill>
                  <a:srgbClr val="fbd292"/>
                </a:solidFill>
                <a:latin typeface="Calibri Light"/>
                <a:ea typeface="黑体"/>
              </a:rPr>
              <a:t>----</a:t>
            </a:r>
            <a:r>
              <a:rPr b="1" lang="zh-CN" sz="2400" spc="-1" strike="noStrike">
                <a:solidFill>
                  <a:srgbClr val="fbd292"/>
                </a:solidFill>
                <a:latin typeface="Calibri Light"/>
                <a:ea typeface="黑体"/>
              </a:rPr>
              <a:t>简洁明快的简约风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2"/>
          <p:cNvSpPr txBox="1"/>
          <p:nvPr/>
        </p:nvSpPr>
        <p:spPr>
          <a:xfrm>
            <a:off x="4243320" y="2536920"/>
            <a:ext cx="33274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solidFill>
                  <a:srgbClr val="fbd292"/>
                </a:solidFill>
                <a:latin typeface="黑体"/>
              </a:rPr>
              <a:t>谢 谢！</a:t>
            </a:r>
            <a:endParaRPr b="1" lang="en-US" sz="7200" spc="1" strike="noStrike">
              <a:ln w="0">
                <a:noFill/>
              </a:ln>
              <a:solidFill>
                <a:srgbClr val="fbd292"/>
              </a:solidFill>
              <a:latin typeface="黑体"/>
              <a:ea typeface="黑体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-9360" y="3543480"/>
            <a:ext cx="1465200" cy="71280"/>
          </a:xfrm>
          <a:prstGeom prst="rect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AutoShape 4"/>
          <p:cNvSpPr/>
          <p:nvPr/>
        </p:nvSpPr>
        <p:spPr>
          <a:xfrm rot="17931600">
            <a:off x="9860400" y="3468960"/>
            <a:ext cx="22860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AutoShape 5"/>
          <p:cNvSpPr/>
          <p:nvPr/>
        </p:nvSpPr>
        <p:spPr>
          <a:xfrm rot="15238200">
            <a:off x="9934920" y="346428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AutoShape 6"/>
          <p:cNvSpPr/>
          <p:nvPr/>
        </p:nvSpPr>
        <p:spPr>
          <a:xfrm flipH="1" rot="16951200">
            <a:off x="9680400" y="3092400"/>
            <a:ext cx="101772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7"/>
          <p:cNvSpPr/>
          <p:nvPr/>
        </p:nvSpPr>
        <p:spPr>
          <a:xfrm flipH="1" rot="15908400">
            <a:off x="9839160" y="3106440"/>
            <a:ext cx="101736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AutoShape 8"/>
          <p:cNvSpPr/>
          <p:nvPr/>
        </p:nvSpPr>
        <p:spPr>
          <a:xfrm rot="17700000">
            <a:off x="10335240" y="3508560"/>
            <a:ext cx="228600" cy="7128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AutoShape 9"/>
          <p:cNvSpPr/>
          <p:nvPr/>
        </p:nvSpPr>
        <p:spPr>
          <a:xfrm flipH="1" rot="15238800">
            <a:off x="10195200" y="3777120"/>
            <a:ext cx="78408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AutoShape 10"/>
          <p:cNvSpPr/>
          <p:nvPr/>
        </p:nvSpPr>
        <p:spPr>
          <a:xfrm flipH="1" rot="16951200">
            <a:off x="10286280" y="3652560"/>
            <a:ext cx="1017360" cy="7200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AutoShape 11"/>
          <p:cNvSpPr/>
          <p:nvPr/>
        </p:nvSpPr>
        <p:spPr>
          <a:xfrm flipH="1" rot="14958600">
            <a:off x="10717560" y="3395520"/>
            <a:ext cx="53496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AutoShape 12"/>
          <p:cNvSpPr/>
          <p:nvPr/>
        </p:nvSpPr>
        <p:spPr>
          <a:xfrm rot="17212200">
            <a:off x="11013840" y="3563640"/>
            <a:ext cx="192240" cy="71640"/>
          </a:xfrm>
          <a:prstGeom prst="flowChartTerminator">
            <a:avLst/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AutoShape 13"/>
          <p:cNvSpPr/>
          <p:nvPr/>
        </p:nvSpPr>
        <p:spPr>
          <a:xfrm>
            <a:off x="11122200" y="3505320"/>
            <a:ext cx="1077840" cy="71280"/>
          </a:xfrm>
          <a:prstGeom prst="roundRect">
            <a:avLst>
              <a:gd name="adj" fmla="val 50000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14"/>
          <p:cNvSpPr/>
          <p:nvPr/>
        </p:nvSpPr>
        <p:spPr>
          <a:xfrm>
            <a:off x="2800440" y="3532320"/>
            <a:ext cx="7127640" cy="83880"/>
          </a:xfrm>
          <a:prstGeom prst="roundRect">
            <a:avLst>
              <a:gd name="adj" fmla="val 16667"/>
            </a:avLst>
          </a:prstGeom>
          <a:solidFill>
            <a:srgbClr val="fbd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15" descr="图片1"/>
          <p:cNvPicPr/>
          <p:nvPr/>
        </p:nvPicPr>
        <p:blipFill>
          <a:blip r:embed="rId1"/>
          <a:srcRect l="0" t="0" r="0" b="18434"/>
          <a:stretch/>
        </p:blipFill>
        <p:spPr>
          <a:xfrm>
            <a:off x="1103400" y="1903320"/>
            <a:ext cx="2043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4T02:35:0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