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007-44E7-4863-97E9-EC861BB5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920-D803-450B-BE35-C486B36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D6D3-F609-4D6D-9160-C9B1871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8B925-C10E-4393-9920-37F1656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42CDE-81F0-407A-900F-79BC7C0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4F4B3-52B5-4F16-AFB5-814D3D1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B91C-CF6A-4B79-A138-244C68F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ABCDA-2983-44EC-8E6B-6E26AF5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B7668-BB9E-4034-8243-C4FE8DC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3CAA5-5943-439D-A9F1-C79E2035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A7A0D-541B-40F0-B756-01BF20E8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77390-489A-4BDD-8DEA-3C4ADEB4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523-2F3D-4A47-84B9-E7066AA7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8377E-C2E4-4884-9522-51CF250F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07270-86A6-4E25-AEBA-EC97692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633A9-BDD6-4EA5-A2CD-1485DBE9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4FEC-2214-4512-B93F-F053D99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A6618-0958-4A3C-8B4F-F5EDACE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8118D-3372-4D91-859F-1C4BE12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5B0E7-73CF-4F71-936D-6A54E5AC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52AC7-820F-497D-88D5-99FFAFF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D04C8-36F9-41BF-81FA-383229C6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58BE2-155F-460B-A30D-BE14CE18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D9C-D03E-44CC-A96A-FC24D43B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1D1EC-AE9E-433D-BC86-84D47F2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F7879-B8FE-420A-8785-69D9BAE3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217AA-0C59-41DE-A643-A7471A95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A991D-F87C-405B-8068-EFAB262E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DA85-AD97-4D9A-99A1-35D75C21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7DF2F-5D57-47D5-9170-3F047FC2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82579-0E22-4FDD-8751-E316614E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84B8-2920-44F6-B3D6-C55EC8A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8DE0-6D4E-4DA5-A17A-EA34019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D5D30-C28D-4AFE-8515-DC81FE1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2065-4334-409A-896D-9573DB62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A420E-2AF5-4783-8BD9-A6240FE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8704C-644D-40B9-9103-319B9486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22C5-92F1-4C07-8C75-202E0DE4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0DBFC-5D0F-431D-B7A5-F279498C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70E4C-377C-49BF-A0E6-045138DA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8C0EC-9790-4CEC-8E8D-5497AA7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563A3-02E5-4D0E-8F73-20CF36D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129FC-B380-4293-BFC2-F8CB5938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70BAD-FDFE-4DF7-A193-9017FB3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FBBF6-8767-41BA-A28A-71AD7C13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EE5-EE3F-4FB8-AB56-2E72C22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0937-1D52-4185-BA52-92696F5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325F1-D39D-411E-83D5-AE06CD55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7297A-A1F4-4283-A8CB-1824C7B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ADD20-3083-4E41-A935-77864FA0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898FD-85E9-4B73-B1D8-A813510F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2286A-4C72-4D01-9310-A5925B18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B9AF2-281C-4E12-88C2-522075A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D6AFD-0CEA-46F1-A4B6-EE4E8350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3868C-AF4C-45F5-B1BA-8F622CC2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42214-DDF5-4C71-A20D-2367BAE8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DF0F-3EE7-45BC-AB69-E834D6F4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92F1F-7280-4CFE-B93B-8E78FF27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8E0B6-632E-440E-B43D-D70ECFA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D74F9-5D40-42EB-94A3-27672611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67FC3-9017-47A1-9BDA-69C2E56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6A918-F966-4142-ACA3-AD9BC4B7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66DB0-7241-447C-8D4F-BE864609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33C57-8906-43E0-837B-D240967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3716-02DB-44D4-AB7C-DBE36D2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5EA-1ACC-49D6-ABE8-0A9AEFD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D81-1628-4424-A561-00928BC4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FC13-0023-48E6-A51B-F05BEC3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A80-1B83-4BD6-ABEA-1AA9CDFE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D849-FDD9-4BEA-ADC8-156C7980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60EB-0166-4016-989E-41D484F5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3781-D4E2-40B8-B02A-6B0E58FF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C3B-88BC-42AF-B734-A7FBFD16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D7D-4072-4156-B89E-6DC2C14F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FDD26-79F4-4C1E-847C-ADE41392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A023-C5E4-4069-AF73-D7DA846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B834-7BE8-4CEF-8561-1C83DB77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BAA2-E9EE-4E26-9FB3-1A7F86E3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8B8E-1BD8-47C0-BF62-A773313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9DC-9B52-44BB-A08E-1751033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B1C1-8CF5-416C-B04A-4FF9A7BA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B668-CC59-49AB-BBB8-13096AB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2591-EECF-4CE0-AA8A-7A6B8FF2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61CE-5237-4182-BEB4-A5F3D2C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F471-95DA-49DE-B2DF-E3C80BD3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46E8-CFFF-4231-B0BA-9C20BA9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FF26-2206-4C13-B04C-1B4F9B17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248B-3802-4FE2-BBA2-B17BAEDF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AE99-8053-447F-83F2-26BEFF73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EED3-B314-42C6-97EF-9EF2C75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743-1E05-4383-AD2A-A793285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FCECB-CB58-4BF8-A2EE-C41495D4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04C6-2DAE-4355-A6ED-9F2B539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629A-0178-4873-B9BD-C0577B1A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C908-8EFB-4323-9AF2-63DA502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32B2-87EC-4D7E-ADB2-0EE0FD37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6306-5D12-427A-A61B-8C3BB9C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21DDF-43B6-4A16-858C-4B1ACBF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2B215-6899-4CC8-AA44-6038C22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6C7CA-A906-4D81-8F20-45636AF5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07A8A-6AAC-4713-B99C-263E9B1E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84C-FE4D-4A76-BCE2-E1FDED1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6020-AA08-4C8D-B1F6-7F77B79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1392-78F4-4EF6-BD25-9367F976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8D20-3ADA-4CF9-87AA-F06FBD32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5325-0AD8-4CF0-A4CA-071966A6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AD067-F7BF-464E-A06F-3BF9A9DB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542A-2618-41A9-9CE7-E57B4B0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068F-07A2-48F9-9B53-61E0BD4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0D134-898A-456D-8FF4-83BFB12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C6DE-B9CA-44E5-BF45-24D1F64A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C1663-5CCB-4290-BB2D-F20282B3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D68-113D-4AB9-95F8-5239FD8B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AC7F-56C3-42F6-88F8-3A1C4C8A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34DCF-2A5B-4BFF-8A52-EE94478E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BD0D-B5CF-4F6F-9179-94240803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35D95-3CA1-4504-80DD-E6F83878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C690-248E-461A-A226-0F897046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92F7-730C-409B-8A2F-12301320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9DC0-E10A-4E59-8C18-40D28451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2920-5F72-4B43-B2E0-9E05451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4036-E8B0-4D4D-8BCF-3FEE698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2E81-6880-4346-9874-500F9C3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C99-8A70-48EB-8C6C-1CBF94C4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A5C37-CA2A-4D2C-8912-FD9F02F8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BB35-0D29-432B-818C-04AD54E3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21E8-EEB8-4F1C-B6A5-99E119BF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4CF9-80C7-4D33-A299-9696C31A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C566-B1CF-4484-B1B5-C97147E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71B91-4A99-40EE-9153-00226150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6C0C-A9B4-4EDB-93F9-8736AE5E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7A932-F05B-48BA-89DF-F88B46E7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00E1-60BA-44F3-820C-139EF97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43FDB-054E-43CA-9EEB-7CBD89B0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66C-22D2-4358-8A8F-405A61EA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B414-1E49-49B5-B48F-71D17D0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C7B5F-0093-4256-AB2B-30D3C70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87B4-2910-40A5-B2DE-5EF90F02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F979-698A-4947-AEE0-932F737A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2C6C-9E1B-44DB-94BF-4D657CB4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889E-4A94-4A1E-97B3-66ADB4A8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AC3F-95BA-4F01-8481-2E0B8066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F98AE-12EE-4752-95B2-E9D22EF9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D204-E662-4E82-9E1A-B4EBCC0F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0043-6FE8-4E18-9321-998C0340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521-2B63-4A4D-BAD5-68D8D81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15054-0965-4023-A3C7-BB34284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58C60-354A-4B5C-8522-30B32EF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E9DD-5E03-47F5-BDC6-E65A7D7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AEFD7-9783-4614-9441-2B8AD87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ED879-A207-4CCB-9094-4036430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CDE56-1A7A-4345-94A8-950CD5F9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78F3-D34B-407F-80EA-E8EAF650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2E2CA-DD76-4C7D-A93F-46F2D49A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03979-C7D7-481F-890B-3275AD51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091E1-5FA3-411C-A9A0-59D9758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10AA-12C6-45C4-A407-63EF17207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7C2-8EE5-4179-BE57-218A6459B60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C7E-499D-4FC5-A083-E9D9280DA28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4D05-72D1-4672-B179-7CB378C71FE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47DA-A904-411E-9E7D-4F09F6F5D2D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6C6-3FDB-4129-B41C-1F31F784ACE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6C9F-FC0E-4A70-B65F-974914FAF6F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D866-2020-49C9-92BC-179298CA03A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04A9-9D98-4729-9266-A2FD1D73F1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9231-8D85-4E64-B924-88E0B1B18A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05F-1C8A-445B-A8DB-6C69A18A7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DAA-E394-44ED-9CD0-8EB5734B2BF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F51-CBAC-40C6-8433-E84CCEF806E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4376-7760-4994-9567-BD8B8DAA594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F5E-6ECE-433A-BF9C-91EC57193AD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46D-85BE-4BC3-9A96-3D069C3E78F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E19-6B8A-4B77-A4B2-24809ABE591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F50-6283-4DF1-8C23-F0ADD97C037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3838-BD1C-4F23-BD37-93C54BF3A3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C2C6-6C4C-4819-97A2-DFA90D37340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A616-3529-4B8F-A1D7-114AC598505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7D47-5525-4737-9260-C64D38A10C4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2B96-377B-4160-9A81-C135A4112C2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C14-E664-4644-B960-C5EFEB8620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FA18-CA78-4254-A371-6D57122127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L 形 3"/>
          <p:cNvSpPr/>
          <p:nvPr/>
        </p:nvSpPr>
        <p:spPr>
          <a:xfrm rot="5400000">
            <a:off x="-21600" y="21240"/>
            <a:ext cx="1160640" cy="111744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 形 4"/>
          <p:cNvSpPr/>
          <p:nvPr/>
        </p:nvSpPr>
        <p:spPr>
          <a:xfrm rot="16200000">
            <a:off x="11052720" y="5718600"/>
            <a:ext cx="1160640" cy="111780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Group 4"/>
          <p:cNvGrpSpPr/>
          <p:nvPr/>
        </p:nvGrpSpPr>
        <p:grpSpPr>
          <a:xfrm>
            <a:off x="4095720" y="2028600"/>
            <a:ext cx="3611520" cy="2158920"/>
            <a:chOff x="4095720" y="2028600"/>
            <a:chExt cx="3611520" cy="2158920"/>
          </a:xfrm>
        </p:grpSpPr>
        <p:sp>
          <p:nvSpPr>
            <p:cNvPr id="536" name="空心弧 5"/>
            <p:cNvSpPr/>
            <p:nvPr/>
          </p:nvSpPr>
          <p:spPr>
            <a:xfrm rot="10800000">
              <a:off x="4095720" y="2028600"/>
              <a:ext cx="2159280" cy="2158920"/>
            </a:xfrm>
            <a:custGeom>
              <a:avLst/>
              <a:gdLst/>
              <a:ahLst/>
              <a:rect l="l" t="t" r="r" b="b"/>
              <a:pathLst>
                <a:path w="2159002" h="2159002">
                  <a:moveTo>
                    <a:pt x="0" y="1079501"/>
                  </a:moveTo>
                  <a:cubicBezTo>
                    <a:pt x="0" y="615410"/>
                    <a:pt x="296624" y="203255"/>
                    <a:pt x="736693" y="55878"/>
                  </a:cubicBezTo>
                  <a:cubicBezTo>
                    <a:pt x="1176762" y="-91500"/>
                    <a:pt x="1661779" y="58886"/>
                    <a:pt x="1941277" y="429374"/>
                  </a:cubicBezTo>
                  <a:cubicBezTo>
                    <a:pt x="2220775" y="799862"/>
                    <a:pt x="2232197" y="1307530"/>
                    <a:pt x="1969644" y="1690214"/>
                  </a:cubicBezTo>
                  <a:cubicBezTo>
                    <a:pt x="1707091" y="2072897"/>
                    <a:pt x="1229328" y="2244944"/>
                    <a:pt x="783077" y="2117507"/>
                  </a:cubicBezTo>
                  <a:lnTo>
                    <a:pt x="783811" y="2114932"/>
                  </a:lnTo>
                  <a:cubicBezTo>
                    <a:pt x="1228956" y="2242053"/>
                    <a:pt x="1705534" y="2070433"/>
                    <a:pt x="1967436" y="1688699"/>
                  </a:cubicBezTo>
                  <a:cubicBezTo>
                    <a:pt x="2229338" y="1306965"/>
                    <a:pt x="2217945" y="800556"/>
                    <a:pt x="1939140" y="430986"/>
                  </a:cubicBezTo>
                  <a:cubicBezTo>
                    <a:pt x="1660335" y="61416"/>
                    <a:pt x="1176521" y="-88596"/>
                    <a:pt x="737544" y="58416"/>
                  </a:cubicBezTo>
                  <a:cubicBezTo>
                    <a:pt x="298567" y="205428"/>
                    <a:pt x="2678" y="616561"/>
                    <a:pt x="2678" y="1079501"/>
                  </a:cubicBezTo>
                  <a:lnTo>
                    <a:pt x="0" y="1079501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空心弧 7"/>
            <p:cNvSpPr/>
            <p:nvPr/>
          </p:nvSpPr>
          <p:spPr>
            <a:xfrm rot="10800000">
              <a:off x="4322880" y="2256120"/>
              <a:ext cx="1704240" cy="1704240"/>
            </a:xfrm>
            <a:custGeom>
              <a:avLst/>
              <a:gdLst/>
              <a:ahLst/>
              <a:rect l="l" t="t" r="r" b="b"/>
              <a:pathLst>
                <a:path w="1704196" h="1704196">
                  <a:moveTo>
                    <a:pt x="0" y="852098"/>
                  </a:moveTo>
                  <a:cubicBezTo>
                    <a:pt x="0" y="485770"/>
                    <a:pt x="234138" y="160438"/>
                    <a:pt x="581504" y="44107"/>
                  </a:cubicBezTo>
                  <a:cubicBezTo>
                    <a:pt x="928870" y="-72225"/>
                    <a:pt x="1311715" y="46481"/>
                    <a:pt x="1532335" y="338924"/>
                  </a:cubicBezTo>
                  <a:cubicBezTo>
                    <a:pt x="1752955" y="631367"/>
                    <a:pt x="1761971" y="1032092"/>
                    <a:pt x="1554726" y="1334161"/>
                  </a:cubicBezTo>
                  <a:cubicBezTo>
                    <a:pt x="1347481" y="1636230"/>
                    <a:pt x="970362" y="1772034"/>
                    <a:pt x="618116" y="1671442"/>
                  </a:cubicBezTo>
                  <a:lnTo>
                    <a:pt x="618697" y="1669409"/>
                  </a:lnTo>
                  <a:cubicBezTo>
                    <a:pt x="970070" y="1769751"/>
                    <a:pt x="1346254" y="1634284"/>
                    <a:pt x="1552985" y="1332964"/>
                  </a:cubicBezTo>
                  <a:cubicBezTo>
                    <a:pt x="1759716" y="1031644"/>
                    <a:pt x="1750723" y="631913"/>
                    <a:pt x="1530650" y="340195"/>
                  </a:cubicBezTo>
                  <a:cubicBezTo>
                    <a:pt x="1310577" y="48477"/>
                    <a:pt x="928681" y="-69934"/>
                    <a:pt x="582177" y="46109"/>
                  </a:cubicBezTo>
                  <a:cubicBezTo>
                    <a:pt x="235673" y="162152"/>
                    <a:pt x="2115" y="486677"/>
                    <a:pt x="2115" y="852097"/>
                  </a:cubicBezTo>
                  <a:lnTo>
                    <a:pt x="0" y="852098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空心弧 8"/>
            <p:cNvSpPr/>
            <p:nvPr/>
          </p:nvSpPr>
          <p:spPr>
            <a:xfrm rot="10800000">
              <a:off x="4215600" y="2148840"/>
              <a:ext cx="1918440" cy="1918440"/>
            </a:xfrm>
            <a:custGeom>
              <a:avLst/>
              <a:gdLst/>
              <a:ahLst/>
              <a:rect l="l" t="t" r="r" b="b"/>
              <a:pathLst>
                <a:path w="1918278" h="1918278">
                  <a:moveTo>
                    <a:pt x="0" y="959139"/>
                  </a:moveTo>
                  <a:cubicBezTo>
                    <a:pt x="0" y="546793"/>
                    <a:pt x="263551" y="180593"/>
                    <a:pt x="654553" y="49647"/>
                  </a:cubicBezTo>
                  <a:cubicBezTo>
                    <a:pt x="1045555" y="-81298"/>
                    <a:pt x="1476494" y="52319"/>
                    <a:pt x="1724828" y="381499"/>
                  </a:cubicBezTo>
                  <a:cubicBezTo>
                    <a:pt x="1973163" y="710679"/>
                    <a:pt x="1983311" y="1161743"/>
                    <a:pt x="1750032" y="1501758"/>
                  </a:cubicBezTo>
                  <a:cubicBezTo>
                    <a:pt x="1516753" y="1841773"/>
                    <a:pt x="1092260" y="1994637"/>
                    <a:pt x="695764" y="1881408"/>
                  </a:cubicBezTo>
                  <a:lnTo>
                    <a:pt x="696418" y="1879122"/>
                  </a:lnTo>
                  <a:cubicBezTo>
                    <a:pt x="1091930" y="1992069"/>
                    <a:pt x="1515370" y="1839585"/>
                    <a:pt x="1748071" y="1500413"/>
                  </a:cubicBezTo>
                  <a:cubicBezTo>
                    <a:pt x="1980771" y="1161241"/>
                    <a:pt x="1970648" y="711296"/>
                    <a:pt x="1722930" y="382933"/>
                  </a:cubicBezTo>
                  <a:cubicBezTo>
                    <a:pt x="1475211" y="54570"/>
                    <a:pt x="1045342" y="-78717"/>
                    <a:pt x="655309" y="51904"/>
                  </a:cubicBezTo>
                  <a:cubicBezTo>
                    <a:pt x="265277" y="182525"/>
                    <a:pt x="2379" y="547816"/>
                    <a:pt x="2379" y="959140"/>
                  </a:cubicBezTo>
                  <a:lnTo>
                    <a:pt x="0" y="959139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直接连接符 10"/>
            <p:cNvSpPr/>
            <p:nvPr/>
          </p:nvSpPr>
          <p:spPr>
            <a:xfrm>
              <a:off x="4650120" y="3108600"/>
              <a:ext cx="3057120" cy="0"/>
            </a:xfrm>
            <a:prstGeom prst="line">
              <a:avLst/>
            </a:prstGeom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文本框 6"/>
          <p:cNvSpPr/>
          <p:nvPr/>
        </p:nvSpPr>
        <p:spPr>
          <a:xfrm>
            <a:off x="4527720" y="2371680"/>
            <a:ext cx="50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极简通用黄色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12"/>
          <p:cNvSpPr/>
          <p:nvPr/>
        </p:nvSpPr>
        <p:spPr>
          <a:xfrm>
            <a:off x="6651720" y="31240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华文细黑"/>
                <a:ea typeface="华文细黑"/>
              </a:rPr>
              <a:t>您的称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13"/>
          <p:cNvSpPr/>
          <p:nvPr/>
        </p:nvSpPr>
        <p:spPr>
          <a:xfrm>
            <a:off x="6764400" y="3438360"/>
            <a:ext cx="961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F747-48F3-401C-AAD0-5F153CD3E64B}" type="datetime">
              <a:rPr b="0" lang="zh-CN" sz="1200" spc="-1" strike="noStrike">
                <a:solidFill>
                  <a:srgbClr val="0d0d0d"/>
                </a:solidFill>
                <a:latin typeface="华文细黑"/>
                <a:ea typeface="华文细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>
            <a:alpha val="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 形 3"/>
          <p:cNvSpPr/>
          <p:nvPr/>
        </p:nvSpPr>
        <p:spPr>
          <a:xfrm rot="5400000">
            <a:off x="-21600" y="21240"/>
            <a:ext cx="1160640" cy="111744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 形 4"/>
          <p:cNvSpPr/>
          <p:nvPr/>
        </p:nvSpPr>
        <p:spPr>
          <a:xfrm rot="16200000">
            <a:off x="11052720" y="5718600"/>
            <a:ext cx="1160640" cy="111780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1795320" y="2009520"/>
            <a:ext cx="2159280" cy="2158920"/>
            <a:chOff x="1795320" y="2009520"/>
            <a:chExt cx="2159280" cy="2158920"/>
          </a:xfrm>
        </p:grpSpPr>
        <p:sp>
          <p:nvSpPr>
            <p:cNvPr id="546" name="空心弧 5"/>
            <p:cNvSpPr/>
            <p:nvPr/>
          </p:nvSpPr>
          <p:spPr>
            <a:xfrm rot="10800000">
              <a:off x="1795320" y="2009520"/>
              <a:ext cx="2159280" cy="2158920"/>
            </a:xfrm>
            <a:custGeom>
              <a:avLst/>
              <a:gdLst/>
              <a:ahLst/>
              <a:rect l="l" t="t" r="r" b="b"/>
              <a:pathLst>
                <a:path w="2159002" h="2159002">
                  <a:moveTo>
                    <a:pt x="0" y="1079501"/>
                  </a:moveTo>
                  <a:cubicBezTo>
                    <a:pt x="0" y="615410"/>
                    <a:pt x="296624" y="203255"/>
                    <a:pt x="736693" y="55878"/>
                  </a:cubicBezTo>
                  <a:cubicBezTo>
                    <a:pt x="1176762" y="-91500"/>
                    <a:pt x="1661779" y="58886"/>
                    <a:pt x="1941277" y="429374"/>
                  </a:cubicBezTo>
                  <a:cubicBezTo>
                    <a:pt x="2220775" y="799862"/>
                    <a:pt x="2232197" y="1307530"/>
                    <a:pt x="1969644" y="1690214"/>
                  </a:cubicBezTo>
                  <a:cubicBezTo>
                    <a:pt x="1707091" y="2072897"/>
                    <a:pt x="1229328" y="2244944"/>
                    <a:pt x="783077" y="2117507"/>
                  </a:cubicBezTo>
                  <a:lnTo>
                    <a:pt x="783811" y="2114932"/>
                  </a:lnTo>
                  <a:cubicBezTo>
                    <a:pt x="1228956" y="2242053"/>
                    <a:pt x="1705534" y="2070433"/>
                    <a:pt x="1967436" y="1688699"/>
                  </a:cubicBezTo>
                  <a:cubicBezTo>
                    <a:pt x="2229338" y="1306965"/>
                    <a:pt x="2217945" y="800556"/>
                    <a:pt x="1939140" y="430986"/>
                  </a:cubicBezTo>
                  <a:cubicBezTo>
                    <a:pt x="1660335" y="61416"/>
                    <a:pt x="1176521" y="-88596"/>
                    <a:pt x="737544" y="58416"/>
                  </a:cubicBezTo>
                  <a:cubicBezTo>
                    <a:pt x="298567" y="205428"/>
                    <a:pt x="2678" y="616561"/>
                    <a:pt x="2678" y="1079501"/>
                  </a:cubicBezTo>
                  <a:lnTo>
                    <a:pt x="0" y="1079501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空心弧 7"/>
            <p:cNvSpPr/>
            <p:nvPr/>
          </p:nvSpPr>
          <p:spPr>
            <a:xfrm rot="10800000">
              <a:off x="2022120" y="2237040"/>
              <a:ext cx="1704600" cy="1704240"/>
            </a:xfrm>
            <a:custGeom>
              <a:avLst/>
              <a:gdLst/>
              <a:ahLst/>
              <a:rect l="l" t="t" r="r" b="b"/>
              <a:pathLst>
                <a:path w="1704196" h="1704196">
                  <a:moveTo>
                    <a:pt x="0" y="852098"/>
                  </a:moveTo>
                  <a:cubicBezTo>
                    <a:pt x="0" y="485770"/>
                    <a:pt x="234138" y="160438"/>
                    <a:pt x="581504" y="44107"/>
                  </a:cubicBezTo>
                  <a:cubicBezTo>
                    <a:pt x="928870" y="-72225"/>
                    <a:pt x="1311715" y="46481"/>
                    <a:pt x="1532335" y="338924"/>
                  </a:cubicBezTo>
                  <a:cubicBezTo>
                    <a:pt x="1752955" y="631367"/>
                    <a:pt x="1761971" y="1032092"/>
                    <a:pt x="1554726" y="1334161"/>
                  </a:cubicBezTo>
                  <a:cubicBezTo>
                    <a:pt x="1347481" y="1636230"/>
                    <a:pt x="970362" y="1772034"/>
                    <a:pt x="618116" y="1671442"/>
                  </a:cubicBezTo>
                  <a:lnTo>
                    <a:pt x="618697" y="1669409"/>
                  </a:lnTo>
                  <a:cubicBezTo>
                    <a:pt x="970070" y="1769751"/>
                    <a:pt x="1346254" y="1634284"/>
                    <a:pt x="1552985" y="1332964"/>
                  </a:cubicBezTo>
                  <a:cubicBezTo>
                    <a:pt x="1759716" y="1031644"/>
                    <a:pt x="1750723" y="631913"/>
                    <a:pt x="1530650" y="340195"/>
                  </a:cubicBezTo>
                  <a:cubicBezTo>
                    <a:pt x="1310577" y="48477"/>
                    <a:pt x="928681" y="-69934"/>
                    <a:pt x="582177" y="46109"/>
                  </a:cubicBezTo>
                  <a:cubicBezTo>
                    <a:pt x="235673" y="162152"/>
                    <a:pt x="2115" y="486677"/>
                    <a:pt x="2115" y="852097"/>
                  </a:cubicBezTo>
                  <a:lnTo>
                    <a:pt x="0" y="852098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空心弧 8"/>
            <p:cNvSpPr/>
            <p:nvPr/>
          </p:nvSpPr>
          <p:spPr>
            <a:xfrm rot="10800000">
              <a:off x="1915560" y="2129760"/>
              <a:ext cx="1918800" cy="1918440"/>
            </a:xfrm>
            <a:custGeom>
              <a:avLst/>
              <a:gdLst/>
              <a:ahLst/>
              <a:rect l="l" t="t" r="r" b="b"/>
              <a:pathLst>
                <a:path w="1918278" h="1918278">
                  <a:moveTo>
                    <a:pt x="0" y="959139"/>
                  </a:moveTo>
                  <a:cubicBezTo>
                    <a:pt x="0" y="546793"/>
                    <a:pt x="263551" y="180593"/>
                    <a:pt x="654553" y="49647"/>
                  </a:cubicBezTo>
                  <a:cubicBezTo>
                    <a:pt x="1045555" y="-81298"/>
                    <a:pt x="1476494" y="52319"/>
                    <a:pt x="1724828" y="381499"/>
                  </a:cubicBezTo>
                  <a:cubicBezTo>
                    <a:pt x="1973163" y="710679"/>
                    <a:pt x="1983311" y="1161743"/>
                    <a:pt x="1750032" y="1501758"/>
                  </a:cubicBezTo>
                  <a:cubicBezTo>
                    <a:pt x="1516753" y="1841773"/>
                    <a:pt x="1092260" y="1994637"/>
                    <a:pt x="695764" y="1881408"/>
                  </a:cubicBezTo>
                  <a:lnTo>
                    <a:pt x="696418" y="1879122"/>
                  </a:lnTo>
                  <a:cubicBezTo>
                    <a:pt x="1091930" y="1992069"/>
                    <a:pt x="1515370" y="1839585"/>
                    <a:pt x="1748071" y="1500413"/>
                  </a:cubicBezTo>
                  <a:cubicBezTo>
                    <a:pt x="1980771" y="1161241"/>
                    <a:pt x="1970648" y="711296"/>
                    <a:pt x="1722930" y="382933"/>
                  </a:cubicBezTo>
                  <a:cubicBezTo>
                    <a:pt x="1475211" y="54570"/>
                    <a:pt x="1045342" y="-78717"/>
                    <a:pt x="655309" y="51904"/>
                  </a:cubicBezTo>
                  <a:cubicBezTo>
                    <a:pt x="265277" y="182525"/>
                    <a:pt x="2379" y="547816"/>
                    <a:pt x="2379" y="959140"/>
                  </a:cubicBezTo>
                  <a:lnTo>
                    <a:pt x="0" y="959139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9" name="文本框 6"/>
          <p:cNvSpPr/>
          <p:nvPr/>
        </p:nvSpPr>
        <p:spPr>
          <a:xfrm>
            <a:off x="2303640" y="26290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空心弧 13"/>
          <p:cNvSpPr/>
          <p:nvPr/>
        </p:nvSpPr>
        <p:spPr>
          <a:xfrm rot="10800000">
            <a:off x="5018040" y="2557080"/>
            <a:ext cx="851040" cy="849240"/>
          </a:xfrm>
          <a:custGeom>
            <a:avLst/>
            <a:gdLst/>
            <a:ahLst/>
            <a:rect l="l" t="t" r="r" b="b"/>
            <a:pathLst>
              <a:path w="850085" h="850085">
                <a:moveTo>
                  <a:pt x="0" y="425043"/>
                </a:moveTo>
                <a:cubicBezTo>
                  <a:pt x="0" y="242312"/>
                  <a:pt x="116793" y="80030"/>
                  <a:pt x="290066" y="22001"/>
                </a:cubicBezTo>
                <a:cubicBezTo>
                  <a:pt x="463339" y="-36028"/>
                  <a:pt x="654309" y="23185"/>
                  <a:pt x="764359" y="169061"/>
                </a:cubicBezTo>
                <a:cubicBezTo>
                  <a:pt x="874409" y="314937"/>
                  <a:pt x="878906" y="514826"/>
                  <a:pt x="775528" y="665504"/>
                </a:cubicBezTo>
                <a:cubicBezTo>
                  <a:pt x="672150" y="816182"/>
                  <a:pt x="484036" y="883923"/>
                  <a:pt x="308329" y="833746"/>
                </a:cubicBezTo>
                <a:cubicBezTo>
                  <a:pt x="308425" y="833408"/>
                  <a:pt x="308522" y="833071"/>
                  <a:pt x="308618" y="832733"/>
                </a:cubicBezTo>
                <a:cubicBezTo>
                  <a:pt x="483889" y="882786"/>
                  <a:pt x="671537" y="815212"/>
                  <a:pt x="774658" y="664908"/>
                </a:cubicBezTo>
                <a:cubicBezTo>
                  <a:pt x="877779" y="514604"/>
                  <a:pt x="873293" y="315211"/>
                  <a:pt x="763517" y="169697"/>
                </a:cubicBezTo>
                <a:cubicBezTo>
                  <a:pt x="653741" y="24183"/>
                  <a:pt x="463244" y="-34883"/>
                  <a:pt x="290401" y="23002"/>
                </a:cubicBezTo>
                <a:cubicBezTo>
                  <a:pt x="117558" y="80886"/>
                  <a:pt x="1055" y="242765"/>
                  <a:pt x="1055" y="425043"/>
                </a:cubicBezTo>
                <a:lnTo>
                  <a:pt x="0" y="425043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空心弧 14"/>
          <p:cNvSpPr/>
          <p:nvPr/>
        </p:nvSpPr>
        <p:spPr>
          <a:xfrm rot="10800000">
            <a:off x="6680160" y="2557080"/>
            <a:ext cx="851040" cy="849240"/>
          </a:xfrm>
          <a:custGeom>
            <a:avLst/>
            <a:gdLst/>
            <a:ahLst/>
            <a:rect l="l" t="t" r="r" b="b"/>
            <a:pathLst>
              <a:path w="850085" h="850085">
                <a:moveTo>
                  <a:pt x="0" y="425043"/>
                </a:moveTo>
                <a:cubicBezTo>
                  <a:pt x="0" y="242312"/>
                  <a:pt x="116793" y="80030"/>
                  <a:pt x="290066" y="22001"/>
                </a:cubicBezTo>
                <a:cubicBezTo>
                  <a:pt x="463339" y="-36028"/>
                  <a:pt x="654309" y="23185"/>
                  <a:pt x="764359" y="169061"/>
                </a:cubicBezTo>
                <a:cubicBezTo>
                  <a:pt x="874409" y="314937"/>
                  <a:pt x="878906" y="514826"/>
                  <a:pt x="775528" y="665504"/>
                </a:cubicBezTo>
                <a:cubicBezTo>
                  <a:pt x="672150" y="816182"/>
                  <a:pt x="484036" y="883923"/>
                  <a:pt x="308329" y="833746"/>
                </a:cubicBezTo>
                <a:cubicBezTo>
                  <a:pt x="308425" y="833408"/>
                  <a:pt x="308522" y="833071"/>
                  <a:pt x="308618" y="832733"/>
                </a:cubicBezTo>
                <a:cubicBezTo>
                  <a:pt x="483889" y="882786"/>
                  <a:pt x="671537" y="815212"/>
                  <a:pt x="774658" y="664908"/>
                </a:cubicBezTo>
                <a:cubicBezTo>
                  <a:pt x="877779" y="514604"/>
                  <a:pt x="873293" y="315211"/>
                  <a:pt x="763517" y="169697"/>
                </a:cubicBezTo>
                <a:cubicBezTo>
                  <a:pt x="653741" y="24183"/>
                  <a:pt x="463244" y="-34883"/>
                  <a:pt x="290401" y="23002"/>
                </a:cubicBezTo>
                <a:cubicBezTo>
                  <a:pt x="117558" y="80886"/>
                  <a:pt x="1055" y="242765"/>
                  <a:pt x="1055" y="425043"/>
                </a:cubicBezTo>
                <a:lnTo>
                  <a:pt x="0" y="425043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空心弧 15"/>
          <p:cNvSpPr/>
          <p:nvPr/>
        </p:nvSpPr>
        <p:spPr>
          <a:xfrm rot="10800000">
            <a:off x="8341920" y="2557080"/>
            <a:ext cx="849240" cy="849240"/>
          </a:xfrm>
          <a:custGeom>
            <a:avLst/>
            <a:gdLst/>
            <a:ahLst/>
            <a:rect l="l" t="t" r="r" b="b"/>
            <a:pathLst>
              <a:path w="850085" h="850085">
                <a:moveTo>
                  <a:pt x="0" y="425043"/>
                </a:moveTo>
                <a:cubicBezTo>
                  <a:pt x="0" y="242312"/>
                  <a:pt x="116793" y="80030"/>
                  <a:pt x="290066" y="22001"/>
                </a:cubicBezTo>
                <a:cubicBezTo>
                  <a:pt x="463339" y="-36028"/>
                  <a:pt x="654309" y="23185"/>
                  <a:pt x="764359" y="169061"/>
                </a:cubicBezTo>
                <a:cubicBezTo>
                  <a:pt x="874409" y="314937"/>
                  <a:pt x="878906" y="514826"/>
                  <a:pt x="775528" y="665504"/>
                </a:cubicBezTo>
                <a:cubicBezTo>
                  <a:pt x="672150" y="816182"/>
                  <a:pt x="484036" y="883923"/>
                  <a:pt x="308329" y="833746"/>
                </a:cubicBezTo>
                <a:cubicBezTo>
                  <a:pt x="308425" y="833408"/>
                  <a:pt x="308522" y="833071"/>
                  <a:pt x="308618" y="832733"/>
                </a:cubicBezTo>
                <a:cubicBezTo>
                  <a:pt x="483889" y="882786"/>
                  <a:pt x="671537" y="815212"/>
                  <a:pt x="774658" y="664908"/>
                </a:cubicBezTo>
                <a:cubicBezTo>
                  <a:pt x="877779" y="514604"/>
                  <a:pt x="873293" y="315211"/>
                  <a:pt x="763517" y="169697"/>
                </a:cubicBezTo>
                <a:cubicBezTo>
                  <a:pt x="653741" y="24183"/>
                  <a:pt x="463244" y="-34883"/>
                  <a:pt x="290401" y="23002"/>
                </a:cubicBezTo>
                <a:cubicBezTo>
                  <a:pt x="117558" y="80886"/>
                  <a:pt x="1055" y="242765"/>
                  <a:pt x="1055" y="425043"/>
                </a:cubicBezTo>
                <a:lnTo>
                  <a:pt x="0" y="425043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"/>
          <p:cNvSpPr/>
          <p:nvPr/>
        </p:nvSpPr>
        <p:spPr>
          <a:xfrm>
            <a:off x="5241960" y="2629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6"/>
          <p:cNvSpPr/>
          <p:nvPr/>
        </p:nvSpPr>
        <p:spPr>
          <a:xfrm>
            <a:off x="6904080" y="26319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7"/>
          <p:cNvSpPr/>
          <p:nvPr/>
        </p:nvSpPr>
        <p:spPr>
          <a:xfrm>
            <a:off x="8566200" y="2629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文本框 18"/>
          <p:cNvSpPr/>
          <p:nvPr/>
        </p:nvSpPr>
        <p:spPr>
          <a:xfrm>
            <a:off x="4408560" y="36180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文本框 19"/>
          <p:cNvSpPr/>
          <p:nvPr/>
        </p:nvSpPr>
        <p:spPr>
          <a:xfrm>
            <a:off x="6070680" y="181116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0"/>
          <p:cNvSpPr/>
          <p:nvPr/>
        </p:nvSpPr>
        <p:spPr>
          <a:xfrm>
            <a:off x="7832880" y="36180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>
            <a:alpha val="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L 形 3"/>
          <p:cNvSpPr/>
          <p:nvPr/>
        </p:nvSpPr>
        <p:spPr>
          <a:xfrm rot="5400000">
            <a:off x="-21600" y="21240"/>
            <a:ext cx="1160640" cy="111744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 形 4"/>
          <p:cNvSpPr/>
          <p:nvPr/>
        </p:nvSpPr>
        <p:spPr>
          <a:xfrm rot="16200000">
            <a:off x="11052720" y="5718600"/>
            <a:ext cx="1160640" cy="111780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925200" y="1002960"/>
            <a:ext cx="1446120" cy="1444680"/>
            <a:chOff x="925200" y="1002960"/>
            <a:chExt cx="1446120" cy="1444680"/>
          </a:xfrm>
        </p:grpSpPr>
        <p:sp>
          <p:nvSpPr>
            <p:cNvPr id="562" name="空心弧 5"/>
            <p:cNvSpPr/>
            <p:nvPr/>
          </p:nvSpPr>
          <p:spPr>
            <a:xfrm rot="10800000">
              <a:off x="925200" y="1002600"/>
              <a:ext cx="1446120" cy="1444680"/>
            </a:xfrm>
            <a:custGeom>
              <a:avLst/>
              <a:gdLst/>
              <a:ahLst/>
              <a:rect l="l" t="t" r="r" b="b"/>
              <a:pathLst>
                <a:path w="2159002" h="2159002">
                  <a:moveTo>
                    <a:pt x="0" y="1079501"/>
                  </a:moveTo>
                  <a:cubicBezTo>
                    <a:pt x="0" y="615410"/>
                    <a:pt x="296624" y="203255"/>
                    <a:pt x="736693" y="55878"/>
                  </a:cubicBezTo>
                  <a:cubicBezTo>
                    <a:pt x="1176762" y="-91500"/>
                    <a:pt x="1661779" y="58886"/>
                    <a:pt x="1941277" y="429374"/>
                  </a:cubicBezTo>
                  <a:cubicBezTo>
                    <a:pt x="2220775" y="799862"/>
                    <a:pt x="2232197" y="1307530"/>
                    <a:pt x="1969644" y="1690214"/>
                  </a:cubicBezTo>
                  <a:cubicBezTo>
                    <a:pt x="1707091" y="2072897"/>
                    <a:pt x="1229328" y="2244944"/>
                    <a:pt x="783077" y="2117507"/>
                  </a:cubicBezTo>
                  <a:lnTo>
                    <a:pt x="783811" y="2114932"/>
                  </a:lnTo>
                  <a:cubicBezTo>
                    <a:pt x="1228956" y="2242053"/>
                    <a:pt x="1705534" y="2070433"/>
                    <a:pt x="1967436" y="1688699"/>
                  </a:cubicBezTo>
                  <a:cubicBezTo>
                    <a:pt x="2229338" y="1306965"/>
                    <a:pt x="2217945" y="800556"/>
                    <a:pt x="1939140" y="430986"/>
                  </a:cubicBezTo>
                  <a:cubicBezTo>
                    <a:pt x="1660335" y="61416"/>
                    <a:pt x="1176521" y="-88596"/>
                    <a:pt x="737544" y="58416"/>
                  </a:cubicBezTo>
                  <a:cubicBezTo>
                    <a:pt x="298567" y="205428"/>
                    <a:pt x="2678" y="616561"/>
                    <a:pt x="2678" y="1079501"/>
                  </a:cubicBezTo>
                  <a:lnTo>
                    <a:pt x="0" y="1079501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空心弧 7"/>
            <p:cNvSpPr/>
            <p:nvPr/>
          </p:nvSpPr>
          <p:spPr>
            <a:xfrm rot="10800000">
              <a:off x="1077480" y="1155240"/>
              <a:ext cx="1141560" cy="1140480"/>
            </a:xfrm>
            <a:custGeom>
              <a:avLst/>
              <a:gdLst/>
              <a:ahLst/>
              <a:rect l="l" t="t" r="r" b="b"/>
              <a:pathLst>
                <a:path w="1704196" h="1704196">
                  <a:moveTo>
                    <a:pt x="0" y="852098"/>
                  </a:moveTo>
                  <a:cubicBezTo>
                    <a:pt x="0" y="485770"/>
                    <a:pt x="234138" y="160438"/>
                    <a:pt x="581504" y="44107"/>
                  </a:cubicBezTo>
                  <a:cubicBezTo>
                    <a:pt x="928870" y="-72225"/>
                    <a:pt x="1311715" y="46481"/>
                    <a:pt x="1532335" y="338924"/>
                  </a:cubicBezTo>
                  <a:cubicBezTo>
                    <a:pt x="1752955" y="631367"/>
                    <a:pt x="1761971" y="1032092"/>
                    <a:pt x="1554726" y="1334161"/>
                  </a:cubicBezTo>
                  <a:cubicBezTo>
                    <a:pt x="1347481" y="1636230"/>
                    <a:pt x="970362" y="1772034"/>
                    <a:pt x="618116" y="1671442"/>
                  </a:cubicBezTo>
                  <a:lnTo>
                    <a:pt x="618697" y="1669409"/>
                  </a:lnTo>
                  <a:cubicBezTo>
                    <a:pt x="970070" y="1769751"/>
                    <a:pt x="1346254" y="1634284"/>
                    <a:pt x="1552985" y="1332964"/>
                  </a:cubicBezTo>
                  <a:cubicBezTo>
                    <a:pt x="1759716" y="1031644"/>
                    <a:pt x="1750723" y="631913"/>
                    <a:pt x="1530650" y="340195"/>
                  </a:cubicBezTo>
                  <a:cubicBezTo>
                    <a:pt x="1310577" y="48477"/>
                    <a:pt x="928681" y="-69934"/>
                    <a:pt x="582177" y="46109"/>
                  </a:cubicBezTo>
                  <a:cubicBezTo>
                    <a:pt x="235673" y="162152"/>
                    <a:pt x="2115" y="486677"/>
                    <a:pt x="2115" y="852097"/>
                  </a:cubicBezTo>
                  <a:lnTo>
                    <a:pt x="0" y="852098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空心弧 8"/>
            <p:cNvSpPr/>
            <p:nvPr/>
          </p:nvSpPr>
          <p:spPr>
            <a:xfrm rot="10800000">
              <a:off x="1005840" y="1083600"/>
              <a:ext cx="1285200" cy="1283760"/>
            </a:xfrm>
            <a:custGeom>
              <a:avLst/>
              <a:gdLst/>
              <a:ahLst/>
              <a:rect l="l" t="t" r="r" b="b"/>
              <a:pathLst>
                <a:path w="1918278" h="1918278">
                  <a:moveTo>
                    <a:pt x="0" y="959139"/>
                  </a:moveTo>
                  <a:cubicBezTo>
                    <a:pt x="0" y="546793"/>
                    <a:pt x="263551" y="180593"/>
                    <a:pt x="654553" y="49647"/>
                  </a:cubicBezTo>
                  <a:cubicBezTo>
                    <a:pt x="1045555" y="-81298"/>
                    <a:pt x="1476494" y="52319"/>
                    <a:pt x="1724828" y="381499"/>
                  </a:cubicBezTo>
                  <a:cubicBezTo>
                    <a:pt x="1973163" y="710679"/>
                    <a:pt x="1983311" y="1161743"/>
                    <a:pt x="1750032" y="1501758"/>
                  </a:cubicBezTo>
                  <a:cubicBezTo>
                    <a:pt x="1516753" y="1841773"/>
                    <a:pt x="1092260" y="1994637"/>
                    <a:pt x="695764" y="1881408"/>
                  </a:cubicBezTo>
                  <a:lnTo>
                    <a:pt x="696418" y="1879122"/>
                  </a:lnTo>
                  <a:cubicBezTo>
                    <a:pt x="1091930" y="1992069"/>
                    <a:pt x="1515370" y="1839585"/>
                    <a:pt x="1748071" y="1500413"/>
                  </a:cubicBezTo>
                  <a:cubicBezTo>
                    <a:pt x="1980771" y="1161241"/>
                    <a:pt x="1970648" y="711296"/>
                    <a:pt x="1722930" y="382933"/>
                  </a:cubicBezTo>
                  <a:cubicBezTo>
                    <a:pt x="1475211" y="54570"/>
                    <a:pt x="1045342" y="-78717"/>
                    <a:pt x="655309" y="51904"/>
                  </a:cubicBezTo>
                  <a:cubicBezTo>
                    <a:pt x="265277" y="182525"/>
                    <a:pt x="2379" y="547816"/>
                    <a:pt x="2379" y="959140"/>
                  </a:cubicBezTo>
                  <a:lnTo>
                    <a:pt x="0" y="959139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直接连接符 9"/>
          <p:cNvSpPr/>
          <p:nvPr/>
        </p:nvSpPr>
        <p:spPr>
          <a:xfrm>
            <a:off x="1641600" y="1700280"/>
            <a:ext cx="2665440" cy="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1631880" y="1281240"/>
            <a:ext cx="28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21"/>
          <p:cNvSpPr/>
          <p:nvPr/>
        </p:nvSpPr>
        <p:spPr>
          <a:xfrm flipH="1">
            <a:off x="1897200" y="2075040"/>
            <a:ext cx="1504800" cy="310644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直接连接符 23"/>
          <p:cNvSpPr/>
          <p:nvPr/>
        </p:nvSpPr>
        <p:spPr>
          <a:xfrm flipH="1">
            <a:off x="1926720" y="2093760"/>
            <a:ext cx="1357560" cy="331344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直接连接符 25"/>
          <p:cNvSpPr/>
          <p:nvPr/>
        </p:nvSpPr>
        <p:spPr>
          <a:xfrm>
            <a:off x="3048120" y="2328840"/>
            <a:ext cx="7589880" cy="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直接连接符 27"/>
          <p:cNvSpPr/>
          <p:nvPr/>
        </p:nvSpPr>
        <p:spPr>
          <a:xfrm>
            <a:off x="3057480" y="2257560"/>
            <a:ext cx="7689960" cy="3780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接连接符 29"/>
          <p:cNvSpPr/>
          <p:nvPr/>
        </p:nvSpPr>
        <p:spPr>
          <a:xfrm flipH="1">
            <a:off x="9242280" y="2093760"/>
            <a:ext cx="1238400" cy="331344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直接连接符 31"/>
          <p:cNvSpPr/>
          <p:nvPr/>
        </p:nvSpPr>
        <p:spPr>
          <a:xfrm flipH="1">
            <a:off x="9144000" y="2075040"/>
            <a:ext cx="1494000" cy="333216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接连接符 33"/>
          <p:cNvSpPr/>
          <p:nvPr/>
        </p:nvSpPr>
        <p:spPr>
          <a:xfrm>
            <a:off x="1557360" y="5024520"/>
            <a:ext cx="8254800" cy="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接连接符 35"/>
          <p:cNvSpPr/>
          <p:nvPr/>
        </p:nvSpPr>
        <p:spPr>
          <a:xfrm>
            <a:off x="1557360" y="5102280"/>
            <a:ext cx="8254800" cy="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46"/>
          <p:cNvSpPr/>
          <p:nvPr/>
        </p:nvSpPr>
        <p:spPr>
          <a:xfrm>
            <a:off x="3279600" y="2795760"/>
            <a:ext cx="6215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r>
              <a:rPr b="0" lang="en-US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WPS</a:t>
            </a:r>
            <a:r>
              <a:rPr b="0" lang="zh-CN" sz="1400" spc="-1" strike="noStrike">
                <a:solidFill>
                  <a:srgbClr val="bf9000"/>
                </a:solidFill>
                <a:latin typeface="华文细黑"/>
                <a:ea typeface="华文细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>
            <a:alpha val="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 形 3"/>
          <p:cNvSpPr/>
          <p:nvPr/>
        </p:nvSpPr>
        <p:spPr>
          <a:xfrm rot="5400000">
            <a:off x="-21600" y="21240"/>
            <a:ext cx="1160640" cy="111744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 形 4"/>
          <p:cNvSpPr/>
          <p:nvPr/>
        </p:nvSpPr>
        <p:spPr>
          <a:xfrm rot="16200000">
            <a:off x="11052720" y="5718600"/>
            <a:ext cx="1160640" cy="111780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925200" y="1002960"/>
            <a:ext cx="1446120" cy="1444680"/>
            <a:chOff x="925200" y="1002960"/>
            <a:chExt cx="1446120" cy="1444680"/>
          </a:xfrm>
        </p:grpSpPr>
        <p:sp>
          <p:nvSpPr>
            <p:cNvPr id="579" name="空心弧 5"/>
            <p:cNvSpPr/>
            <p:nvPr/>
          </p:nvSpPr>
          <p:spPr>
            <a:xfrm rot="10800000">
              <a:off x="925200" y="1002600"/>
              <a:ext cx="1446120" cy="1444680"/>
            </a:xfrm>
            <a:custGeom>
              <a:avLst/>
              <a:gdLst/>
              <a:ahLst/>
              <a:rect l="l" t="t" r="r" b="b"/>
              <a:pathLst>
                <a:path w="2159002" h="2159002">
                  <a:moveTo>
                    <a:pt x="0" y="1079501"/>
                  </a:moveTo>
                  <a:cubicBezTo>
                    <a:pt x="0" y="615410"/>
                    <a:pt x="296624" y="203255"/>
                    <a:pt x="736693" y="55878"/>
                  </a:cubicBezTo>
                  <a:cubicBezTo>
                    <a:pt x="1176762" y="-91500"/>
                    <a:pt x="1661779" y="58886"/>
                    <a:pt x="1941277" y="429374"/>
                  </a:cubicBezTo>
                  <a:cubicBezTo>
                    <a:pt x="2220775" y="799862"/>
                    <a:pt x="2232197" y="1307530"/>
                    <a:pt x="1969644" y="1690214"/>
                  </a:cubicBezTo>
                  <a:cubicBezTo>
                    <a:pt x="1707091" y="2072897"/>
                    <a:pt x="1229328" y="2244944"/>
                    <a:pt x="783077" y="2117507"/>
                  </a:cubicBezTo>
                  <a:lnTo>
                    <a:pt x="783811" y="2114932"/>
                  </a:lnTo>
                  <a:cubicBezTo>
                    <a:pt x="1228956" y="2242053"/>
                    <a:pt x="1705534" y="2070433"/>
                    <a:pt x="1967436" y="1688699"/>
                  </a:cubicBezTo>
                  <a:cubicBezTo>
                    <a:pt x="2229338" y="1306965"/>
                    <a:pt x="2217945" y="800556"/>
                    <a:pt x="1939140" y="430986"/>
                  </a:cubicBezTo>
                  <a:cubicBezTo>
                    <a:pt x="1660335" y="61416"/>
                    <a:pt x="1176521" y="-88596"/>
                    <a:pt x="737544" y="58416"/>
                  </a:cubicBezTo>
                  <a:cubicBezTo>
                    <a:pt x="298567" y="205428"/>
                    <a:pt x="2678" y="616561"/>
                    <a:pt x="2678" y="1079501"/>
                  </a:cubicBezTo>
                  <a:lnTo>
                    <a:pt x="0" y="1079501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空心弧 7"/>
            <p:cNvSpPr/>
            <p:nvPr/>
          </p:nvSpPr>
          <p:spPr>
            <a:xfrm rot="10800000">
              <a:off x="1077480" y="1155240"/>
              <a:ext cx="1141560" cy="1140480"/>
            </a:xfrm>
            <a:custGeom>
              <a:avLst/>
              <a:gdLst/>
              <a:ahLst/>
              <a:rect l="l" t="t" r="r" b="b"/>
              <a:pathLst>
                <a:path w="1704196" h="1704196">
                  <a:moveTo>
                    <a:pt x="0" y="852098"/>
                  </a:moveTo>
                  <a:cubicBezTo>
                    <a:pt x="0" y="485770"/>
                    <a:pt x="234138" y="160438"/>
                    <a:pt x="581504" y="44107"/>
                  </a:cubicBezTo>
                  <a:cubicBezTo>
                    <a:pt x="928870" y="-72225"/>
                    <a:pt x="1311715" y="46481"/>
                    <a:pt x="1532335" y="338924"/>
                  </a:cubicBezTo>
                  <a:cubicBezTo>
                    <a:pt x="1752955" y="631367"/>
                    <a:pt x="1761971" y="1032092"/>
                    <a:pt x="1554726" y="1334161"/>
                  </a:cubicBezTo>
                  <a:cubicBezTo>
                    <a:pt x="1347481" y="1636230"/>
                    <a:pt x="970362" y="1772034"/>
                    <a:pt x="618116" y="1671442"/>
                  </a:cubicBezTo>
                  <a:lnTo>
                    <a:pt x="618697" y="1669409"/>
                  </a:lnTo>
                  <a:cubicBezTo>
                    <a:pt x="970070" y="1769751"/>
                    <a:pt x="1346254" y="1634284"/>
                    <a:pt x="1552985" y="1332964"/>
                  </a:cubicBezTo>
                  <a:cubicBezTo>
                    <a:pt x="1759716" y="1031644"/>
                    <a:pt x="1750723" y="631913"/>
                    <a:pt x="1530650" y="340195"/>
                  </a:cubicBezTo>
                  <a:cubicBezTo>
                    <a:pt x="1310577" y="48477"/>
                    <a:pt x="928681" y="-69934"/>
                    <a:pt x="582177" y="46109"/>
                  </a:cubicBezTo>
                  <a:cubicBezTo>
                    <a:pt x="235673" y="162152"/>
                    <a:pt x="2115" y="486677"/>
                    <a:pt x="2115" y="852097"/>
                  </a:cubicBezTo>
                  <a:lnTo>
                    <a:pt x="0" y="852098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空心弧 8"/>
            <p:cNvSpPr/>
            <p:nvPr/>
          </p:nvSpPr>
          <p:spPr>
            <a:xfrm rot="10800000">
              <a:off x="1005840" y="1083600"/>
              <a:ext cx="1285200" cy="1283760"/>
            </a:xfrm>
            <a:custGeom>
              <a:avLst/>
              <a:gdLst/>
              <a:ahLst/>
              <a:rect l="l" t="t" r="r" b="b"/>
              <a:pathLst>
                <a:path w="1918278" h="1918278">
                  <a:moveTo>
                    <a:pt x="0" y="959139"/>
                  </a:moveTo>
                  <a:cubicBezTo>
                    <a:pt x="0" y="546793"/>
                    <a:pt x="263551" y="180593"/>
                    <a:pt x="654553" y="49647"/>
                  </a:cubicBezTo>
                  <a:cubicBezTo>
                    <a:pt x="1045555" y="-81298"/>
                    <a:pt x="1476494" y="52319"/>
                    <a:pt x="1724828" y="381499"/>
                  </a:cubicBezTo>
                  <a:cubicBezTo>
                    <a:pt x="1973163" y="710679"/>
                    <a:pt x="1983311" y="1161743"/>
                    <a:pt x="1750032" y="1501758"/>
                  </a:cubicBezTo>
                  <a:cubicBezTo>
                    <a:pt x="1516753" y="1841773"/>
                    <a:pt x="1092260" y="1994637"/>
                    <a:pt x="695764" y="1881408"/>
                  </a:cubicBezTo>
                  <a:lnTo>
                    <a:pt x="696418" y="1879122"/>
                  </a:lnTo>
                  <a:cubicBezTo>
                    <a:pt x="1091930" y="1992069"/>
                    <a:pt x="1515370" y="1839585"/>
                    <a:pt x="1748071" y="1500413"/>
                  </a:cubicBezTo>
                  <a:cubicBezTo>
                    <a:pt x="1980771" y="1161241"/>
                    <a:pt x="1970648" y="711296"/>
                    <a:pt x="1722930" y="382933"/>
                  </a:cubicBezTo>
                  <a:cubicBezTo>
                    <a:pt x="1475211" y="54570"/>
                    <a:pt x="1045342" y="-78717"/>
                    <a:pt x="655309" y="51904"/>
                  </a:cubicBezTo>
                  <a:cubicBezTo>
                    <a:pt x="265277" y="182525"/>
                    <a:pt x="2379" y="547816"/>
                    <a:pt x="2379" y="959140"/>
                  </a:cubicBezTo>
                  <a:lnTo>
                    <a:pt x="0" y="959139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直接连接符 9"/>
          <p:cNvSpPr/>
          <p:nvPr/>
        </p:nvSpPr>
        <p:spPr>
          <a:xfrm>
            <a:off x="1641600" y="1700280"/>
            <a:ext cx="2665440" cy="0"/>
          </a:xfrm>
          <a:prstGeom prst="line">
            <a:avLst/>
          </a:prstGeom>
          <a:ln w="6480">
            <a:solidFill>
              <a:srgbClr val="bf9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10"/>
          <p:cNvSpPr/>
          <p:nvPr/>
        </p:nvSpPr>
        <p:spPr>
          <a:xfrm>
            <a:off x="1631880" y="1281240"/>
            <a:ext cx="28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是个可长可短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空心弧 18"/>
          <p:cNvSpPr/>
          <p:nvPr/>
        </p:nvSpPr>
        <p:spPr>
          <a:xfrm rot="16200000">
            <a:off x="2498760" y="2690280"/>
            <a:ext cx="1600200" cy="1600200"/>
          </a:xfrm>
          <a:custGeom>
            <a:avLst/>
            <a:gdLst/>
            <a:ahLst/>
            <a:rect l="l" t="t" r="r" b="b"/>
            <a:pathLst>
              <a:path w="1600201" h="1600201">
                <a:moveTo>
                  <a:pt x="556964" y="1562364"/>
                </a:moveTo>
                <a:cubicBezTo>
                  <a:pt x="209271" y="1451462"/>
                  <a:pt x="-19315" y="1119333"/>
                  <a:pt x="1274" y="754962"/>
                </a:cubicBezTo>
                <a:cubicBezTo>
                  <a:pt x="21863" y="390591"/>
                  <a:pt x="286408" y="86327"/>
                  <a:pt x="644382" y="15298"/>
                </a:cubicBezTo>
                <a:cubicBezTo>
                  <a:pt x="1002355" y="-55731"/>
                  <a:pt x="1363029" y="124478"/>
                  <a:pt x="1521177" y="453385"/>
                </a:cubicBezTo>
                <a:cubicBezTo>
                  <a:pt x="1679325" y="782291"/>
                  <a:pt x="1594865" y="1176534"/>
                  <a:pt x="1315855" y="1411786"/>
                </a:cubicBezTo>
                <a:lnTo>
                  <a:pt x="1315854" y="1411786"/>
                </a:lnTo>
                <a:cubicBezTo>
                  <a:pt x="1594864" y="1176534"/>
                  <a:pt x="1679324" y="782291"/>
                  <a:pt x="1521176" y="453385"/>
                </a:cubicBezTo>
                <a:cubicBezTo>
                  <a:pt x="1363028" y="124479"/>
                  <a:pt x="1002354" y="-55730"/>
                  <a:pt x="644381" y="15298"/>
                </a:cubicBezTo>
                <a:cubicBezTo>
                  <a:pt x="286408" y="86327"/>
                  <a:pt x="21862" y="390591"/>
                  <a:pt x="1273" y="754962"/>
                </a:cubicBezTo>
                <a:cubicBezTo>
                  <a:pt x="-19316" y="1119333"/>
                  <a:pt x="209270" y="1451461"/>
                  <a:pt x="556963" y="1562364"/>
                </a:cubicBezTo>
                <a:lnTo>
                  <a:pt x="556964" y="1562364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空心弧 19"/>
          <p:cNvSpPr/>
          <p:nvPr/>
        </p:nvSpPr>
        <p:spPr>
          <a:xfrm rot="16200000">
            <a:off x="5361120" y="2690280"/>
            <a:ext cx="1600200" cy="1600200"/>
          </a:xfrm>
          <a:custGeom>
            <a:avLst/>
            <a:gdLst/>
            <a:ahLst/>
            <a:rect l="l" t="t" r="r" b="b"/>
            <a:pathLst>
              <a:path w="1600201" h="1600201">
                <a:moveTo>
                  <a:pt x="556964" y="1562364"/>
                </a:moveTo>
                <a:cubicBezTo>
                  <a:pt x="147848" y="1431870"/>
                  <a:pt x="-85298" y="1001684"/>
                  <a:pt x="28715" y="587672"/>
                </a:cubicBezTo>
                <a:cubicBezTo>
                  <a:pt x="142728" y="173660"/>
                  <a:pt x="563236" y="-76519"/>
                  <a:pt x="981480" y="20829"/>
                </a:cubicBezTo>
                <a:cubicBezTo>
                  <a:pt x="1399724" y="118177"/>
                  <a:pt x="1666536" y="528334"/>
                  <a:pt x="1586008" y="950139"/>
                </a:cubicBezTo>
                <a:lnTo>
                  <a:pt x="1586007" y="950140"/>
                </a:lnTo>
                <a:cubicBezTo>
                  <a:pt x="1666535" y="528334"/>
                  <a:pt x="1399723" y="118178"/>
                  <a:pt x="981479" y="20830"/>
                </a:cubicBezTo>
                <a:cubicBezTo>
                  <a:pt x="563235" y="-76518"/>
                  <a:pt x="142727" y="173661"/>
                  <a:pt x="28714" y="587673"/>
                </a:cubicBezTo>
                <a:cubicBezTo>
                  <a:pt x="-85299" y="1001685"/>
                  <a:pt x="147847" y="1431871"/>
                  <a:pt x="556963" y="1562365"/>
                </a:cubicBezTo>
                <a:lnTo>
                  <a:pt x="556964" y="1562364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空心弧 20"/>
          <p:cNvSpPr/>
          <p:nvPr/>
        </p:nvSpPr>
        <p:spPr>
          <a:xfrm rot="16200000">
            <a:off x="8223120" y="2690280"/>
            <a:ext cx="1600200" cy="1600200"/>
          </a:xfrm>
          <a:custGeom>
            <a:avLst/>
            <a:gdLst/>
            <a:ahLst/>
            <a:rect l="l" t="t" r="r" b="b"/>
            <a:pathLst>
              <a:path w="1600201" h="1600201">
                <a:moveTo>
                  <a:pt x="556964" y="1562364"/>
                </a:moveTo>
                <a:cubicBezTo>
                  <a:pt x="232510" y="1458874"/>
                  <a:pt x="9123" y="1161344"/>
                  <a:pt x="270" y="820899"/>
                </a:cubicBezTo>
                <a:cubicBezTo>
                  <a:pt x="-8583" y="480455"/>
                  <a:pt x="199038" y="171716"/>
                  <a:pt x="517675" y="51503"/>
                </a:cubicBezTo>
                <a:cubicBezTo>
                  <a:pt x="836312" y="-68710"/>
                  <a:pt x="1196125" y="25950"/>
                  <a:pt x="1414352" y="287404"/>
                </a:cubicBezTo>
                <a:cubicBezTo>
                  <a:pt x="1632579" y="548857"/>
                  <a:pt x="1661388" y="919797"/>
                  <a:pt x="1486146" y="1211809"/>
                </a:cubicBezTo>
                <a:lnTo>
                  <a:pt x="1486145" y="1211809"/>
                </a:lnTo>
                <a:cubicBezTo>
                  <a:pt x="1661387" y="919797"/>
                  <a:pt x="1632578" y="548858"/>
                  <a:pt x="1414351" y="287404"/>
                </a:cubicBezTo>
                <a:cubicBezTo>
                  <a:pt x="1196124" y="25951"/>
                  <a:pt x="836311" y="-68710"/>
                  <a:pt x="517674" y="51504"/>
                </a:cubicBezTo>
                <a:cubicBezTo>
                  <a:pt x="199037" y="171717"/>
                  <a:pt x="-8584" y="480456"/>
                  <a:pt x="269" y="820900"/>
                </a:cubicBezTo>
                <a:cubicBezTo>
                  <a:pt x="9122" y="1161344"/>
                  <a:pt x="232509" y="1458875"/>
                  <a:pt x="556964" y="1562365"/>
                </a:cubicBezTo>
                <a:lnTo>
                  <a:pt x="556964" y="1562364"/>
                </a:lnTo>
                <a:close/>
              </a:path>
            </a:pathLst>
          </a:custGeom>
          <a:noFill/>
          <a:ln w="12600">
            <a:solidFill>
              <a:srgbClr val="bf9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22"/>
          <p:cNvSpPr/>
          <p:nvPr/>
        </p:nvSpPr>
        <p:spPr>
          <a:xfrm>
            <a:off x="2727360" y="31669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9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24"/>
          <p:cNvSpPr/>
          <p:nvPr/>
        </p:nvSpPr>
        <p:spPr>
          <a:xfrm>
            <a:off x="5632560" y="31370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7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26"/>
          <p:cNvSpPr/>
          <p:nvPr/>
        </p:nvSpPr>
        <p:spPr>
          <a:xfrm>
            <a:off x="8494560" y="3166920"/>
            <a:ext cx="12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8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8"/>
          <p:cNvSpPr/>
          <p:nvPr/>
        </p:nvSpPr>
        <p:spPr>
          <a:xfrm>
            <a:off x="2811600" y="449100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f9000"/>
                </a:solidFill>
                <a:latin typeface="华文细黑"/>
                <a:ea typeface="华文细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34"/>
          <p:cNvSpPr/>
          <p:nvPr/>
        </p:nvSpPr>
        <p:spPr>
          <a:xfrm>
            <a:off x="5632560" y="44910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f9000"/>
                </a:solidFill>
                <a:latin typeface="华文细黑"/>
                <a:ea typeface="华文细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36"/>
          <p:cNvSpPr/>
          <p:nvPr/>
        </p:nvSpPr>
        <p:spPr>
          <a:xfrm>
            <a:off x="8494560" y="44910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f9000"/>
                </a:solidFill>
                <a:latin typeface="华文细黑"/>
                <a:ea typeface="华文细黑"/>
              </a:rPr>
              <a:t>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>
            <a:alpha val="3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 形 3"/>
          <p:cNvSpPr/>
          <p:nvPr/>
        </p:nvSpPr>
        <p:spPr>
          <a:xfrm rot="5400000">
            <a:off x="-21600" y="21240"/>
            <a:ext cx="1160640" cy="111744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L 形 4"/>
          <p:cNvSpPr/>
          <p:nvPr/>
        </p:nvSpPr>
        <p:spPr>
          <a:xfrm rot="16200000">
            <a:off x="11052720" y="5718600"/>
            <a:ext cx="1160640" cy="1117800"/>
          </a:xfrm>
          <a:custGeom>
            <a:avLst/>
            <a:gdLst/>
            <a:ahLst/>
            <a:rect l="l" t="t" r="r" b="b"/>
            <a:pathLst>
              <a:path w="1159934" h="1117600">
                <a:moveTo>
                  <a:pt x="0" y="0"/>
                </a:moveTo>
                <a:lnTo>
                  <a:pt x="558800" y="0"/>
                </a:lnTo>
                <a:lnTo>
                  <a:pt x="558800" y="558800"/>
                </a:lnTo>
                <a:lnTo>
                  <a:pt x="1159934" y="558800"/>
                </a:lnTo>
                <a:lnTo>
                  <a:pt x="1159934" y="1117600"/>
                </a:lnTo>
                <a:lnTo>
                  <a:pt x="0" y="1117600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4095720" y="2028600"/>
            <a:ext cx="3611520" cy="2158920"/>
            <a:chOff x="4095720" y="2028600"/>
            <a:chExt cx="3611520" cy="2158920"/>
          </a:xfrm>
        </p:grpSpPr>
        <p:sp>
          <p:nvSpPr>
            <p:cNvPr id="596" name="空心弧 5"/>
            <p:cNvSpPr/>
            <p:nvPr/>
          </p:nvSpPr>
          <p:spPr>
            <a:xfrm rot="10800000">
              <a:off x="4095720" y="2028600"/>
              <a:ext cx="2159280" cy="2158920"/>
            </a:xfrm>
            <a:custGeom>
              <a:avLst/>
              <a:gdLst/>
              <a:ahLst/>
              <a:rect l="l" t="t" r="r" b="b"/>
              <a:pathLst>
                <a:path w="2159002" h="2159002">
                  <a:moveTo>
                    <a:pt x="0" y="1079501"/>
                  </a:moveTo>
                  <a:cubicBezTo>
                    <a:pt x="0" y="615410"/>
                    <a:pt x="296624" y="203255"/>
                    <a:pt x="736693" y="55878"/>
                  </a:cubicBezTo>
                  <a:cubicBezTo>
                    <a:pt x="1176762" y="-91500"/>
                    <a:pt x="1661779" y="58886"/>
                    <a:pt x="1941277" y="429374"/>
                  </a:cubicBezTo>
                  <a:cubicBezTo>
                    <a:pt x="2220775" y="799862"/>
                    <a:pt x="2232197" y="1307530"/>
                    <a:pt x="1969644" y="1690214"/>
                  </a:cubicBezTo>
                  <a:cubicBezTo>
                    <a:pt x="1707091" y="2072897"/>
                    <a:pt x="1229328" y="2244944"/>
                    <a:pt x="783077" y="2117507"/>
                  </a:cubicBezTo>
                  <a:lnTo>
                    <a:pt x="783811" y="2114932"/>
                  </a:lnTo>
                  <a:cubicBezTo>
                    <a:pt x="1228956" y="2242053"/>
                    <a:pt x="1705534" y="2070433"/>
                    <a:pt x="1967436" y="1688699"/>
                  </a:cubicBezTo>
                  <a:cubicBezTo>
                    <a:pt x="2229338" y="1306965"/>
                    <a:pt x="2217945" y="800556"/>
                    <a:pt x="1939140" y="430986"/>
                  </a:cubicBezTo>
                  <a:cubicBezTo>
                    <a:pt x="1660335" y="61416"/>
                    <a:pt x="1176521" y="-88596"/>
                    <a:pt x="737544" y="58416"/>
                  </a:cubicBezTo>
                  <a:cubicBezTo>
                    <a:pt x="298567" y="205428"/>
                    <a:pt x="2678" y="616561"/>
                    <a:pt x="2678" y="1079501"/>
                  </a:cubicBezTo>
                  <a:lnTo>
                    <a:pt x="0" y="1079501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空心弧 7"/>
            <p:cNvSpPr/>
            <p:nvPr/>
          </p:nvSpPr>
          <p:spPr>
            <a:xfrm rot="10800000">
              <a:off x="4322880" y="2256120"/>
              <a:ext cx="1704240" cy="1704240"/>
            </a:xfrm>
            <a:custGeom>
              <a:avLst/>
              <a:gdLst/>
              <a:ahLst/>
              <a:rect l="l" t="t" r="r" b="b"/>
              <a:pathLst>
                <a:path w="1704196" h="1704196">
                  <a:moveTo>
                    <a:pt x="0" y="852098"/>
                  </a:moveTo>
                  <a:cubicBezTo>
                    <a:pt x="0" y="485770"/>
                    <a:pt x="234138" y="160438"/>
                    <a:pt x="581504" y="44107"/>
                  </a:cubicBezTo>
                  <a:cubicBezTo>
                    <a:pt x="928870" y="-72225"/>
                    <a:pt x="1311715" y="46481"/>
                    <a:pt x="1532335" y="338924"/>
                  </a:cubicBezTo>
                  <a:cubicBezTo>
                    <a:pt x="1752955" y="631367"/>
                    <a:pt x="1761971" y="1032092"/>
                    <a:pt x="1554726" y="1334161"/>
                  </a:cubicBezTo>
                  <a:cubicBezTo>
                    <a:pt x="1347481" y="1636230"/>
                    <a:pt x="970362" y="1772034"/>
                    <a:pt x="618116" y="1671442"/>
                  </a:cubicBezTo>
                  <a:lnTo>
                    <a:pt x="618697" y="1669409"/>
                  </a:lnTo>
                  <a:cubicBezTo>
                    <a:pt x="970070" y="1769751"/>
                    <a:pt x="1346254" y="1634284"/>
                    <a:pt x="1552985" y="1332964"/>
                  </a:cubicBezTo>
                  <a:cubicBezTo>
                    <a:pt x="1759716" y="1031644"/>
                    <a:pt x="1750723" y="631913"/>
                    <a:pt x="1530650" y="340195"/>
                  </a:cubicBezTo>
                  <a:cubicBezTo>
                    <a:pt x="1310577" y="48477"/>
                    <a:pt x="928681" y="-69934"/>
                    <a:pt x="582177" y="46109"/>
                  </a:cubicBezTo>
                  <a:cubicBezTo>
                    <a:pt x="235673" y="162152"/>
                    <a:pt x="2115" y="486677"/>
                    <a:pt x="2115" y="852097"/>
                  </a:cubicBezTo>
                  <a:lnTo>
                    <a:pt x="0" y="852098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空心弧 8"/>
            <p:cNvSpPr/>
            <p:nvPr/>
          </p:nvSpPr>
          <p:spPr>
            <a:xfrm rot="10800000">
              <a:off x="4215600" y="2148840"/>
              <a:ext cx="1918440" cy="1918440"/>
            </a:xfrm>
            <a:custGeom>
              <a:avLst/>
              <a:gdLst/>
              <a:ahLst/>
              <a:rect l="l" t="t" r="r" b="b"/>
              <a:pathLst>
                <a:path w="1918278" h="1918278">
                  <a:moveTo>
                    <a:pt x="0" y="959139"/>
                  </a:moveTo>
                  <a:cubicBezTo>
                    <a:pt x="0" y="546793"/>
                    <a:pt x="263551" y="180593"/>
                    <a:pt x="654553" y="49647"/>
                  </a:cubicBezTo>
                  <a:cubicBezTo>
                    <a:pt x="1045555" y="-81298"/>
                    <a:pt x="1476494" y="52319"/>
                    <a:pt x="1724828" y="381499"/>
                  </a:cubicBezTo>
                  <a:cubicBezTo>
                    <a:pt x="1973163" y="710679"/>
                    <a:pt x="1983311" y="1161743"/>
                    <a:pt x="1750032" y="1501758"/>
                  </a:cubicBezTo>
                  <a:cubicBezTo>
                    <a:pt x="1516753" y="1841773"/>
                    <a:pt x="1092260" y="1994637"/>
                    <a:pt x="695764" y="1881408"/>
                  </a:cubicBezTo>
                  <a:lnTo>
                    <a:pt x="696418" y="1879122"/>
                  </a:lnTo>
                  <a:cubicBezTo>
                    <a:pt x="1091930" y="1992069"/>
                    <a:pt x="1515370" y="1839585"/>
                    <a:pt x="1748071" y="1500413"/>
                  </a:cubicBezTo>
                  <a:cubicBezTo>
                    <a:pt x="1980771" y="1161241"/>
                    <a:pt x="1970648" y="711296"/>
                    <a:pt x="1722930" y="382933"/>
                  </a:cubicBezTo>
                  <a:cubicBezTo>
                    <a:pt x="1475211" y="54570"/>
                    <a:pt x="1045342" y="-78717"/>
                    <a:pt x="655309" y="51904"/>
                  </a:cubicBezTo>
                  <a:cubicBezTo>
                    <a:pt x="265277" y="182525"/>
                    <a:pt x="2379" y="547816"/>
                    <a:pt x="2379" y="959140"/>
                  </a:cubicBezTo>
                  <a:lnTo>
                    <a:pt x="0" y="959139"/>
                  </a:lnTo>
                  <a:close/>
                </a:path>
              </a:pathLst>
            </a:custGeom>
            <a:noFill/>
            <a:ln w="12600">
              <a:solidFill>
                <a:srgbClr val="bf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直接连接符 10"/>
            <p:cNvSpPr/>
            <p:nvPr/>
          </p:nvSpPr>
          <p:spPr>
            <a:xfrm>
              <a:off x="6026400" y="3108600"/>
              <a:ext cx="1680840" cy="0"/>
            </a:xfrm>
            <a:prstGeom prst="line">
              <a:avLst/>
            </a:prstGeom>
            <a:ln w="12600">
              <a:solidFill>
                <a:srgbClr val="bf9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文本框 6"/>
          <p:cNvSpPr/>
          <p:nvPr/>
        </p:nvSpPr>
        <p:spPr>
          <a:xfrm>
            <a:off x="5958000" y="248112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13"/>
          <p:cNvSpPr/>
          <p:nvPr/>
        </p:nvSpPr>
        <p:spPr>
          <a:xfrm>
            <a:off x="6773760" y="3457440"/>
            <a:ext cx="962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B258-2E1B-406C-82F1-F48FE3E01A80}" type="datetime">
              <a:rPr b="0" lang="zh-CN" sz="1200" spc="-1" strike="noStrike">
                <a:solidFill>
                  <a:srgbClr val="0d0d0d"/>
                </a:solidFill>
                <a:latin typeface="华文细黑"/>
                <a:ea typeface="华文细黑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4543560" y="2746440"/>
            <a:ext cx="11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12"/>
          <p:cNvSpPr/>
          <p:nvPr/>
        </p:nvSpPr>
        <p:spPr>
          <a:xfrm>
            <a:off x="6651720" y="31240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华文细黑"/>
                <a:ea typeface="华文细黑"/>
              </a:rPr>
              <a:t>您的称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05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7:40:46Z</dcterms:created>
  <dc:creator>D13001</dc:creator>
  <dc:description/>
  <dc:language>en-US</dc:language>
  <cp:lastModifiedBy>a</cp:lastModifiedBy>
  <dcterms:modified xsi:type="dcterms:W3CDTF">2015-01-14T17:24:5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