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BCB-EB1E-499A-847C-4D85CA2B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794-E050-4807-9BDB-9A93312A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19E-E252-45DD-9BA6-AF4F1DC3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93B-C9A7-4E60-A145-C727A628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B658-AC47-486F-AFF6-0954EBA0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C0AC-253F-4585-9D3D-F73EAE4A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FD02-0CE2-49B4-8304-7BFBF378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B88D-99D8-423E-9B6F-7083C23F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4589-45D0-4EB3-87AF-B2209167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00F9-550D-4C68-9095-0B86B9B4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E736-B6F5-40B9-8F33-F075CD9C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285-FD45-4B5F-9F2E-DC22FA01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1162-992F-43E4-BBF8-E3E3758D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6667-3039-45EF-B333-54E12304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02F4-5B4C-40F7-93B2-4FD6FEBE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CDB4-D243-4A9A-9647-08773099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7924-2536-4E0E-9069-42C043E6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69F-D3C9-45DD-BE53-F87BEF66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843-C5AE-47E4-A19A-1DA18615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86E-ACCC-47E4-B20B-EC2401EC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37F-2EE0-48D5-A46F-4BA60ADF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044-3C6F-4DB4-9AED-FF20980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357-2A3A-44FE-B7CD-6DF75A1E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034-679A-4B7A-AE1A-CC39C7EE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C6BF-1865-46E5-9FCB-241F77472B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17ED-E376-44AB-99C2-C5783B87E8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BB0D-5832-4014-896C-D8E17EC528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1字体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 rot="20940000">
            <a:off x="319680" y="740880"/>
            <a:ext cx="12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Wr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 rot="660000">
            <a:off x="4252680" y="620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  <a:ea typeface="黑体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 rot="21420000">
            <a:off x="6135120" y="5493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spread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w_06"/>
          <p:cNvPicPr/>
          <p:nvPr/>
        </p:nvPicPr>
        <p:blipFill>
          <a:blip r:embed="rId2"/>
          <a:stretch/>
        </p:blipFill>
        <p:spPr>
          <a:xfrm rot="2100000">
            <a:off x="6948000" y="5445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1508040" y="2924280"/>
            <a:ext cx="341136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最适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中文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创作的先进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文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工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强大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图文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排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丰富的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在线资源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让您的文档制作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专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轻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044720" y="836640"/>
            <a:ext cx="5875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让办公更轻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一款开放、高效、安全，与微软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ffi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度兼容并极具中文本地化优势的办公软件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版包含三大组件：文字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演示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esent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表格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preadshee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从功能上与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oft Offi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一对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巧体积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下载安装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\Linux\Ma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平台支持，全面兼容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oft Offi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档格式，并提供营养丰富的海量文档资源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您带来轻松愉悦的办公体验，每天已有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在使用它，你还不快试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COMTON</dc:creator>
  <dc:description/>
  <cp:keywords/>
  <dc:language>en-US</dc:language>
  <cp:lastModifiedBy>a</cp:lastModifiedBy>
  <dcterms:modified xsi:type="dcterms:W3CDTF">2014-07-27T02:29:3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