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E311-C976-42AF-B2BF-E5B74342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DD2E-5B64-4763-9F0F-EB632AD0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03B2-8664-4CF7-9DAC-E4F079C8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7AEF-1BC5-43E7-AA67-E01B8F7C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C558-C503-4467-81A8-33154FE8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5DB4-353B-451A-96E0-917B1D81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5ABA-4A5C-4CAA-85C6-8CA864DE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BF6B-F430-4C72-8582-2080D68C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15E8-939D-49F8-8B19-EE6B8BCC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AF0B-3DD7-41E2-A36D-D1286748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1B25-151A-40D6-94B5-19C07E64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091-A5B9-484B-87BD-B850C0FB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96EF-6FA1-41AB-ABC1-CEFDEF41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75D4-A181-4C27-A75A-EE23C889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B760-77FE-456C-B999-37FC56A7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EF4A-E22B-4F29-B730-9184079E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7276-C989-4ACB-91E2-804D378C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ADE9-4699-4D9D-B2ED-1DC5C47D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EE6-7150-4A57-8C1E-478DD33B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A5A-388C-481C-892C-9A5C37EA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5407-2BBD-4C3D-A51D-4EF6DE18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095-FA93-4545-AD44-9B00465F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065-4E48-4227-8786-925094D8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5C34-DF5C-4D55-A0E7-2392C815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6445080" y="6597720"/>
            <a:ext cx="2521080" cy="142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3439-4197-48C0-92A5-94523B5AEFD4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4863-E8B5-4794-981A-494ACD90495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885B-7619-4354-ADBA-C07AE02B900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宋体"/>
              </a:rPr>
              <a:t>金钱世界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6510240"/>
            <a:ext cx="9140760" cy="3319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s-E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a</cp:lastModifiedBy>
  <dcterms:modified xsi:type="dcterms:W3CDTF">2015-01-15T03:03:09Z</dcterms:modified>
  <cp:revision>37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