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62BAE-24B5-4E63-AD7A-7C5E56F78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CCDFE-C536-42E9-9F63-02890EBEF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F9CAB-394C-4ABF-90D3-AED20136C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F068B-0380-44C5-865C-DD0B01F6A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E1DFD-D9CD-43D3-98BE-DFC326935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CB02F-766F-4C82-AE4E-22AFD5C6F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4D584-47C5-41C0-9CF0-8E018D0DA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963C2-558E-4CB9-A4A1-1A01529EF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9529C-0B6F-4063-B023-01F5602AD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3ABA1-9350-4AEA-A0BD-4DF55B737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CFC00-669A-46D4-8DDC-77AC7E24F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9EC5F-2569-4A97-A24C-339F7C0D8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gsd gdfg zk thzegz"/>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66ff"/>
                </a:solidFill>
                <a:latin typeface="Arial"/>
                <a:ea typeface="宋体"/>
              </a:rPr>
              <a:t>Page </a:t>
            </a:r>
            <a:fld id="{6AAD6DE1-3C83-48C2-B853-24813D792F53}" type="slidenum">
              <a:rPr b="1" lang="fr-FR" sz="1800" spc="-1" strike="noStrike">
                <a:solidFill>
                  <a:srgbClr val="6666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B021-5D04-4404-985E-B432365CE913}"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3DB2-E67C-466B-B47A-3949A01B81E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gfdg fdgfd gdfjoi ziitzeitz"/>
          <p:cNvPicPr/>
          <p:nvPr/>
        </p:nvPicPr>
        <p:blipFill>
          <a:blip r:embed="rId1"/>
          <a:stretch/>
        </p:blipFill>
        <p:spPr>
          <a:xfrm>
            <a:off x="0" y="0"/>
            <a:ext cx="9144000" cy="6858000"/>
          </a:xfrm>
          <a:prstGeom prst="rect">
            <a:avLst/>
          </a:prstGeom>
          <a:ln w="0">
            <a:noFill/>
          </a:ln>
        </p:spPr>
      </p:pic>
      <p:sp>
        <p:nvSpPr>
          <p:cNvPr id="80" name="Text Box 3"/>
          <p:cNvSpPr/>
          <p:nvPr/>
        </p:nvSpPr>
        <p:spPr>
          <a:xfrm>
            <a:off x="468360" y="3402000"/>
            <a:ext cx="7345440" cy="15793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6666ff"/>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92760" y="260280"/>
            <a:ext cx="21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66ff"/>
                </a:solidFill>
                <a:latin typeface="Verdana"/>
                <a:ea typeface="宋体"/>
              </a:rPr>
              <a:t>First Page</a:t>
            </a:r>
            <a:endParaRPr b="0" lang="en-US" sz="3200" spc="-1" strike="noStrike">
              <a:solidFill>
                <a:srgbClr val="000000"/>
              </a:solidFill>
              <a:latin typeface="Arial"/>
            </a:endParaRPr>
          </a:p>
        </p:txBody>
      </p:sp>
      <p:sp>
        <p:nvSpPr>
          <p:cNvPr id="82" name="Text Box 3"/>
          <p:cNvSpPr/>
          <p:nvPr/>
        </p:nvSpPr>
        <p:spPr>
          <a:xfrm>
            <a:off x="468360" y="1052640"/>
            <a:ext cx="6264360" cy="374472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66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32720" y="260280"/>
            <a:ext cx="273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66ff"/>
                </a:solidFill>
                <a:latin typeface="Verdana"/>
                <a:ea typeface="宋体"/>
              </a:rPr>
              <a:t>Second Page</a:t>
            </a:r>
            <a:endParaRPr b="0" lang="en-US" sz="3200" spc="-1" strike="noStrike">
              <a:solidFill>
                <a:srgbClr val="000000"/>
              </a:solidFill>
              <a:latin typeface="Arial"/>
            </a:endParaRPr>
          </a:p>
        </p:txBody>
      </p:sp>
      <p:sp>
        <p:nvSpPr>
          <p:cNvPr id="84" name="Text Box 3"/>
          <p:cNvSpPr/>
          <p:nvPr/>
        </p:nvSpPr>
        <p:spPr>
          <a:xfrm>
            <a:off x="468360" y="1052640"/>
            <a:ext cx="6264360" cy="374472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66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25T01:41:20Z</dcterms:modified>
  <cp:revision>2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