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4C3D-CA46-4ECC-99F8-1F5908B42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97B2-7226-452B-A851-E9804E2FC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35B4-8489-46CD-B24C-4A2E5780A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80A4-4044-4205-AF75-444500ABE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5F160-2259-4D50-BD1F-B7F50721C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45034-6965-41F0-80DD-5047635A6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1AE47-FF53-4AFF-A8C3-7F20465EA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BE161-480E-495A-992A-EF8285425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6BD0A-19F6-4258-9290-DBB07A568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D80F6-65ED-47B2-A3BA-A6BA14B85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FD915-B0A5-4624-8004-C3A88E51C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1AAB-39DF-45BA-A058-0C081BD3E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E69B5-0202-4AD0-82FE-583ED93FB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B2AA6-8D13-45CB-BA29-D77FF078F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B5B1C-5625-4C7A-A1E1-7017E7CDD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A7844-0CCB-416A-A316-1188C9DCB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445E1-C292-4F25-9783-4AC95411C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26B3-BA69-4A26-A359-069379D52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4A33-B02E-4635-8038-89C9D8778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C387-4A4B-4AD2-A678-49C207B06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334E-89AB-4A01-AE21-6F0F09E21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E7FD-CA69-4E9C-87A3-5A68302D4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69FC-341E-47CC-BAEE-431516707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ED3A-20E7-4D40-80A2-4B2E6E91A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U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BA4B3-911C-4556-8D85-59622D85F808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27737-1FCF-42FE-A73B-E93DA9679C6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A45F5-A6D4-4A8F-80B5-6CED37B095A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84A83-CAD9-440C-9632-F59CCC3A7F6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6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898640" y="3498480"/>
            <a:ext cx="53467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b0f0"/>
                </a:solidFill>
                <a:latin typeface="Segoe UI"/>
              </a:rPr>
              <a:t>矩形渐变</a:t>
            </a:r>
            <a:r>
              <a:rPr b="1" lang="zh-CN" sz="4400" spc="-1" strike="noStrike">
                <a:solidFill>
                  <a:srgbClr val="7f7f7f"/>
                </a:solidFill>
                <a:latin typeface="Segoe UI"/>
              </a:rPr>
              <a:t>在</a:t>
            </a:r>
            <a:br>
              <a:rPr sz="4400"/>
            </a:br>
            <a:r>
              <a:rPr b="1" lang="en-US" sz="4400" spc="-1" strike="noStrike">
                <a:solidFill>
                  <a:srgbClr val="7f7f7f"/>
                </a:solidFill>
                <a:latin typeface="Segoe UI"/>
              </a:rPr>
              <a:t>PPT 3D</a:t>
            </a:r>
            <a:r>
              <a:rPr b="1" lang="zh-CN" sz="4400" spc="-1" strike="noStrike">
                <a:solidFill>
                  <a:srgbClr val="7f7f7f"/>
                </a:solidFill>
                <a:latin typeface="Segoe UI"/>
              </a:rPr>
              <a:t>中的妙用</a:t>
            </a: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3" name="主体圆"/>
          <p:cNvSpPr/>
          <p:nvPr/>
        </p:nvSpPr>
        <p:spPr>
          <a:xfrm>
            <a:off x="3492360" y="1123920"/>
            <a:ext cx="2159280" cy="216072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组合1"/>
          <p:cNvGrpSpPr/>
          <p:nvPr/>
        </p:nvGrpSpPr>
        <p:grpSpPr>
          <a:xfrm>
            <a:off x="3492360" y="1123920"/>
            <a:ext cx="2159280" cy="2160720"/>
            <a:chOff x="3492360" y="1123920"/>
            <a:chExt cx="2159280" cy="2160720"/>
          </a:xfrm>
        </p:grpSpPr>
        <p:sp>
          <p:nvSpPr>
            <p:cNvPr id="85" name="圆形补位" hidden="1"/>
            <p:cNvSpPr/>
            <p:nvPr/>
          </p:nvSpPr>
          <p:spPr>
            <a:xfrm>
              <a:off x="3492360" y="1123920"/>
              <a:ext cx="2159280" cy="2160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半圆"/>
            <p:cNvSpPr/>
            <p:nvPr/>
          </p:nvSpPr>
          <p:spPr>
            <a:xfrm>
              <a:off x="3492360" y="1123920"/>
              <a:ext cx="2159280" cy="1080360"/>
            </a:xfrm>
            <a:custGeom>
              <a:avLst/>
              <a:gdLst>
                <a:gd name="textAreaLeft" fmla="*/ 0 w 2159280"/>
                <a:gd name="textAreaRight" fmla="*/ 2159640 w 2159280"/>
                <a:gd name="textAreaTop" fmla="*/ 0 h 1080360"/>
                <a:gd name="textAreaBottom" fmla="*/ 1080720 h 1080360"/>
              </a:gdLst>
              <a:ahLst/>
              <a:rect l="textAreaLeft" t="textAreaTop" r="textAreaRight" b="textAreaBottom"/>
              <a:pathLst>
                <a:path w="2160000" h="1080000">
                  <a:moveTo>
                    <a:pt x="1080000" y="0"/>
                  </a:moveTo>
                  <a:cubicBezTo>
                    <a:pt x="1676468" y="0"/>
                    <a:pt x="2160000" y="483532"/>
                    <a:pt x="2160000" y="1080000"/>
                  </a:cubicBezTo>
                  <a:lnTo>
                    <a:pt x="0" y="1080000"/>
                  </a:lnTo>
                  <a:cubicBezTo>
                    <a:pt x="0" y="483532"/>
                    <a:pt x="483532" y="0"/>
                    <a:pt x="108000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组合2"/>
          <p:cNvGrpSpPr/>
          <p:nvPr/>
        </p:nvGrpSpPr>
        <p:grpSpPr>
          <a:xfrm>
            <a:off x="3492360" y="1123920"/>
            <a:ext cx="2159280" cy="2160720"/>
            <a:chOff x="3492360" y="1123920"/>
            <a:chExt cx="2159280" cy="2160720"/>
          </a:xfrm>
        </p:grpSpPr>
        <p:sp>
          <p:nvSpPr>
            <p:cNvPr id="88" name="圆形补位" hidden="1"/>
            <p:cNvSpPr/>
            <p:nvPr/>
          </p:nvSpPr>
          <p:spPr>
            <a:xfrm>
              <a:off x="3492360" y="1123920"/>
              <a:ext cx="2159280" cy="2160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半圆"/>
            <p:cNvSpPr/>
            <p:nvPr/>
          </p:nvSpPr>
          <p:spPr>
            <a:xfrm>
              <a:off x="3492360" y="1123920"/>
              <a:ext cx="2159280" cy="1080360"/>
            </a:xfrm>
            <a:custGeom>
              <a:avLst/>
              <a:gdLst>
                <a:gd name="textAreaLeft" fmla="*/ 0 w 2159280"/>
                <a:gd name="textAreaRight" fmla="*/ 2159640 w 2159280"/>
                <a:gd name="textAreaTop" fmla="*/ 0 h 1080360"/>
                <a:gd name="textAreaBottom" fmla="*/ 1080720 h 1080360"/>
              </a:gdLst>
              <a:ahLst/>
              <a:rect l="textAreaLeft" t="textAreaTop" r="textAreaRight" b="textAreaBottom"/>
              <a:pathLst>
                <a:path w="2160000" h="1080000">
                  <a:moveTo>
                    <a:pt x="1080000" y="0"/>
                  </a:moveTo>
                  <a:cubicBezTo>
                    <a:pt x="1676468" y="0"/>
                    <a:pt x="2160000" y="483532"/>
                    <a:pt x="2160000" y="1080000"/>
                  </a:cubicBezTo>
                  <a:lnTo>
                    <a:pt x="0" y="1080000"/>
                  </a:lnTo>
                  <a:cubicBezTo>
                    <a:pt x="0" y="483532"/>
                    <a:pt x="483532" y="0"/>
                    <a:pt x="108000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人物16"/>
          <p:cNvSpPr/>
          <p:nvPr/>
        </p:nvSpPr>
        <p:spPr>
          <a:xfrm>
            <a:off x="4282920" y="1628640"/>
            <a:ext cx="576360" cy="738360"/>
          </a:xfrm>
          <a:custGeom>
            <a:avLst/>
            <a:gdLst>
              <a:gd name="textAreaLeft" fmla="*/ 0 w 576360"/>
              <a:gd name="textAreaRight" fmla="*/ 576360 w 576360"/>
              <a:gd name="textAreaTop" fmla="*/ 0 h 738360"/>
              <a:gd name="textAreaBottom" fmla="*/ 738720 h 738360"/>
            </a:gdLst>
            <a:ahLst/>
            <a:rect l="textAreaLeft" t="textAreaTop" r="textAreaRight" b="textAreaBottom"/>
            <a:pathLst>
              <a:path w="2979751" h="4245036">
                <a:moveTo>
                  <a:pt x="2822862" y="711036"/>
                </a:moveTo>
                <a:lnTo>
                  <a:pt x="2890503" y="734164"/>
                </a:lnTo>
                <a:cubicBezTo>
                  <a:pt x="2976351" y="784312"/>
                  <a:pt x="3005293" y="894559"/>
                  <a:pt x="2955145" y="980408"/>
                </a:cubicBezTo>
                <a:lnTo>
                  <a:pt x="2723160" y="1377545"/>
                </a:lnTo>
                <a:cubicBezTo>
                  <a:pt x="2627261" y="1452404"/>
                  <a:pt x="2523352" y="1491248"/>
                  <a:pt x="2379750" y="1429561"/>
                </a:cubicBezTo>
                <a:lnTo>
                  <a:pt x="2013947" y="1274121"/>
                </a:lnTo>
                <a:cubicBezTo>
                  <a:pt x="2005762" y="1763138"/>
                  <a:pt x="2007982" y="2317507"/>
                  <a:pt x="2006789" y="2782510"/>
                </a:cubicBezTo>
                <a:lnTo>
                  <a:pt x="2006789" y="4064141"/>
                </a:lnTo>
                <a:cubicBezTo>
                  <a:pt x="2006789" y="4164047"/>
                  <a:pt x="1925800" y="4245036"/>
                  <a:pt x="1825894" y="4245036"/>
                </a:cubicBezTo>
                <a:cubicBezTo>
                  <a:pt x="1725988" y="4245036"/>
                  <a:pt x="1644999" y="4164047"/>
                  <a:pt x="1644999" y="4064141"/>
                </a:cubicBezTo>
                <a:lnTo>
                  <a:pt x="1644999" y="2886028"/>
                </a:lnTo>
                <a:lnTo>
                  <a:pt x="1441047" y="2886028"/>
                </a:lnTo>
                <a:lnTo>
                  <a:pt x="1441047" y="4064141"/>
                </a:lnTo>
                <a:cubicBezTo>
                  <a:pt x="1441047" y="4164047"/>
                  <a:pt x="1360058" y="4245036"/>
                  <a:pt x="1260152" y="4245036"/>
                </a:cubicBezTo>
                <a:cubicBezTo>
                  <a:pt x="1160246" y="4245036"/>
                  <a:pt x="1079257" y="4164047"/>
                  <a:pt x="1079257" y="4064141"/>
                </a:cubicBezTo>
                <a:lnTo>
                  <a:pt x="1079257" y="2782510"/>
                </a:lnTo>
                <a:cubicBezTo>
                  <a:pt x="1080450" y="2327257"/>
                  <a:pt x="1076973" y="1558965"/>
                  <a:pt x="1086415" y="1332625"/>
                </a:cubicBezTo>
                <a:lnTo>
                  <a:pt x="831111" y="1767369"/>
                </a:lnTo>
                <a:cubicBezTo>
                  <a:pt x="789802" y="1837711"/>
                  <a:pt x="708123" y="1869650"/>
                  <a:pt x="633468" y="1848235"/>
                </a:cubicBezTo>
                <a:cubicBezTo>
                  <a:pt x="605614" y="1848704"/>
                  <a:pt x="577853" y="1840596"/>
                  <a:pt x="552315" y="1825450"/>
                </a:cubicBezTo>
                <a:lnTo>
                  <a:pt x="88217" y="1550197"/>
                </a:lnTo>
                <a:cubicBezTo>
                  <a:pt x="2703" y="1499480"/>
                  <a:pt x="-25505" y="1389043"/>
                  <a:pt x="25212" y="1303530"/>
                </a:cubicBezTo>
                <a:cubicBezTo>
                  <a:pt x="63250" y="1239395"/>
                  <a:pt x="134881" y="1207494"/>
                  <a:pt x="204395" y="1216948"/>
                </a:cubicBezTo>
                <a:cubicBezTo>
                  <a:pt x="227566" y="1220100"/>
                  <a:pt x="250502" y="1227846"/>
                  <a:pt x="271880" y="1240525"/>
                </a:cubicBezTo>
                <a:lnTo>
                  <a:pt x="606442" y="1438951"/>
                </a:lnTo>
                <a:lnTo>
                  <a:pt x="863627" y="1001006"/>
                </a:lnTo>
                <a:cubicBezTo>
                  <a:pt x="984983" y="858774"/>
                  <a:pt x="1095320" y="908802"/>
                  <a:pt x="1258379" y="890361"/>
                </a:cubicBezTo>
                <a:lnTo>
                  <a:pt x="1841983" y="890361"/>
                </a:lnTo>
                <a:cubicBezTo>
                  <a:pt x="1980953" y="894663"/>
                  <a:pt x="1985939" y="884441"/>
                  <a:pt x="2092200" y="916176"/>
                </a:cubicBezTo>
                <a:lnTo>
                  <a:pt x="2479552" y="1080773"/>
                </a:lnTo>
                <a:lnTo>
                  <a:pt x="2644260" y="798806"/>
                </a:lnTo>
                <a:cubicBezTo>
                  <a:pt x="2681870" y="734420"/>
                  <a:pt x="2753287" y="702044"/>
                  <a:pt x="2822862" y="711036"/>
                </a:cubicBezTo>
                <a:close/>
                <a:moveTo>
                  <a:pt x="1550181" y="0"/>
                </a:moveTo>
                <a:cubicBezTo>
                  <a:pt x="1788795" y="0"/>
                  <a:pt x="1982229" y="193434"/>
                  <a:pt x="1982229" y="432048"/>
                </a:cubicBezTo>
                <a:cubicBezTo>
                  <a:pt x="1982229" y="670662"/>
                  <a:pt x="1788795" y="864096"/>
                  <a:pt x="1550181" y="864096"/>
                </a:cubicBezTo>
                <a:cubicBezTo>
                  <a:pt x="1311567" y="864096"/>
                  <a:pt x="1118133" y="670662"/>
                  <a:pt x="1118133" y="432048"/>
                </a:cubicBezTo>
                <a:cubicBezTo>
                  <a:pt x="1118133" y="193434"/>
                  <a:pt x="1311567" y="0"/>
                  <a:pt x="1550181" y="0"/>
                </a:cubicBezTo>
                <a:close/>
              </a:path>
            </a:pathLst>
          </a:custGeom>
          <a:gradFill rotWithShape="0">
            <a:gsLst>
              <a:gs pos="0">
                <a:srgbClr val="3f3f3f"/>
              </a:gs>
              <a:gs pos="100000">
                <a:srgbClr val="0070c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组合 21"/>
          <p:cNvGrpSpPr/>
          <p:nvPr/>
        </p:nvGrpSpPr>
        <p:grpSpPr>
          <a:xfrm>
            <a:off x="585720" y="333360"/>
            <a:ext cx="3606840" cy="949320"/>
            <a:chOff x="585720" y="333360"/>
            <a:chExt cx="3606840" cy="949320"/>
          </a:xfrm>
        </p:grpSpPr>
        <p:grpSp>
          <p:nvGrpSpPr>
            <p:cNvPr id="202" name="组合 22"/>
            <p:cNvGrpSpPr/>
            <p:nvPr/>
          </p:nvGrpSpPr>
          <p:grpSpPr>
            <a:xfrm>
              <a:off x="585720" y="333360"/>
              <a:ext cx="3606840" cy="949320"/>
              <a:chOff x="585720" y="333360"/>
              <a:chExt cx="3606840" cy="949320"/>
            </a:xfrm>
          </p:grpSpPr>
          <p:sp>
            <p:nvSpPr>
              <p:cNvPr id="203" name="圆角矩形 24"/>
              <p:cNvSpPr/>
              <p:nvPr/>
            </p:nvSpPr>
            <p:spPr>
              <a:xfrm>
                <a:off x="585720" y="333360"/>
                <a:ext cx="3606840" cy="949320"/>
              </a:xfrm>
              <a:prstGeom prst="roundRect">
                <a:avLst>
                  <a:gd name="adj" fmla="val 11782"/>
                </a:avLst>
              </a:prstGeom>
              <a:gradFill rotWithShape="0">
                <a:gsLst>
                  <a:gs pos="0">
                    <a:srgbClr val="f5f5f5"/>
                  </a:gs>
                  <a:gs pos="100000">
                    <a:srgbClr val="f2f2f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圆角矩形 4"/>
              <p:cNvSpPr/>
              <p:nvPr/>
            </p:nvSpPr>
            <p:spPr>
              <a:xfrm>
                <a:off x="585720" y="333360"/>
                <a:ext cx="753480" cy="9493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7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Britannic Bold"/>
                  </a:rPr>
                  <a:t>03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5" name="TextBox 23"/>
            <p:cNvSpPr/>
            <p:nvPr/>
          </p:nvSpPr>
          <p:spPr>
            <a:xfrm>
              <a:off x="2023560" y="54648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拼接部分制作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TextBox 28"/>
          <p:cNvSpPr/>
          <p:nvPr/>
        </p:nvSpPr>
        <p:spPr>
          <a:xfrm>
            <a:off x="1218600" y="194940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a5a5"/>
                </a:solidFill>
                <a:latin typeface="微软雅黑"/>
                <a:ea typeface="微软雅黑"/>
              </a:rPr>
              <a:t>填充射线渐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等腰三角形 14"/>
          <p:cNvSpPr/>
          <p:nvPr/>
        </p:nvSpPr>
        <p:spPr>
          <a:xfrm rot="5400000">
            <a:off x="639000" y="3545640"/>
            <a:ext cx="262080" cy="2253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0b0f0"/>
              </a:gs>
              <a:gs pos="100000">
                <a:srgbClr val="0070c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15"/>
          <p:cNvSpPr/>
          <p:nvPr/>
        </p:nvSpPr>
        <p:spPr>
          <a:xfrm>
            <a:off x="1092960" y="24480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a5a5"/>
                </a:solidFill>
                <a:latin typeface="微软雅黑"/>
                <a:ea typeface="微软雅黑"/>
              </a:rPr>
              <a:t>设置隐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18"/>
          <p:cNvSpPr/>
          <p:nvPr/>
        </p:nvSpPr>
        <p:spPr>
          <a:xfrm>
            <a:off x="1010520" y="295740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a5a5"/>
                </a:solidFill>
                <a:latin typeface="微软雅黑"/>
                <a:ea typeface="微软雅黑"/>
              </a:rPr>
              <a:t>复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组合1"/>
          <p:cNvGrpSpPr/>
          <p:nvPr/>
        </p:nvGrpSpPr>
        <p:grpSpPr>
          <a:xfrm>
            <a:off x="3112920" y="1949400"/>
            <a:ext cx="2160720" cy="2158920"/>
            <a:chOff x="3112920" y="1949400"/>
            <a:chExt cx="2160720" cy="2158920"/>
          </a:xfrm>
        </p:grpSpPr>
        <p:sp>
          <p:nvSpPr>
            <p:cNvPr id="211" name="圆形补位" hidden="1"/>
            <p:cNvSpPr/>
            <p:nvPr/>
          </p:nvSpPr>
          <p:spPr>
            <a:xfrm>
              <a:off x="3112920" y="1949400"/>
              <a:ext cx="2160720" cy="2158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半圆"/>
            <p:cNvSpPr/>
            <p:nvPr/>
          </p:nvSpPr>
          <p:spPr>
            <a:xfrm>
              <a:off x="3112920" y="1949400"/>
              <a:ext cx="2160720" cy="1079280"/>
            </a:xfrm>
            <a:custGeom>
              <a:avLst/>
              <a:gdLst>
                <a:gd name="textAreaLeft" fmla="*/ 0 w 2160720"/>
                <a:gd name="textAreaRight" fmla="*/ 2161080 w 2160720"/>
                <a:gd name="textAreaTop" fmla="*/ 0 h 1079280"/>
                <a:gd name="textAreaBottom" fmla="*/ 1079640 h 1079280"/>
              </a:gdLst>
              <a:ahLst/>
              <a:rect l="textAreaLeft" t="textAreaTop" r="textAreaRight" b="textAreaBottom"/>
              <a:pathLst>
                <a:path w="2160000" h="1080000">
                  <a:moveTo>
                    <a:pt x="1080000" y="0"/>
                  </a:moveTo>
                  <a:cubicBezTo>
                    <a:pt x="1676468" y="0"/>
                    <a:pt x="2160000" y="483532"/>
                    <a:pt x="2160000" y="1080000"/>
                  </a:cubicBezTo>
                  <a:lnTo>
                    <a:pt x="0" y="1080000"/>
                  </a:lnTo>
                  <a:cubicBezTo>
                    <a:pt x="0" y="483532"/>
                    <a:pt x="483532" y="0"/>
                    <a:pt x="108000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TextBox 27"/>
          <p:cNvSpPr/>
          <p:nvPr/>
        </p:nvSpPr>
        <p:spPr>
          <a:xfrm>
            <a:off x="3374280" y="4054320"/>
            <a:ext cx="161244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设置对象：组合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三维旋转值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Y</a:t>
            </a:r>
            <a:r>
              <a:rPr b="0" lang="zh-CN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：</a:t>
            </a:r>
            <a:r>
              <a:rPr b="0" lang="en-US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90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Z</a:t>
            </a:r>
            <a:r>
              <a:rPr b="0" lang="zh-CN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：</a:t>
            </a:r>
            <a:r>
              <a:rPr b="0" lang="en-US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180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31"/>
          <p:cNvSpPr/>
          <p:nvPr/>
        </p:nvSpPr>
        <p:spPr>
          <a:xfrm>
            <a:off x="3872160" y="3139920"/>
            <a:ext cx="640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组合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32"/>
          <p:cNvSpPr/>
          <p:nvPr/>
        </p:nvSpPr>
        <p:spPr>
          <a:xfrm>
            <a:off x="1131120" y="3460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三维旋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2" descr=""/>
          <p:cNvPicPr/>
          <p:nvPr/>
        </p:nvPicPr>
        <p:blipFill>
          <a:blip r:embed="rId1"/>
          <a:stretch/>
        </p:blipFill>
        <p:spPr>
          <a:xfrm>
            <a:off x="6248520" y="1536840"/>
            <a:ext cx="1923840" cy="2085840"/>
          </a:xfrm>
          <a:prstGeom prst="rect">
            <a:avLst/>
          </a:prstGeom>
          <a:ln w="0">
            <a:noFill/>
          </a:ln>
        </p:spPr>
      </p:pic>
      <p:grpSp>
        <p:nvGrpSpPr>
          <p:cNvPr id="217" name="组合1"/>
          <p:cNvGrpSpPr/>
          <p:nvPr/>
        </p:nvGrpSpPr>
        <p:grpSpPr>
          <a:xfrm>
            <a:off x="4583160" y="797040"/>
            <a:ext cx="2160720" cy="2160360"/>
            <a:chOff x="4583160" y="797040"/>
            <a:chExt cx="2160720" cy="2160360"/>
          </a:xfrm>
        </p:grpSpPr>
        <p:sp>
          <p:nvSpPr>
            <p:cNvPr id="218" name="圆形补位" hidden="1"/>
            <p:cNvSpPr/>
            <p:nvPr/>
          </p:nvSpPr>
          <p:spPr>
            <a:xfrm>
              <a:off x="4583160" y="797040"/>
              <a:ext cx="2160720" cy="2160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半圆"/>
            <p:cNvSpPr/>
            <p:nvPr/>
          </p:nvSpPr>
          <p:spPr>
            <a:xfrm>
              <a:off x="4583160" y="797040"/>
              <a:ext cx="2160720" cy="1080000"/>
            </a:xfrm>
            <a:custGeom>
              <a:avLst/>
              <a:gdLst>
                <a:gd name="textAreaLeft" fmla="*/ 0 w 2160720"/>
                <a:gd name="textAreaRight" fmla="*/ 2161080 w 2160720"/>
                <a:gd name="textAreaTop" fmla="*/ 0 h 1080000"/>
                <a:gd name="textAreaBottom" fmla="*/ 1080360 h 1080000"/>
              </a:gdLst>
              <a:ahLst/>
              <a:rect l="textAreaLeft" t="textAreaTop" r="textAreaRight" b="textAreaBottom"/>
              <a:pathLst>
                <a:path w="2160000" h="1080000">
                  <a:moveTo>
                    <a:pt x="1080000" y="0"/>
                  </a:moveTo>
                  <a:cubicBezTo>
                    <a:pt x="1676468" y="0"/>
                    <a:pt x="2160000" y="483532"/>
                    <a:pt x="2160000" y="1080000"/>
                  </a:cubicBezTo>
                  <a:lnTo>
                    <a:pt x="0" y="1080000"/>
                  </a:lnTo>
                  <a:cubicBezTo>
                    <a:pt x="0" y="483532"/>
                    <a:pt x="483532" y="0"/>
                    <a:pt x="108000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0" name="Picture 3" descr=""/>
          <p:cNvPicPr/>
          <p:nvPr/>
        </p:nvPicPr>
        <p:blipFill>
          <a:blip r:embed="rId2"/>
          <a:stretch/>
        </p:blipFill>
        <p:spPr>
          <a:xfrm>
            <a:off x="6012000" y="4054320"/>
            <a:ext cx="2305080" cy="1606680"/>
          </a:xfrm>
          <a:prstGeom prst="rect">
            <a:avLst/>
          </a:prstGeom>
          <a:ln w="9360">
            <a:solidFill>
              <a:srgbClr val="bfbfbf"/>
            </a:solidFill>
            <a:miter/>
          </a:ln>
        </p:spPr>
      </p:pic>
      <p:sp>
        <p:nvSpPr>
          <p:cNvPr id="221" name="右箭头 1"/>
          <p:cNvSpPr/>
          <p:nvPr/>
        </p:nvSpPr>
        <p:spPr>
          <a:xfrm>
            <a:off x="5508720" y="2579760"/>
            <a:ext cx="431640" cy="376200"/>
          </a:xfrm>
          <a:prstGeom prst="rightArrow">
            <a:avLst>
              <a:gd name="adj1" fmla="val 50000"/>
              <a:gd name="adj2" fmla="val 50027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38"/>
          <p:cNvSpPr/>
          <p:nvPr/>
        </p:nvSpPr>
        <p:spPr>
          <a:xfrm>
            <a:off x="5149080" y="6272280"/>
            <a:ext cx="1420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注：组合</a:t>
            </a:r>
            <a:r>
              <a:rPr b="0" lang="en-US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2</a:t>
            </a:r>
            <a:r>
              <a:rPr b="0" lang="zh-CN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旋转后会看不到。不用管，继续下一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" name="组合 21"/>
          <p:cNvGrpSpPr/>
          <p:nvPr/>
        </p:nvGrpSpPr>
        <p:grpSpPr>
          <a:xfrm>
            <a:off x="585720" y="333360"/>
            <a:ext cx="3606840" cy="949320"/>
            <a:chOff x="585720" y="333360"/>
            <a:chExt cx="3606840" cy="949320"/>
          </a:xfrm>
        </p:grpSpPr>
        <p:grpSp>
          <p:nvGrpSpPr>
            <p:cNvPr id="224" name="组合 22"/>
            <p:cNvGrpSpPr/>
            <p:nvPr/>
          </p:nvGrpSpPr>
          <p:grpSpPr>
            <a:xfrm>
              <a:off x="585720" y="333360"/>
              <a:ext cx="3606840" cy="949320"/>
              <a:chOff x="585720" y="333360"/>
              <a:chExt cx="3606840" cy="949320"/>
            </a:xfrm>
          </p:grpSpPr>
          <p:sp>
            <p:nvSpPr>
              <p:cNvPr id="225" name="圆角矩形 24"/>
              <p:cNvSpPr/>
              <p:nvPr/>
            </p:nvSpPr>
            <p:spPr>
              <a:xfrm>
                <a:off x="585720" y="333360"/>
                <a:ext cx="3606840" cy="949320"/>
              </a:xfrm>
              <a:prstGeom prst="roundRect">
                <a:avLst>
                  <a:gd name="adj" fmla="val 11782"/>
                </a:avLst>
              </a:prstGeom>
              <a:gradFill rotWithShape="0">
                <a:gsLst>
                  <a:gs pos="0">
                    <a:srgbClr val="f5f5f5"/>
                  </a:gs>
                  <a:gs pos="100000">
                    <a:srgbClr val="f2f2f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圆角矩形 4"/>
              <p:cNvSpPr/>
              <p:nvPr/>
            </p:nvSpPr>
            <p:spPr>
              <a:xfrm>
                <a:off x="585720" y="333360"/>
                <a:ext cx="753480" cy="9493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7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Britannic Bold"/>
                  </a:rPr>
                  <a:t>04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7" name="TextBox 23"/>
            <p:cNvSpPr/>
            <p:nvPr/>
          </p:nvSpPr>
          <p:spPr>
            <a:xfrm>
              <a:off x="2163960" y="5464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素材组合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主体圆"/>
          <p:cNvSpPr/>
          <p:nvPr/>
        </p:nvSpPr>
        <p:spPr>
          <a:xfrm>
            <a:off x="1041480" y="3675240"/>
            <a:ext cx="2158920" cy="216036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组合1"/>
          <p:cNvGrpSpPr/>
          <p:nvPr/>
        </p:nvGrpSpPr>
        <p:grpSpPr>
          <a:xfrm>
            <a:off x="1041480" y="3675240"/>
            <a:ext cx="2158920" cy="2160360"/>
            <a:chOff x="1041480" y="3675240"/>
            <a:chExt cx="2158920" cy="2160360"/>
          </a:xfrm>
        </p:grpSpPr>
        <p:sp>
          <p:nvSpPr>
            <p:cNvPr id="230" name="圆形补位" hidden="1"/>
            <p:cNvSpPr/>
            <p:nvPr/>
          </p:nvSpPr>
          <p:spPr>
            <a:xfrm>
              <a:off x="1041480" y="3675240"/>
              <a:ext cx="2158920" cy="2160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半圆"/>
            <p:cNvSpPr/>
            <p:nvPr/>
          </p:nvSpPr>
          <p:spPr>
            <a:xfrm>
              <a:off x="1041480" y="3675240"/>
              <a:ext cx="2158920" cy="1080000"/>
            </a:xfrm>
            <a:custGeom>
              <a:avLst/>
              <a:gdLst>
                <a:gd name="textAreaLeft" fmla="*/ 0 w 2158920"/>
                <a:gd name="textAreaRight" fmla="*/ 2159280 w 2158920"/>
                <a:gd name="textAreaTop" fmla="*/ 0 h 1080000"/>
                <a:gd name="textAreaBottom" fmla="*/ 1080360 h 1080000"/>
              </a:gdLst>
              <a:ahLst/>
              <a:rect l="textAreaLeft" t="textAreaTop" r="textAreaRight" b="textAreaBottom"/>
              <a:pathLst>
                <a:path w="2160000" h="1080000">
                  <a:moveTo>
                    <a:pt x="1080000" y="0"/>
                  </a:moveTo>
                  <a:cubicBezTo>
                    <a:pt x="1676468" y="0"/>
                    <a:pt x="2160000" y="483532"/>
                    <a:pt x="2160000" y="1080000"/>
                  </a:cubicBezTo>
                  <a:lnTo>
                    <a:pt x="0" y="1080000"/>
                  </a:lnTo>
                  <a:cubicBezTo>
                    <a:pt x="0" y="483532"/>
                    <a:pt x="483532" y="0"/>
                    <a:pt x="108000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组合2"/>
          <p:cNvGrpSpPr/>
          <p:nvPr/>
        </p:nvGrpSpPr>
        <p:grpSpPr>
          <a:xfrm>
            <a:off x="1041480" y="3675240"/>
            <a:ext cx="2158920" cy="2160360"/>
            <a:chOff x="1041480" y="3675240"/>
            <a:chExt cx="2158920" cy="2160360"/>
          </a:xfrm>
        </p:grpSpPr>
        <p:sp>
          <p:nvSpPr>
            <p:cNvPr id="233" name="圆形补位" hidden="1"/>
            <p:cNvSpPr/>
            <p:nvPr/>
          </p:nvSpPr>
          <p:spPr>
            <a:xfrm>
              <a:off x="1041480" y="3675240"/>
              <a:ext cx="2158920" cy="2160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半圆"/>
            <p:cNvSpPr/>
            <p:nvPr/>
          </p:nvSpPr>
          <p:spPr>
            <a:xfrm>
              <a:off x="1041480" y="3675240"/>
              <a:ext cx="2158920" cy="1080000"/>
            </a:xfrm>
            <a:custGeom>
              <a:avLst/>
              <a:gdLst>
                <a:gd name="textAreaLeft" fmla="*/ 0 w 2158920"/>
                <a:gd name="textAreaRight" fmla="*/ 2159280 w 2158920"/>
                <a:gd name="textAreaTop" fmla="*/ 0 h 1080000"/>
                <a:gd name="textAreaBottom" fmla="*/ 1080360 h 1080000"/>
              </a:gdLst>
              <a:ahLst/>
              <a:rect l="textAreaLeft" t="textAreaTop" r="textAreaRight" b="textAreaBottom"/>
              <a:pathLst>
                <a:path w="2160000" h="1080000">
                  <a:moveTo>
                    <a:pt x="1080000" y="0"/>
                  </a:moveTo>
                  <a:cubicBezTo>
                    <a:pt x="1676468" y="0"/>
                    <a:pt x="2160000" y="483532"/>
                    <a:pt x="2160000" y="1080000"/>
                  </a:cubicBezTo>
                  <a:lnTo>
                    <a:pt x="0" y="1080000"/>
                  </a:lnTo>
                  <a:cubicBezTo>
                    <a:pt x="0" y="483532"/>
                    <a:pt x="483532" y="0"/>
                    <a:pt x="108000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5" name="Picture 3" descr=""/>
          <p:cNvPicPr/>
          <p:nvPr/>
        </p:nvPicPr>
        <p:blipFill>
          <a:blip r:embed="rId2"/>
          <a:srcRect l="0" t="3421" r="0" b="0"/>
          <a:stretch/>
        </p:blipFill>
        <p:spPr>
          <a:xfrm>
            <a:off x="671400" y="1484280"/>
            <a:ext cx="4044960" cy="1536840"/>
          </a:xfrm>
          <a:prstGeom prst="rect">
            <a:avLst/>
          </a:prstGeom>
          <a:ln w="0">
            <a:noFill/>
          </a:ln>
        </p:spPr>
      </p:pic>
      <p:sp>
        <p:nvSpPr>
          <p:cNvPr id="236" name="TextBox 42"/>
          <p:cNvSpPr/>
          <p:nvPr/>
        </p:nvSpPr>
        <p:spPr>
          <a:xfrm>
            <a:off x="5497560" y="1952640"/>
            <a:ext cx="21124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选中主体、组合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组合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对齐：左右居中、上下居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43"/>
          <p:cNvSpPr/>
          <p:nvPr/>
        </p:nvSpPr>
        <p:spPr>
          <a:xfrm>
            <a:off x="3720600" y="5584680"/>
            <a:ext cx="200268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保持三个形状的选中状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如图红框按钮</a:t>
            </a:r>
            <a:r>
              <a:rPr b="0" lang="en-US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主体圆"/>
          <p:cNvSpPr/>
          <p:nvPr/>
        </p:nvSpPr>
        <p:spPr>
          <a:xfrm>
            <a:off x="6012000" y="3675240"/>
            <a:ext cx="2160360" cy="216036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组合1"/>
          <p:cNvGrpSpPr/>
          <p:nvPr/>
        </p:nvGrpSpPr>
        <p:grpSpPr>
          <a:xfrm>
            <a:off x="6012000" y="3675240"/>
            <a:ext cx="2160360" cy="2160360"/>
            <a:chOff x="6012000" y="3675240"/>
            <a:chExt cx="2160360" cy="2160360"/>
          </a:xfrm>
        </p:grpSpPr>
        <p:sp>
          <p:nvSpPr>
            <p:cNvPr id="240" name="圆形补位" hidden="1"/>
            <p:cNvSpPr/>
            <p:nvPr/>
          </p:nvSpPr>
          <p:spPr>
            <a:xfrm>
              <a:off x="6012000" y="3675240"/>
              <a:ext cx="2160360" cy="2160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半圆"/>
            <p:cNvSpPr/>
            <p:nvPr/>
          </p:nvSpPr>
          <p:spPr>
            <a:xfrm>
              <a:off x="6012000" y="3675240"/>
              <a:ext cx="2160360" cy="1080000"/>
            </a:xfrm>
            <a:custGeom>
              <a:avLst/>
              <a:gdLst>
                <a:gd name="textAreaLeft" fmla="*/ 0 w 2160360"/>
                <a:gd name="textAreaRight" fmla="*/ 2160720 w 2160360"/>
                <a:gd name="textAreaTop" fmla="*/ 0 h 1080000"/>
                <a:gd name="textAreaBottom" fmla="*/ 1080360 h 1080000"/>
              </a:gdLst>
              <a:ahLst/>
              <a:rect l="textAreaLeft" t="textAreaTop" r="textAreaRight" b="textAreaBottom"/>
              <a:pathLst>
                <a:path w="2160000" h="1080000">
                  <a:moveTo>
                    <a:pt x="1080000" y="0"/>
                  </a:moveTo>
                  <a:cubicBezTo>
                    <a:pt x="1676468" y="0"/>
                    <a:pt x="2160000" y="483532"/>
                    <a:pt x="2160000" y="1080000"/>
                  </a:cubicBezTo>
                  <a:lnTo>
                    <a:pt x="0" y="1080000"/>
                  </a:lnTo>
                  <a:cubicBezTo>
                    <a:pt x="0" y="483532"/>
                    <a:pt x="483532" y="0"/>
                    <a:pt x="108000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组合2"/>
          <p:cNvGrpSpPr/>
          <p:nvPr/>
        </p:nvGrpSpPr>
        <p:grpSpPr>
          <a:xfrm>
            <a:off x="6012000" y="3675240"/>
            <a:ext cx="2160360" cy="2160360"/>
            <a:chOff x="6012000" y="3675240"/>
            <a:chExt cx="2160360" cy="2160360"/>
          </a:xfrm>
        </p:grpSpPr>
        <p:sp>
          <p:nvSpPr>
            <p:cNvPr id="243" name="圆形补位" hidden="1"/>
            <p:cNvSpPr/>
            <p:nvPr/>
          </p:nvSpPr>
          <p:spPr>
            <a:xfrm>
              <a:off x="6012000" y="3675240"/>
              <a:ext cx="2160360" cy="2160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半圆"/>
            <p:cNvSpPr/>
            <p:nvPr/>
          </p:nvSpPr>
          <p:spPr>
            <a:xfrm>
              <a:off x="6012000" y="3675240"/>
              <a:ext cx="2160360" cy="1080000"/>
            </a:xfrm>
            <a:custGeom>
              <a:avLst/>
              <a:gdLst>
                <a:gd name="textAreaLeft" fmla="*/ 0 w 2160360"/>
                <a:gd name="textAreaRight" fmla="*/ 2160720 w 2160360"/>
                <a:gd name="textAreaTop" fmla="*/ 0 h 1080000"/>
                <a:gd name="textAreaBottom" fmla="*/ 1080360 h 1080000"/>
              </a:gdLst>
              <a:ahLst/>
              <a:rect l="textAreaLeft" t="textAreaTop" r="textAreaRight" b="textAreaBottom"/>
              <a:pathLst>
                <a:path w="2160000" h="1080000">
                  <a:moveTo>
                    <a:pt x="1080000" y="0"/>
                  </a:moveTo>
                  <a:cubicBezTo>
                    <a:pt x="1676468" y="0"/>
                    <a:pt x="2160000" y="483532"/>
                    <a:pt x="2160000" y="1080000"/>
                  </a:cubicBezTo>
                  <a:lnTo>
                    <a:pt x="0" y="1080000"/>
                  </a:lnTo>
                  <a:cubicBezTo>
                    <a:pt x="0" y="483532"/>
                    <a:pt x="483532" y="0"/>
                    <a:pt x="108000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5" name="Picture 4" descr=""/>
          <p:cNvPicPr/>
          <p:nvPr/>
        </p:nvPicPr>
        <p:blipFill>
          <a:blip r:embed="rId4"/>
          <a:stretch/>
        </p:blipFill>
        <p:spPr>
          <a:xfrm>
            <a:off x="3629160" y="3387600"/>
            <a:ext cx="1990440" cy="1457280"/>
          </a:xfrm>
          <a:prstGeom prst="rect">
            <a:avLst/>
          </a:prstGeom>
          <a:ln w="9360">
            <a:solidFill>
              <a:srgbClr val="bfbfbf"/>
            </a:solidFill>
            <a:miter/>
          </a:ln>
        </p:spPr>
      </p:pic>
      <p:sp>
        <p:nvSpPr>
          <p:cNvPr id="246" name="右箭头 51"/>
          <p:cNvSpPr/>
          <p:nvPr/>
        </p:nvSpPr>
        <p:spPr>
          <a:xfrm>
            <a:off x="3629160" y="4984920"/>
            <a:ext cx="1942920" cy="59976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直接连接符 3"/>
          <p:cNvSpPr/>
          <p:nvPr/>
        </p:nvSpPr>
        <p:spPr>
          <a:xfrm>
            <a:off x="0" y="3068640"/>
            <a:ext cx="9144000" cy="1440"/>
          </a:xfrm>
          <a:prstGeom prst="line">
            <a:avLst/>
          </a:prstGeom>
          <a:ln w="936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主体圆"/>
          <p:cNvSpPr/>
          <p:nvPr/>
        </p:nvSpPr>
        <p:spPr>
          <a:xfrm>
            <a:off x="682560" y="1773360"/>
            <a:ext cx="2160720" cy="216036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组合1"/>
          <p:cNvGrpSpPr/>
          <p:nvPr/>
        </p:nvGrpSpPr>
        <p:grpSpPr>
          <a:xfrm>
            <a:off x="682560" y="1773360"/>
            <a:ext cx="2160720" cy="2160360"/>
            <a:chOff x="682560" y="1773360"/>
            <a:chExt cx="2160720" cy="2160360"/>
          </a:xfrm>
        </p:grpSpPr>
        <p:sp>
          <p:nvSpPr>
            <p:cNvPr id="250" name="圆形补位" hidden="1"/>
            <p:cNvSpPr/>
            <p:nvPr/>
          </p:nvSpPr>
          <p:spPr>
            <a:xfrm>
              <a:off x="682560" y="1773360"/>
              <a:ext cx="2160720" cy="2160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半圆"/>
            <p:cNvSpPr/>
            <p:nvPr/>
          </p:nvSpPr>
          <p:spPr>
            <a:xfrm>
              <a:off x="682560" y="1773360"/>
              <a:ext cx="2160720" cy="1080000"/>
            </a:xfrm>
            <a:custGeom>
              <a:avLst/>
              <a:gdLst>
                <a:gd name="textAreaLeft" fmla="*/ 0 w 2160720"/>
                <a:gd name="textAreaRight" fmla="*/ 2161080 w 2160720"/>
                <a:gd name="textAreaTop" fmla="*/ 0 h 1080000"/>
                <a:gd name="textAreaBottom" fmla="*/ 1080360 h 1080000"/>
              </a:gdLst>
              <a:ahLst/>
              <a:rect l="textAreaLeft" t="textAreaTop" r="textAreaRight" b="textAreaBottom"/>
              <a:pathLst>
                <a:path w="2160000" h="1080000">
                  <a:moveTo>
                    <a:pt x="1080000" y="0"/>
                  </a:moveTo>
                  <a:cubicBezTo>
                    <a:pt x="1676468" y="0"/>
                    <a:pt x="2160000" y="483532"/>
                    <a:pt x="2160000" y="1080000"/>
                  </a:cubicBezTo>
                  <a:lnTo>
                    <a:pt x="0" y="1080000"/>
                  </a:lnTo>
                  <a:cubicBezTo>
                    <a:pt x="0" y="483532"/>
                    <a:pt x="483532" y="0"/>
                    <a:pt x="108000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组合2"/>
          <p:cNvGrpSpPr/>
          <p:nvPr/>
        </p:nvGrpSpPr>
        <p:grpSpPr>
          <a:xfrm>
            <a:off x="682560" y="1773360"/>
            <a:ext cx="2160720" cy="2160360"/>
            <a:chOff x="682560" y="1773360"/>
            <a:chExt cx="2160720" cy="2160360"/>
          </a:xfrm>
        </p:grpSpPr>
        <p:sp>
          <p:nvSpPr>
            <p:cNvPr id="253" name="圆形补位" hidden="1"/>
            <p:cNvSpPr/>
            <p:nvPr/>
          </p:nvSpPr>
          <p:spPr>
            <a:xfrm>
              <a:off x="682560" y="1773360"/>
              <a:ext cx="2160720" cy="2160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半圆"/>
            <p:cNvSpPr/>
            <p:nvPr/>
          </p:nvSpPr>
          <p:spPr>
            <a:xfrm>
              <a:off x="682560" y="1773360"/>
              <a:ext cx="2160720" cy="1080000"/>
            </a:xfrm>
            <a:custGeom>
              <a:avLst/>
              <a:gdLst>
                <a:gd name="textAreaLeft" fmla="*/ 0 w 2160720"/>
                <a:gd name="textAreaRight" fmla="*/ 2161080 w 2160720"/>
                <a:gd name="textAreaTop" fmla="*/ 0 h 1080000"/>
                <a:gd name="textAreaBottom" fmla="*/ 1080360 h 1080000"/>
              </a:gdLst>
              <a:ahLst/>
              <a:rect l="textAreaLeft" t="textAreaTop" r="textAreaRight" b="textAreaBottom"/>
              <a:pathLst>
                <a:path w="2160000" h="1080000">
                  <a:moveTo>
                    <a:pt x="1080000" y="0"/>
                  </a:moveTo>
                  <a:cubicBezTo>
                    <a:pt x="1676468" y="0"/>
                    <a:pt x="2160000" y="483532"/>
                    <a:pt x="2160000" y="1080000"/>
                  </a:cubicBezTo>
                  <a:lnTo>
                    <a:pt x="0" y="1080000"/>
                  </a:lnTo>
                  <a:cubicBezTo>
                    <a:pt x="0" y="483532"/>
                    <a:pt x="483532" y="0"/>
                    <a:pt x="108000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组合 10"/>
          <p:cNvGrpSpPr/>
          <p:nvPr/>
        </p:nvGrpSpPr>
        <p:grpSpPr>
          <a:xfrm>
            <a:off x="585720" y="333360"/>
            <a:ext cx="3606840" cy="949320"/>
            <a:chOff x="585720" y="333360"/>
            <a:chExt cx="3606840" cy="949320"/>
          </a:xfrm>
        </p:grpSpPr>
        <p:grpSp>
          <p:nvGrpSpPr>
            <p:cNvPr id="256" name="组合 11"/>
            <p:cNvGrpSpPr/>
            <p:nvPr/>
          </p:nvGrpSpPr>
          <p:grpSpPr>
            <a:xfrm>
              <a:off x="585720" y="333360"/>
              <a:ext cx="3606840" cy="949320"/>
              <a:chOff x="585720" y="333360"/>
              <a:chExt cx="3606840" cy="949320"/>
            </a:xfrm>
          </p:grpSpPr>
          <p:sp>
            <p:nvSpPr>
              <p:cNvPr id="257" name="圆角矩形 13"/>
              <p:cNvSpPr/>
              <p:nvPr/>
            </p:nvSpPr>
            <p:spPr>
              <a:xfrm>
                <a:off x="585720" y="333360"/>
                <a:ext cx="3606840" cy="949320"/>
              </a:xfrm>
              <a:prstGeom prst="roundRect">
                <a:avLst>
                  <a:gd name="adj" fmla="val 11782"/>
                </a:avLst>
              </a:prstGeom>
              <a:gradFill rotWithShape="0">
                <a:gsLst>
                  <a:gs pos="0">
                    <a:srgbClr val="f5f5f5"/>
                  </a:gs>
                  <a:gs pos="100000">
                    <a:srgbClr val="f2f2f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圆角矩形 4"/>
              <p:cNvSpPr/>
              <p:nvPr/>
            </p:nvSpPr>
            <p:spPr>
              <a:xfrm>
                <a:off x="585720" y="333360"/>
                <a:ext cx="753480" cy="9493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7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Britannic Bold"/>
                  </a:rPr>
                  <a:t>0+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9" name="TextBox 12"/>
            <p:cNvSpPr/>
            <p:nvPr/>
          </p:nvSpPr>
          <p:spPr>
            <a:xfrm>
              <a:off x="1986480" y="54648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更多旋转角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主体圆"/>
          <p:cNvSpPr/>
          <p:nvPr/>
        </p:nvSpPr>
        <p:spPr>
          <a:xfrm>
            <a:off x="3492360" y="1793880"/>
            <a:ext cx="2159280" cy="216072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组合1"/>
          <p:cNvGrpSpPr/>
          <p:nvPr/>
        </p:nvGrpSpPr>
        <p:grpSpPr>
          <a:xfrm>
            <a:off x="3492360" y="1793880"/>
            <a:ext cx="2159280" cy="2160720"/>
            <a:chOff x="3492360" y="1793880"/>
            <a:chExt cx="2159280" cy="2160720"/>
          </a:xfrm>
        </p:grpSpPr>
        <p:sp>
          <p:nvSpPr>
            <p:cNvPr id="262" name="圆形补位" hidden="1"/>
            <p:cNvSpPr/>
            <p:nvPr/>
          </p:nvSpPr>
          <p:spPr>
            <a:xfrm>
              <a:off x="3492360" y="1793880"/>
              <a:ext cx="2159280" cy="2160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半圆"/>
            <p:cNvSpPr/>
            <p:nvPr/>
          </p:nvSpPr>
          <p:spPr>
            <a:xfrm>
              <a:off x="3492360" y="1793880"/>
              <a:ext cx="2159280" cy="1080360"/>
            </a:xfrm>
            <a:custGeom>
              <a:avLst/>
              <a:gdLst>
                <a:gd name="textAreaLeft" fmla="*/ 0 w 2159280"/>
                <a:gd name="textAreaRight" fmla="*/ 2159640 w 2159280"/>
                <a:gd name="textAreaTop" fmla="*/ 0 h 1080360"/>
                <a:gd name="textAreaBottom" fmla="*/ 1080720 h 1080360"/>
              </a:gdLst>
              <a:ahLst/>
              <a:rect l="textAreaLeft" t="textAreaTop" r="textAreaRight" b="textAreaBottom"/>
              <a:pathLst>
                <a:path w="2160000" h="1080000">
                  <a:moveTo>
                    <a:pt x="1080000" y="0"/>
                  </a:moveTo>
                  <a:cubicBezTo>
                    <a:pt x="1676468" y="0"/>
                    <a:pt x="2160000" y="483532"/>
                    <a:pt x="2160000" y="1080000"/>
                  </a:cubicBezTo>
                  <a:lnTo>
                    <a:pt x="0" y="1080000"/>
                  </a:lnTo>
                  <a:cubicBezTo>
                    <a:pt x="0" y="483532"/>
                    <a:pt x="483532" y="0"/>
                    <a:pt x="108000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组合2"/>
          <p:cNvGrpSpPr/>
          <p:nvPr/>
        </p:nvGrpSpPr>
        <p:grpSpPr>
          <a:xfrm>
            <a:off x="3492360" y="1793880"/>
            <a:ext cx="2159280" cy="2160720"/>
            <a:chOff x="3492360" y="1793880"/>
            <a:chExt cx="2159280" cy="2160720"/>
          </a:xfrm>
        </p:grpSpPr>
        <p:sp>
          <p:nvSpPr>
            <p:cNvPr id="265" name="圆形补位" hidden="1"/>
            <p:cNvSpPr/>
            <p:nvPr/>
          </p:nvSpPr>
          <p:spPr>
            <a:xfrm>
              <a:off x="3492360" y="1793880"/>
              <a:ext cx="2159280" cy="2160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半圆"/>
            <p:cNvSpPr/>
            <p:nvPr/>
          </p:nvSpPr>
          <p:spPr>
            <a:xfrm>
              <a:off x="3492360" y="1793880"/>
              <a:ext cx="2159280" cy="1080360"/>
            </a:xfrm>
            <a:custGeom>
              <a:avLst/>
              <a:gdLst>
                <a:gd name="textAreaLeft" fmla="*/ 0 w 2159280"/>
                <a:gd name="textAreaRight" fmla="*/ 2159640 w 2159280"/>
                <a:gd name="textAreaTop" fmla="*/ 0 h 1080360"/>
                <a:gd name="textAreaBottom" fmla="*/ 1080720 h 1080360"/>
              </a:gdLst>
              <a:ahLst/>
              <a:rect l="textAreaLeft" t="textAreaTop" r="textAreaRight" b="textAreaBottom"/>
              <a:pathLst>
                <a:path w="2160000" h="1080000">
                  <a:moveTo>
                    <a:pt x="1080000" y="0"/>
                  </a:moveTo>
                  <a:cubicBezTo>
                    <a:pt x="1676468" y="0"/>
                    <a:pt x="2160000" y="483532"/>
                    <a:pt x="2160000" y="1080000"/>
                  </a:cubicBezTo>
                  <a:lnTo>
                    <a:pt x="0" y="1080000"/>
                  </a:lnTo>
                  <a:cubicBezTo>
                    <a:pt x="0" y="483532"/>
                    <a:pt x="483532" y="0"/>
                    <a:pt x="108000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主体圆"/>
          <p:cNvSpPr/>
          <p:nvPr/>
        </p:nvSpPr>
        <p:spPr>
          <a:xfrm>
            <a:off x="6227640" y="1773360"/>
            <a:ext cx="2160720" cy="216036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组合1"/>
          <p:cNvGrpSpPr/>
          <p:nvPr/>
        </p:nvGrpSpPr>
        <p:grpSpPr>
          <a:xfrm>
            <a:off x="6227640" y="1773360"/>
            <a:ext cx="2160720" cy="2160360"/>
            <a:chOff x="6227640" y="1773360"/>
            <a:chExt cx="2160720" cy="2160360"/>
          </a:xfrm>
        </p:grpSpPr>
        <p:sp>
          <p:nvSpPr>
            <p:cNvPr id="269" name="圆形补位" hidden="1"/>
            <p:cNvSpPr/>
            <p:nvPr/>
          </p:nvSpPr>
          <p:spPr>
            <a:xfrm>
              <a:off x="6227640" y="1773360"/>
              <a:ext cx="2160720" cy="2160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半圆"/>
            <p:cNvSpPr/>
            <p:nvPr/>
          </p:nvSpPr>
          <p:spPr>
            <a:xfrm>
              <a:off x="6227640" y="1773360"/>
              <a:ext cx="2160720" cy="1080000"/>
            </a:xfrm>
            <a:custGeom>
              <a:avLst/>
              <a:gdLst>
                <a:gd name="textAreaLeft" fmla="*/ 0 w 2160720"/>
                <a:gd name="textAreaRight" fmla="*/ 2161080 w 2160720"/>
                <a:gd name="textAreaTop" fmla="*/ 0 h 1080000"/>
                <a:gd name="textAreaBottom" fmla="*/ 1080360 h 1080000"/>
              </a:gdLst>
              <a:ahLst/>
              <a:rect l="textAreaLeft" t="textAreaTop" r="textAreaRight" b="textAreaBottom"/>
              <a:pathLst>
                <a:path w="2160000" h="1080000">
                  <a:moveTo>
                    <a:pt x="1080000" y="0"/>
                  </a:moveTo>
                  <a:cubicBezTo>
                    <a:pt x="1676468" y="0"/>
                    <a:pt x="2160000" y="483532"/>
                    <a:pt x="2160000" y="1080000"/>
                  </a:cubicBezTo>
                  <a:lnTo>
                    <a:pt x="0" y="1080000"/>
                  </a:lnTo>
                  <a:cubicBezTo>
                    <a:pt x="0" y="483532"/>
                    <a:pt x="483532" y="0"/>
                    <a:pt x="108000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组合2"/>
          <p:cNvGrpSpPr/>
          <p:nvPr/>
        </p:nvGrpSpPr>
        <p:grpSpPr>
          <a:xfrm>
            <a:off x="6227640" y="1773360"/>
            <a:ext cx="2160720" cy="2160360"/>
            <a:chOff x="6227640" y="1773360"/>
            <a:chExt cx="2160720" cy="2160360"/>
          </a:xfrm>
        </p:grpSpPr>
        <p:sp>
          <p:nvSpPr>
            <p:cNvPr id="272" name="圆形补位" hidden="1"/>
            <p:cNvSpPr/>
            <p:nvPr/>
          </p:nvSpPr>
          <p:spPr>
            <a:xfrm>
              <a:off x="6227640" y="1773360"/>
              <a:ext cx="2160720" cy="2160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半圆"/>
            <p:cNvSpPr/>
            <p:nvPr/>
          </p:nvSpPr>
          <p:spPr>
            <a:xfrm>
              <a:off x="6227640" y="1773360"/>
              <a:ext cx="2160720" cy="1080000"/>
            </a:xfrm>
            <a:custGeom>
              <a:avLst/>
              <a:gdLst>
                <a:gd name="textAreaLeft" fmla="*/ 0 w 2160720"/>
                <a:gd name="textAreaRight" fmla="*/ 2161080 w 2160720"/>
                <a:gd name="textAreaTop" fmla="*/ 0 h 1080000"/>
                <a:gd name="textAreaBottom" fmla="*/ 1080360 h 1080000"/>
              </a:gdLst>
              <a:ahLst/>
              <a:rect l="textAreaLeft" t="textAreaTop" r="textAreaRight" b="textAreaBottom"/>
              <a:pathLst>
                <a:path w="2160000" h="1080000">
                  <a:moveTo>
                    <a:pt x="1080000" y="0"/>
                  </a:moveTo>
                  <a:cubicBezTo>
                    <a:pt x="1676468" y="0"/>
                    <a:pt x="2160000" y="483532"/>
                    <a:pt x="2160000" y="1080000"/>
                  </a:cubicBezTo>
                  <a:lnTo>
                    <a:pt x="0" y="1080000"/>
                  </a:lnTo>
                  <a:cubicBezTo>
                    <a:pt x="0" y="483532"/>
                    <a:pt x="483532" y="0"/>
                    <a:pt x="108000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主体圆"/>
          <p:cNvSpPr/>
          <p:nvPr/>
        </p:nvSpPr>
        <p:spPr>
          <a:xfrm>
            <a:off x="2195640" y="4221000"/>
            <a:ext cx="2160360" cy="216072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组合1"/>
          <p:cNvGrpSpPr/>
          <p:nvPr/>
        </p:nvGrpSpPr>
        <p:grpSpPr>
          <a:xfrm>
            <a:off x="2195640" y="4221000"/>
            <a:ext cx="2160360" cy="2160720"/>
            <a:chOff x="2195640" y="4221000"/>
            <a:chExt cx="2160360" cy="2160720"/>
          </a:xfrm>
        </p:grpSpPr>
        <p:sp>
          <p:nvSpPr>
            <p:cNvPr id="276" name="圆形补位" hidden="1"/>
            <p:cNvSpPr/>
            <p:nvPr/>
          </p:nvSpPr>
          <p:spPr>
            <a:xfrm>
              <a:off x="2195640" y="4221000"/>
              <a:ext cx="2160360" cy="2160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半圆"/>
            <p:cNvSpPr/>
            <p:nvPr/>
          </p:nvSpPr>
          <p:spPr>
            <a:xfrm>
              <a:off x="2195640" y="4221000"/>
              <a:ext cx="2160360" cy="1080360"/>
            </a:xfrm>
            <a:custGeom>
              <a:avLst/>
              <a:gdLst>
                <a:gd name="textAreaLeft" fmla="*/ 0 w 2160360"/>
                <a:gd name="textAreaRight" fmla="*/ 2160720 w 2160360"/>
                <a:gd name="textAreaTop" fmla="*/ 0 h 1080360"/>
                <a:gd name="textAreaBottom" fmla="*/ 1080720 h 1080360"/>
              </a:gdLst>
              <a:ahLst/>
              <a:rect l="textAreaLeft" t="textAreaTop" r="textAreaRight" b="textAreaBottom"/>
              <a:pathLst>
                <a:path w="2160000" h="1080000">
                  <a:moveTo>
                    <a:pt x="1080000" y="0"/>
                  </a:moveTo>
                  <a:cubicBezTo>
                    <a:pt x="1676468" y="0"/>
                    <a:pt x="2160000" y="483532"/>
                    <a:pt x="2160000" y="1080000"/>
                  </a:cubicBezTo>
                  <a:lnTo>
                    <a:pt x="0" y="1080000"/>
                  </a:lnTo>
                  <a:cubicBezTo>
                    <a:pt x="0" y="483532"/>
                    <a:pt x="483532" y="0"/>
                    <a:pt x="108000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" name="组合2"/>
          <p:cNvGrpSpPr/>
          <p:nvPr/>
        </p:nvGrpSpPr>
        <p:grpSpPr>
          <a:xfrm>
            <a:off x="2195640" y="4221000"/>
            <a:ext cx="2160360" cy="2160720"/>
            <a:chOff x="2195640" y="4221000"/>
            <a:chExt cx="2160360" cy="2160720"/>
          </a:xfrm>
        </p:grpSpPr>
        <p:sp>
          <p:nvSpPr>
            <p:cNvPr id="279" name="圆形补位" hidden="1"/>
            <p:cNvSpPr/>
            <p:nvPr/>
          </p:nvSpPr>
          <p:spPr>
            <a:xfrm>
              <a:off x="2195640" y="4221000"/>
              <a:ext cx="2160360" cy="2160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半圆"/>
            <p:cNvSpPr/>
            <p:nvPr/>
          </p:nvSpPr>
          <p:spPr>
            <a:xfrm>
              <a:off x="2195640" y="4221000"/>
              <a:ext cx="2160360" cy="1080360"/>
            </a:xfrm>
            <a:custGeom>
              <a:avLst/>
              <a:gdLst>
                <a:gd name="textAreaLeft" fmla="*/ 0 w 2160360"/>
                <a:gd name="textAreaRight" fmla="*/ 2160720 w 2160360"/>
                <a:gd name="textAreaTop" fmla="*/ 0 h 1080360"/>
                <a:gd name="textAreaBottom" fmla="*/ 1080720 h 1080360"/>
              </a:gdLst>
              <a:ahLst/>
              <a:rect l="textAreaLeft" t="textAreaTop" r="textAreaRight" b="textAreaBottom"/>
              <a:pathLst>
                <a:path w="2160000" h="1080000">
                  <a:moveTo>
                    <a:pt x="1080000" y="0"/>
                  </a:moveTo>
                  <a:cubicBezTo>
                    <a:pt x="1676468" y="0"/>
                    <a:pt x="2160000" y="483532"/>
                    <a:pt x="2160000" y="1080000"/>
                  </a:cubicBezTo>
                  <a:lnTo>
                    <a:pt x="0" y="1080000"/>
                  </a:lnTo>
                  <a:cubicBezTo>
                    <a:pt x="0" y="483532"/>
                    <a:pt x="483532" y="0"/>
                    <a:pt x="108000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主体圆"/>
          <p:cNvSpPr/>
          <p:nvPr/>
        </p:nvSpPr>
        <p:spPr>
          <a:xfrm>
            <a:off x="5003640" y="4197240"/>
            <a:ext cx="2160720" cy="216072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组合1"/>
          <p:cNvGrpSpPr/>
          <p:nvPr/>
        </p:nvGrpSpPr>
        <p:grpSpPr>
          <a:xfrm>
            <a:off x="5003640" y="4197240"/>
            <a:ext cx="2160720" cy="2160720"/>
            <a:chOff x="5003640" y="4197240"/>
            <a:chExt cx="2160720" cy="2160720"/>
          </a:xfrm>
        </p:grpSpPr>
        <p:sp>
          <p:nvSpPr>
            <p:cNvPr id="283" name="圆形补位" hidden="1"/>
            <p:cNvSpPr/>
            <p:nvPr/>
          </p:nvSpPr>
          <p:spPr>
            <a:xfrm>
              <a:off x="5003640" y="4197240"/>
              <a:ext cx="2160720" cy="2160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半圆"/>
            <p:cNvSpPr/>
            <p:nvPr/>
          </p:nvSpPr>
          <p:spPr>
            <a:xfrm>
              <a:off x="5003640" y="4197240"/>
              <a:ext cx="2160720" cy="1080360"/>
            </a:xfrm>
            <a:custGeom>
              <a:avLst/>
              <a:gdLst>
                <a:gd name="textAreaLeft" fmla="*/ 0 w 2160720"/>
                <a:gd name="textAreaRight" fmla="*/ 2161080 w 2160720"/>
                <a:gd name="textAreaTop" fmla="*/ 0 h 1080360"/>
                <a:gd name="textAreaBottom" fmla="*/ 1080720 h 1080360"/>
              </a:gdLst>
              <a:ahLst/>
              <a:rect l="textAreaLeft" t="textAreaTop" r="textAreaRight" b="textAreaBottom"/>
              <a:pathLst>
                <a:path w="2160000" h="1080000">
                  <a:moveTo>
                    <a:pt x="1080000" y="0"/>
                  </a:moveTo>
                  <a:cubicBezTo>
                    <a:pt x="1676468" y="0"/>
                    <a:pt x="2160000" y="483532"/>
                    <a:pt x="2160000" y="1080000"/>
                  </a:cubicBezTo>
                  <a:lnTo>
                    <a:pt x="0" y="1080000"/>
                  </a:lnTo>
                  <a:cubicBezTo>
                    <a:pt x="0" y="483532"/>
                    <a:pt x="483532" y="0"/>
                    <a:pt x="108000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组合2"/>
          <p:cNvGrpSpPr/>
          <p:nvPr/>
        </p:nvGrpSpPr>
        <p:grpSpPr>
          <a:xfrm>
            <a:off x="5003640" y="4197240"/>
            <a:ext cx="2160720" cy="2160720"/>
            <a:chOff x="5003640" y="4197240"/>
            <a:chExt cx="2160720" cy="2160720"/>
          </a:xfrm>
        </p:grpSpPr>
        <p:sp>
          <p:nvSpPr>
            <p:cNvPr id="286" name="圆形补位" hidden="1"/>
            <p:cNvSpPr/>
            <p:nvPr/>
          </p:nvSpPr>
          <p:spPr>
            <a:xfrm>
              <a:off x="5003640" y="4197240"/>
              <a:ext cx="2160720" cy="2160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半圆"/>
            <p:cNvSpPr/>
            <p:nvPr/>
          </p:nvSpPr>
          <p:spPr>
            <a:xfrm>
              <a:off x="5003640" y="4197240"/>
              <a:ext cx="2160720" cy="1080360"/>
            </a:xfrm>
            <a:custGeom>
              <a:avLst/>
              <a:gdLst>
                <a:gd name="textAreaLeft" fmla="*/ 0 w 2160720"/>
                <a:gd name="textAreaRight" fmla="*/ 2161080 w 2160720"/>
                <a:gd name="textAreaTop" fmla="*/ 0 h 1080360"/>
                <a:gd name="textAreaBottom" fmla="*/ 1080720 h 1080360"/>
              </a:gdLst>
              <a:ahLst/>
              <a:rect l="textAreaLeft" t="textAreaTop" r="textAreaRight" b="textAreaBottom"/>
              <a:pathLst>
                <a:path w="2160000" h="1080000">
                  <a:moveTo>
                    <a:pt x="1080000" y="0"/>
                  </a:moveTo>
                  <a:cubicBezTo>
                    <a:pt x="1676468" y="0"/>
                    <a:pt x="2160000" y="483532"/>
                    <a:pt x="2160000" y="1080000"/>
                  </a:cubicBezTo>
                  <a:lnTo>
                    <a:pt x="0" y="1080000"/>
                  </a:lnTo>
                  <a:cubicBezTo>
                    <a:pt x="0" y="483532"/>
                    <a:pt x="483532" y="0"/>
                    <a:pt x="108000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8" name="Picture 2" descr=""/>
          <p:cNvPicPr/>
          <p:nvPr/>
        </p:nvPicPr>
        <p:blipFill>
          <a:blip r:embed="rId6"/>
          <a:stretch/>
        </p:blipFill>
        <p:spPr>
          <a:xfrm>
            <a:off x="6173640" y="411120"/>
            <a:ext cx="2646360" cy="10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9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290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1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组合 21"/>
          <p:cNvGrpSpPr/>
          <p:nvPr/>
        </p:nvGrpSpPr>
        <p:grpSpPr>
          <a:xfrm>
            <a:off x="585720" y="333360"/>
            <a:ext cx="3606840" cy="949320"/>
            <a:chOff x="585720" y="333360"/>
            <a:chExt cx="3606840" cy="949320"/>
          </a:xfrm>
        </p:grpSpPr>
        <p:grpSp>
          <p:nvGrpSpPr>
            <p:cNvPr id="92" name="组合 22"/>
            <p:cNvGrpSpPr/>
            <p:nvPr/>
          </p:nvGrpSpPr>
          <p:grpSpPr>
            <a:xfrm>
              <a:off x="585720" y="333360"/>
              <a:ext cx="3606840" cy="949320"/>
              <a:chOff x="585720" y="333360"/>
              <a:chExt cx="3606840" cy="949320"/>
            </a:xfrm>
          </p:grpSpPr>
          <p:sp>
            <p:nvSpPr>
              <p:cNvPr id="93" name="圆角矩形 24"/>
              <p:cNvSpPr/>
              <p:nvPr/>
            </p:nvSpPr>
            <p:spPr>
              <a:xfrm>
                <a:off x="585720" y="333360"/>
                <a:ext cx="3606840" cy="949320"/>
              </a:xfrm>
              <a:prstGeom prst="roundRect">
                <a:avLst>
                  <a:gd name="adj" fmla="val 11782"/>
                </a:avLst>
              </a:prstGeom>
              <a:gradFill rotWithShape="0">
                <a:gsLst>
                  <a:gs pos="0">
                    <a:srgbClr val="f5f5f5"/>
                  </a:gs>
                  <a:gs pos="100000">
                    <a:srgbClr val="f2f2f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圆角矩形 4"/>
              <p:cNvSpPr/>
              <p:nvPr/>
            </p:nvSpPr>
            <p:spPr>
              <a:xfrm>
                <a:off x="585720" y="333360"/>
                <a:ext cx="753480" cy="9493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7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Britannic Bold"/>
                  </a:rPr>
                  <a:t>00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" name="TextBox 23"/>
            <p:cNvSpPr/>
            <p:nvPr/>
          </p:nvSpPr>
          <p:spPr>
            <a:xfrm>
              <a:off x="2161080" y="54648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拆分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611280" y="1795320"/>
            <a:ext cx="2566800" cy="2943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"/>
          <p:cNvPicPr/>
          <p:nvPr/>
        </p:nvPicPr>
        <p:blipFill>
          <a:blip r:embed="rId2"/>
          <a:stretch/>
        </p:blipFill>
        <p:spPr>
          <a:xfrm>
            <a:off x="3419640" y="2095560"/>
            <a:ext cx="2315880" cy="20145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"/>
          <p:cNvPicPr/>
          <p:nvPr/>
        </p:nvPicPr>
        <p:blipFill>
          <a:blip r:embed="rId3"/>
          <a:stretch/>
        </p:blipFill>
        <p:spPr>
          <a:xfrm>
            <a:off x="5940360" y="2789280"/>
            <a:ext cx="2441520" cy="957240"/>
          </a:xfrm>
          <a:prstGeom prst="rect">
            <a:avLst/>
          </a:prstGeom>
          <a:ln w="0">
            <a:noFill/>
          </a:ln>
        </p:spPr>
      </p:pic>
      <p:sp>
        <p:nvSpPr>
          <p:cNvPr id="99" name="TextBox 26"/>
          <p:cNvSpPr/>
          <p:nvPr/>
        </p:nvSpPr>
        <p:spPr>
          <a:xfrm>
            <a:off x="1620720" y="443700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30"/>
          <p:cNvSpPr/>
          <p:nvPr/>
        </p:nvSpPr>
        <p:spPr>
          <a:xfrm>
            <a:off x="4275720" y="4437000"/>
            <a:ext cx="69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拼接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31"/>
          <p:cNvSpPr/>
          <p:nvPr/>
        </p:nvSpPr>
        <p:spPr>
          <a:xfrm>
            <a:off x="6810120" y="4437000"/>
            <a:ext cx="69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拼接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组合 21"/>
          <p:cNvGrpSpPr/>
          <p:nvPr/>
        </p:nvGrpSpPr>
        <p:grpSpPr>
          <a:xfrm>
            <a:off x="585720" y="333360"/>
            <a:ext cx="3606840" cy="949320"/>
            <a:chOff x="585720" y="333360"/>
            <a:chExt cx="3606840" cy="949320"/>
          </a:xfrm>
        </p:grpSpPr>
        <p:grpSp>
          <p:nvGrpSpPr>
            <p:cNvPr id="103" name="组合 22"/>
            <p:cNvGrpSpPr/>
            <p:nvPr/>
          </p:nvGrpSpPr>
          <p:grpSpPr>
            <a:xfrm>
              <a:off x="585720" y="333360"/>
              <a:ext cx="3606840" cy="949320"/>
              <a:chOff x="585720" y="333360"/>
              <a:chExt cx="3606840" cy="949320"/>
            </a:xfrm>
          </p:grpSpPr>
          <p:sp>
            <p:nvSpPr>
              <p:cNvPr id="104" name="圆角矩形 24"/>
              <p:cNvSpPr/>
              <p:nvPr/>
            </p:nvSpPr>
            <p:spPr>
              <a:xfrm>
                <a:off x="585720" y="333360"/>
                <a:ext cx="3606840" cy="949320"/>
              </a:xfrm>
              <a:prstGeom prst="roundRect">
                <a:avLst>
                  <a:gd name="adj" fmla="val 11782"/>
                </a:avLst>
              </a:prstGeom>
              <a:gradFill rotWithShape="0">
                <a:gsLst>
                  <a:gs pos="0">
                    <a:srgbClr val="f5f5f5"/>
                  </a:gs>
                  <a:gs pos="100000">
                    <a:srgbClr val="f2f2f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圆角矩形 4"/>
              <p:cNvSpPr/>
              <p:nvPr/>
            </p:nvSpPr>
            <p:spPr>
              <a:xfrm>
                <a:off x="585720" y="333360"/>
                <a:ext cx="753480" cy="9493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7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Britannic Bold"/>
                  </a:rPr>
                  <a:t>01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" name="TextBox 23"/>
            <p:cNvSpPr/>
            <p:nvPr/>
          </p:nvSpPr>
          <p:spPr>
            <a:xfrm>
              <a:off x="2019960" y="5464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素材准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椭圆 31"/>
          <p:cNvSpPr/>
          <p:nvPr/>
        </p:nvSpPr>
        <p:spPr>
          <a:xfrm>
            <a:off x="2050920" y="1778040"/>
            <a:ext cx="2160720" cy="21607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组合 2"/>
          <p:cNvGrpSpPr/>
          <p:nvPr/>
        </p:nvGrpSpPr>
        <p:grpSpPr>
          <a:xfrm>
            <a:off x="5003640" y="1798560"/>
            <a:ext cx="2160720" cy="2160720"/>
            <a:chOff x="5003640" y="1798560"/>
            <a:chExt cx="2160720" cy="2160720"/>
          </a:xfrm>
        </p:grpSpPr>
        <p:sp>
          <p:nvSpPr>
            <p:cNvPr id="109" name="椭圆 32"/>
            <p:cNvSpPr/>
            <p:nvPr/>
          </p:nvSpPr>
          <p:spPr>
            <a:xfrm>
              <a:off x="5003640" y="1798560"/>
              <a:ext cx="2160720" cy="2160720"/>
            </a:xfrm>
            <a:prstGeom prst="ellipse">
              <a:avLst/>
            </a:prstGeom>
            <a:solidFill>
              <a:srgbClr val="0070c0">
                <a:alpha val="4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椭圆 33"/>
            <p:cNvSpPr/>
            <p:nvPr/>
          </p:nvSpPr>
          <p:spPr>
            <a:xfrm>
              <a:off x="5003640" y="1798560"/>
              <a:ext cx="2160720" cy="1080360"/>
            </a:xfrm>
            <a:custGeom>
              <a:avLst/>
              <a:gdLst>
                <a:gd name="textAreaLeft" fmla="*/ 0 w 2160720"/>
                <a:gd name="textAreaRight" fmla="*/ 2161080 w 2160720"/>
                <a:gd name="textAreaTop" fmla="*/ 0 h 1080360"/>
                <a:gd name="textAreaBottom" fmla="*/ 1080720 h 1080360"/>
              </a:gdLst>
              <a:ahLst/>
              <a:rect l="textAreaLeft" t="textAreaTop" r="textAreaRight" b="textAreaBottom"/>
              <a:pathLst>
                <a:path w="2160000" h="1080000">
                  <a:moveTo>
                    <a:pt x="1080000" y="0"/>
                  </a:moveTo>
                  <a:cubicBezTo>
                    <a:pt x="1676468" y="0"/>
                    <a:pt x="2160000" y="483532"/>
                    <a:pt x="2160000" y="1080000"/>
                  </a:cubicBezTo>
                  <a:lnTo>
                    <a:pt x="0" y="1080000"/>
                  </a:lnTo>
                  <a:cubicBezTo>
                    <a:pt x="0" y="483532"/>
                    <a:pt x="483532" y="0"/>
                    <a:pt x="1080000" y="0"/>
                  </a:cubicBez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TextBox 36"/>
          <p:cNvSpPr/>
          <p:nvPr/>
        </p:nvSpPr>
        <p:spPr>
          <a:xfrm>
            <a:off x="2590200" y="4181400"/>
            <a:ext cx="10965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体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6cm*6c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37"/>
          <p:cNvSpPr/>
          <p:nvPr/>
        </p:nvSpPr>
        <p:spPr>
          <a:xfrm>
            <a:off x="5214600" y="4181400"/>
            <a:ext cx="17323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组合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半圆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3cm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*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6c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圆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6cm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*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6c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16"/>
          <p:cNvSpPr/>
          <p:nvPr/>
        </p:nvSpPr>
        <p:spPr>
          <a:xfrm>
            <a:off x="2987640" y="5292720"/>
            <a:ext cx="3441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c00000"/>
                </a:solidFill>
                <a:latin typeface="微软雅黑"/>
                <a:ea typeface="微软雅黑"/>
              </a:rPr>
              <a:t>注：半圆通过圆形状剪除矩形得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c00000"/>
                </a:solidFill>
                <a:latin typeface="微软雅黑"/>
                <a:ea typeface="微软雅黑"/>
              </a:rPr>
              <a:t>      </a:t>
            </a:r>
            <a:r>
              <a:rPr b="0" lang="zh-CN" sz="1600" spc="-1" strike="noStrike">
                <a:solidFill>
                  <a:srgbClr val="c00000"/>
                </a:solidFill>
                <a:latin typeface="微软雅黑"/>
                <a:ea typeface="微软雅黑"/>
              </a:rPr>
              <a:t>设置素材的线条为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组合 21"/>
          <p:cNvGrpSpPr/>
          <p:nvPr/>
        </p:nvGrpSpPr>
        <p:grpSpPr>
          <a:xfrm>
            <a:off x="585720" y="333360"/>
            <a:ext cx="3606840" cy="949320"/>
            <a:chOff x="585720" y="333360"/>
            <a:chExt cx="3606840" cy="949320"/>
          </a:xfrm>
        </p:grpSpPr>
        <p:grpSp>
          <p:nvGrpSpPr>
            <p:cNvPr id="115" name="组合 22"/>
            <p:cNvGrpSpPr/>
            <p:nvPr/>
          </p:nvGrpSpPr>
          <p:grpSpPr>
            <a:xfrm>
              <a:off x="585720" y="333360"/>
              <a:ext cx="3606840" cy="949320"/>
              <a:chOff x="585720" y="333360"/>
              <a:chExt cx="3606840" cy="949320"/>
            </a:xfrm>
          </p:grpSpPr>
          <p:sp>
            <p:nvSpPr>
              <p:cNvPr id="116" name="圆角矩形 24"/>
              <p:cNvSpPr/>
              <p:nvPr/>
            </p:nvSpPr>
            <p:spPr>
              <a:xfrm>
                <a:off x="585720" y="333360"/>
                <a:ext cx="3606840" cy="949320"/>
              </a:xfrm>
              <a:prstGeom prst="roundRect">
                <a:avLst>
                  <a:gd name="adj" fmla="val 11782"/>
                </a:avLst>
              </a:prstGeom>
              <a:gradFill rotWithShape="0">
                <a:gsLst>
                  <a:gs pos="0">
                    <a:srgbClr val="f5f5f5"/>
                  </a:gs>
                  <a:gs pos="100000">
                    <a:srgbClr val="f2f2f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圆角矩形 4"/>
              <p:cNvSpPr/>
              <p:nvPr/>
            </p:nvSpPr>
            <p:spPr>
              <a:xfrm>
                <a:off x="585720" y="333360"/>
                <a:ext cx="753480" cy="9493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7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Britannic Bold"/>
                  </a:rPr>
                  <a:t>02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" name="TextBox 23"/>
            <p:cNvSpPr/>
            <p:nvPr/>
          </p:nvSpPr>
          <p:spPr>
            <a:xfrm>
              <a:off x="2019960" y="5464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主体制作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椭圆 27"/>
          <p:cNvSpPr/>
          <p:nvPr/>
        </p:nvSpPr>
        <p:spPr>
          <a:xfrm>
            <a:off x="826920" y="3429000"/>
            <a:ext cx="2160720" cy="216072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28"/>
          <p:cNvSpPr/>
          <p:nvPr/>
        </p:nvSpPr>
        <p:spPr>
          <a:xfrm>
            <a:off x="1218600" y="194940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填充矩形渐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29"/>
          <p:cNvSpPr/>
          <p:nvPr/>
        </p:nvSpPr>
        <p:spPr>
          <a:xfrm>
            <a:off x="4017600" y="3789360"/>
            <a:ext cx="3553200" cy="17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3f3f3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填充类型：矩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3f3f3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方向：从左上角（最后一个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3f3f3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色块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蓝色，位置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49%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透明度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0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3f3f3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色块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蓝色，位置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50%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透明度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3f3f3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等腰三角形 14"/>
          <p:cNvSpPr/>
          <p:nvPr/>
        </p:nvSpPr>
        <p:spPr>
          <a:xfrm rot="5400000">
            <a:off x="639000" y="2032920"/>
            <a:ext cx="262080" cy="2253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0b0f0"/>
              </a:gs>
              <a:gs pos="100000">
                <a:srgbClr val="0070c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15"/>
          <p:cNvSpPr/>
          <p:nvPr/>
        </p:nvSpPr>
        <p:spPr>
          <a:xfrm>
            <a:off x="1197000" y="244800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a5a5"/>
                </a:solidFill>
                <a:latin typeface="微软雅黑"/>
                <a:ea typeface="微软雅黑"/>
              </a:rPr>
              <a:t>设置三维格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2"/>
          <a:stretch/>
        </p:blipFill>
        <p:spPr>
          <a:xfrm>
            <a:off x="3651120" y="2021040"/>
            <a:ext cx="3543480" cy="1623960"/>
          </a:xfrm>
          <a:prstGeom prst="rect">
            <a:avLst/>
          </a:prstGeom>
          <a:ln w="9360">
            <a:solidFill>
              <a:srgbClr val="bfbfbf"/>
            </a:solidFill>
            <a:miter/>
          </a:ln>
        </p:spPr>
      </p:pic>
      <p:sp>
        <p:nvSpPr>
          <p:cNvPr id="125" name="TextBox 16"/>
          <p:cNvSpPr/>
          <p:nvPr/>
        </p:nvSpPr>
        <p:spPr>
          <a:xfrm>
            <a:off x="1197000" y="292428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a5a5"/>
                </a:solidFill>
                <a:latin typeface="微软雅黑"/>
                <a:ea typeface="微软雅黑"/>
              </a:rPr>
              <a:t>设置三维旋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组合 21"/>
          <p:cNvGrpSpPr/>
          <p:nvPr/>
        </p:nvGrpSpPr>
        <p:grpSpPr>
          <a:xfrm>
            <a:off x="585720" y="333360"/>
            <a:ext cx="3606840" cy="949320"/>
            <a:chOff x="585720" y="333360"/>
            <a:chExt cx="3606840" cy="949320"/>
          </a:xfrm>
        </p:grpSpPr>
        <p:grpSp>
          <p:nvGrpSpPr>
            <p:cNvPr id="127" name="组合 22"/>
            <p:cNvGrpSpPr/>
            <p:nvPr/>
          </p:nvGrpSpPr>
          <p:grpSpPr>
            <a:xfrm>
              <a:off x="585720" y="333360"/>
              <a:ext cx="3606840" cy="949320"/>
              <a:chOff x="585720" y="333360"/>
              <a:chExt cx="3606840" cy="949320"/>
            </a:xfrm>
          </p:grpSpPr>
          <p:sp>
            <p:nvSpPr>
              <p:cNvPr id="128" name="圆角矩形 24"/>
              <p:cNvSpPr/>
              <p:nvPr/>
            </p:nvSpPr>
            <p:spPr>
              <a:xfrm>
                <a:off x="585720" y="333360"/>
                <a:ext cx="3606840" cy="949320"/>
              </a:xfrm>
              <a:prstGeom prst="roundRect">
                <a:avLst>
                  <a:gd name="adj" fmla="val 11782"/>
                </a:avLst>
              </a:prstGeom>
              <a:gradFill rotWithShape="0">
                <a:gsLst>
                  <a:gs pos="0">
                    <a:srgbClr val="f5f5f5"/>
                  </a:gs>
                  <a:gs pos="100000">
                    <a:srgbClr val="f2f2f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圆角矩形 4"/>
              <p:cNvSpPr/>
              <p:nvPr/>
            </p:nvSpPr>
            <p:spPr>
              <a:xfrm>
                <a:off x="585720" y="333360"/>
                <a:ext cx="753480" cy="9493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7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Britannic Bold"/>
                  </a:rPr>
                  <a:t>02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" name="TextBox 23"/>
            <p:cNvSpPr/>
            <p:nvPr/>
          </p:nvSpPr>
          <p:spPr>
            <a:xfrm>
              <a:off x="2019960" y="5464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主体制作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椭圆 27"/>
          <p:cNvSpPr/>
          <p:nvPr/>
        </p:nvSpPr>
        <p:spPr>
          <a:xfrm>
            <a:off x="828720" y="3429000"/>
            <a:ext cx="2158920" cy="216072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28"/>
          <p:cNvSpPr/>
          <p:nvPr/>
        </p:nvSpPr>
        <p:spPr>
          <a:xfrm>
            <a:off x="1218600" y="194940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a5a5"/>
                </a:solidFill>
                <a:latin typeface="微软雅黑"/>
                <a:ea typeface="微软雅黑"/>
              </a:rPr>
              <a:t>填充矩形渐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29"/>
          <p:cNvSpPr/>
          <p:nvPr/>
        </p:nvSpPr>
        <p:spPr>
          <a:xfrm>
            <a:off x="3918240" y="3095640"/>
            <a:ext cx="43081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三维格式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顶端宽度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=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顶端高度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=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底端宽度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=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底端高度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=85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等腰三角形 14"/>
          <p:cNvSpPr/>
          <p:nvPr/>
        </p:nvSpPr>
        <p:spPr>
          <a:xfrm rot="5400000">
            <a:off x="638280" y="2536920"/>
            <a:ext cx="263520" cy="2253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0b0f0"/>
              </a:gs>
              <a:gs pos="100000">
                <a:srgbClr val="0070c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15"/>
          <p:cNvSpPr/>
          <p:nvPr/>
        </p:nvSpPr>
        <p:spPr>
          <a:xfrm>
            <a:off x="1197000" y="244800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设置三维格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" descr=""/>
          <p:cNvPicPr/>
          <p:nvPr/>
        </p:nvPicPr>
        <p:blipFill>
          <a:blip r:embed="rId2"/>
          <a:stretch/>
        </p:blipFill>
        <p:spPr>
          <a:xfrm>
            <a:off x="3559320" y="1917720"/>
            <a:ext cx="2590560" cy="1057320"/>
          </a:xfrm>
          <a:prstGeom prst="rect">
            <a:avLst/>
          </a:prstGeom>
          <a:ln w="9360">
            <a:solidFill>
              <a:srgbClr val="bfbfbf"/>
            </a:solidFill>
            <a:miter/>
          </a:ln>
        </p:spPr>
      </p:pic>
      <p:sp>
        <p:nvSpPr>
          <p:cNvPr id="137" name="TextBox 16"/>
          <p:cNvSpPr/>
          <p:nvPr/>
        </p:nvSpPr>
        <p:spPr>
          <a:xfrm>
            <a:off x="3506040" y="4903920"/>
            <a:ext cx="20779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三维旋转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距地面高度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=85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3" descr=""/>
          <p:cNvPicPr/>
          <p:nvPr/>
        </p:nvPicPr>
        <p:blipFill>
          <a:blip r:embed="rId3"/>
          <a:stretch/>
        </p:blipFill>
        <p:spPr>
          <a:xfrm>
            <a:off x="3502080" y="4194000"/>
            <a:ext cx="2570040" cy="675000"/>
          </a:xfrm>
          <a:prstGeom prst="rect">
            <a:avLst/>
          </a:prstGeom>
          <a:ln w="9360">
            <a:solidFill>
              <a:srgbClr val="bfbfbf"/>
            </a:solidFill>
            <a:miter/>
          </a:ln>
        </p:spPr>
      </p:pic>
      <p:sp>
        <p:nvSpPr>
          <p:cNvPr id="139" name="TextBox 18"/>
          <p:cNvSpPr/>
          <p:nvPr/>
        </p:nvSpPr>
        <p:spPr>
          <a:xfrm>
            <a:off x="1197000" y="292428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a5a5"/>
                </a:solidFill>
                <a:latin typeface="微软雅黑"/>
                <a:ea typeface="微软雅黑"/>
              </a:rPr>
              <a:t>设置三维旋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组合 21"/>
          <p:cNvGrpSpPr/>
          <p:nvPr/>
        </p:nvGrpSpPr>
        <p:grpSpPr>
          <a:xfrm>
            <a:off x="585720" y="333360"/>
            <a:ext cx="3606840" cy="949320"/>
            <a:chOff x="585720" y="333360"/>
            <a:chExt cx="3606840" cy="949320"/>
          </a:xfrm>
        </p:grpSpPr>
        <p:grpSp>
          <p:nvGrpSpPr>
            <p:cNvPr id="141" name="组合 22"/>
            <p:cNvGrpSpPr/>
            <p:nvPr/>
          </p:nvGrpSpPr>
          <p:grpSpPr>
            <a:xfrm>
              <a:off x="585720" y="333360"/>
              <a:ext cx="3606840" cy="949320"/>
              <a:chOff x="585720" y="333360"/>
              <a:chExt cx="3606840" cy="949320"/>
            </a:xfrm>
          </p:grpSpPr>
          <p:sp>
            <p:nvSpPr>
              <p:cNvPr id="142" name="圆角矩形 24"/>
              <p:cNvSpPr/>
              <p:nvPr/>
            </p:nvSpPr>
            <p:spPr>
              <a:xfrm>
                <a:off x="585720" y="333360"/>
                <a:ext cx="3606840" cy="949320"/>
              </a:xfrm>
              <a:prstGeom prst="roundRect">
                <a:avLst>
                  <a:gd name="adj" fmla="val 11782"/>
                </a:avLst>
              </a:prstGeom>
              <a:gradFill rotWithShape="0">
                <a:gsLst>
                  <a:gs pos="0">
                    <a:srgbClr val="f5f5f5"/>
                  </a:gs>
                  <a:gs pos="100000">
                    <a:srgbClr val="f2f2f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圆角矩形 4"/>
              <p:cNvSpPr/>
              <p:nvPr/>
            </p:nvSpPr>
            <p:spPr>
              <a:xfrm>
                <a:off x="585720" y="333360"/>
                <a:ext cx="753480" cy="9493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7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Britannic Bold"/>
                  </a:rPr>
                  <a:t>02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" name="TextBox 23"/>
            <p:cNvSpPr/>
            <p:nvPr/>
          </p:nvSpPr>
          <p:spPr>
            <a:xfrm>
              <a:off x="2019960" y="5464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主体制作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椭圆 27"/>
          <p:cNvSpPr/>
          <p:nvPr/>
        </p:nvSpPr>
        <p:spPr>
          <a:xfrm>
            <a:off x="828720" y="3429000"/>
            <a:ext cx="2158920" cy="216072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28"/>
          <p:cNvSpPr/>
          <p:nvPr/>
        </p:nvSpPr>
        <p:spPr>
          <a:xfrm>
            <a:off x="1218600" y="194940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a5a5"/>
                </a:solidFill>
                <a:latin typeface="微软雅黑"/>
                <a:ea typeface="微软雅黑"/>
              </a:rPr>
              <a:t>填充矩形渐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等腰三角形 14"/>
          <p:cNvSpPr/>
          <p:nvPr/>
        </p:nvSpPr>
        <p:spPr>
          <a:xfrm rot="5400000">
            <a:off x="639000" y="3040920"/>
            <a:ext cx="262080" cy="2253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0b0f0"/>
              </a:gs>
              <a:gs pos="100000">
                <a:srgbClr val="0070c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15"/>
          <p:cNvSpPr/>
          <p:nvPr/>
        </p:nvSpPr>
        <p:spPr>
          <a:xfrm>
            <a:off x="1197000" y="244800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a5a5"/>
                </a:solidFill>
                <a:latin typeface="微软雅黑"/>
                <a:ea typeface="微软雅黑"/>
              </a:rPr>
              <a:t>设置三维格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18"/>
          <p:cNvSpPr/>
          <p:nvPr/>
        </p:nvSpPr>
        <p:spPr>
          <a:xfrm>
            <a:off x="1197000" y="292428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设置三维旋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19"/>
          <p:cNvSpPr/>
          <p:nvPr/>
        </p:nvSpPr>
        <p:spPr>
          <a:xfrm>
            <a:off x="5153040" y="4084560"/>
            <a:ext cx="10522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70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" descr=""/>
          <p:cNvPicPr/>
          <p:nvPr/>
        </p:nvPicPr>
        <p:blipFill>
          <a:blip r:embed="rId2"/>
          <a:stretch/>
        </p:blipFill>
        <p:spPr>
          <a:xfrm>
            <a:off x="4421160" y="1936800"/>
            <a:ext cx="2691000" cy="1852560"/>
          </a:xfrm>
          <a:prstGeom prst="rect">
            <a:avLst/>
          </a:prstGeom>
          <a:ln w="9360">
            <a:solidFill>
              <a:srgbClr val="bfbfb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组合 21"/>
          <p:cNvGrpSpPr/>
          <p:nvPr/>
        </p:nvGrpSpPr>
        <p:grpSpPr>
          <a:xfrm>
            <a:off x="585720" y="333360"/>
            <a:ext cx="3606840" cy="949320"/>
            <a:chOff x="585720" y="333360"/>
            <a:chExt cx="3606840" cy="949320"/>
          </a:xfrm>
        </p:grpSpPr>
        <p:grpSp>
          <p:nvGrpSpPr>
            <p:cNvPr id="153" name="组合 22"/>
            <p:cNvGrpSpPr/>
            <p:nvPr/>
          </p:nvGrpSpPr>
          <p:grpSpPr>
            <a:xfrm>
              <a:off x="585720" y="333360"/>
              <a:ext cx="3606840" cy="949320"/>
              <a:chOff x="585720" y="333360"/>
              <a:chExt cx="3606840" cy="949320"/>
            </a:xfrm>
          </p:grpSpPr>
          <p:sp>
            <p:nvSpPr>
              <p:cNvPr id="154" name="圆角矩形 24"/>
              <p:cNvSpPr/>
              <p:nvPr/>
            </p:nvSpPr>
            <p:spPr>
              <a:xfrm>
                <a:off x="585720" y="333360"/>
                <a:ext cx="3606840" cy="949320"/>
              </a:xfrm>
              <a:prstGeom prst="roundRect">
                <a:avLst>
                  <a:gd name="adj" fmla="val 11782"/>
                </a:avLst>
              </a:prstGeom>
              <a:gradFill rotWithShape="0">
                <a:gsLst>
                  <a:gs pos="0">
                    <a:srgbClr val="f5f5f5"/>
                  </a:gs>
                  <a:gs pos="100000">
                    <a:srgbClr val="f2f2f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圆角矩形 4"/>
              <p:cNvSpPr/>
              <p:nvPr/>
            </p:nvSpPr>
            <p:spPr>
              <a:xfrm>
                <a:off x="585720" y="333360"/>
                <a:ext cx="753480" cy="9493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7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Britannic Bold"/>
                  </a:rPr>
                  <a:t>03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6" name="TextBox 23"/>
            <p:cNvSpPr/>
            <p:nvPr/>
          </p:nvSpPr>
          <p:spPr>
            <a:xfrm>
              <a:off x="2023560" y="54648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拼接部分制作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TextBox 28"/>
          <p:cNvSpPr/>
          <p:nvPr/>
        </p:nvSpPr>
        <p:spPr>
          <a:xfrm>
            <a:off x="1218600" y="194940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填充射线渐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29"/>
          <p:cNvSpPr/>
          <p:nvPr/>
        </p:nvSpPr>
        <p:spPr>
          <a:xfrm>
            <a:off x="4269600" y="3718080"/>
            <a:ext cx="2523960" cy="17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操作对象：组合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填充类型：射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方向：中心辐射（最中间的那个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光圈：黄色、草黄色、浅蓝、蓝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色块位置：如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等腰三角形 14"/>
          <p:cNvSpPr/>
          <p:nvPr/>
        </p:nvSpPr>
        <p:spPr>
          <a:xfrm rot="5400000">
            <a:off x="639000" y="2032920"/>
            <a:ext cx="262080" cy="2253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0b0f0"/>
              </a:gs>
              <a:gs pos="100000">
                <a:srgbClr val="0070c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15"/>
          <p:cNvSpPr/>
          <p:nvPr/>
        </p:nvSpPr>
        <p:spPr>
          <a:xfrm>
            <a:off x="1092960" y="24480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a5a5"/>
                </a:solidFill>
                <a:latin typeface="微软雅黑"/>
                <a:ea typeface="微软雅黑"/>
              </a:rPr>
              <a:t>设置隐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组合 12"/>
          <p:cNvGrpSpPr/>
          <p:nvPr/>
        </p:nvGrpSpPr>
        <p:grpSpPr>
          <a:xfrm>
            <a:off x="828720" y="3933720"/>
            <a:ext cx="2158920" cy="2159280"/>
            <a:chOff x="828720" y="3933720"/>
            <a:chExt cx="2158920" cy="2159280"/>
          </a:xfrm>
        </p:grpSpPr>
        <p:sp>
          <p:nvSpPr>
            <p:cNvPr id="162" name="椭圆 13"/>
            <p:cNvSpPr/>
            <p:nvPr/>
          </p:nvSpPr>
          <p:spPr>
            <a:xfrm>
              <a:off x="828720" y="3933720"/>
              <a:ext cx="2158920" cy="2159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椭圆 33"/>
            <p:cNvSpPr/>
            <p:nvPr/>
          </p:nvSpPr>
          <p:spPr>
            <a:xfrm>
              <a:off x="828720" y="3933720"/>
              <a:ext cx="2158920" cy="1079640"/>
            </a:xfrm>
            <a:custGeom>
              <a:avLst/>
              <a:gdLst>
                <a:gd name="textAreaLeft" fmla="*/ 0 w 2158920"/>
                <a:gd name="textAreaRight" fmla="*/ 2159280 w 2158920"/>
                <a:gd name="textAreaTop" fmla="*/ 0 h 1079640"/>
                <a:gd name="textAreaBottom" fmla="*/ 1080000 h 1079640"/>
              </a:gdLst>
              <a:ahLst/>
              <a:rect l="textAreaLeft" t="textAreaTop" r="textAreaRight" b="textAreaBottom"/>
              <a:pathLst>
                <a:path w="2160000" h="1080000">
                  <a:moveTo>
                    <a:pt x="1080000" y="0"/>
                  </a:moveTo>
                  <a:cubicBezTo>
                    <a:pt x="1676468" y="0"/>
                    <a:pt x="2160000" y="483532"/>
                    <a:pt x="2160000" y="1080000"/>
                  </a:cubicBezTo>
                  <a:lnTo>
                    <a:pt x="0" y="1080000"/>
                  </a:lnTo>
                  <a:cubicBezTo>
                    <a:pt x="0" y="483532"/>
                    <a:pt x="483532" y="0"/>
                    <a:pt x="108000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4" name="Picture 2" descr=""/>
          <p:cNvPicPr/>
          <p:nvPr/>
        </p:nvPicPr>
        <p:blipFill>
          <a:blip r:embed="rId1"/>
          <a:stretch/>
        </p:blipFill>
        <p:spPr>
          <a:xfrm>
            <a:off x="3635280" y="1925640"/>
            <a:ext cx="3438720" cy="1558800"/>
          </a:xfrm>
          <a:prstGeom prst="rect">
            <a:avLst/>
          </a:prstGeom>
          <a:ln w="9360">
            <a:solidFill>
              <a:srgbClr val="bfbfbf"/>
            </a:solidFill>
            <a:miter/>
          </a:ln>
        </p:spPr>
      </p:pic>
      <p:sp>
        <p:nvSpPr>
          <p:cNvPr id="165" name="TextBox 18"/>
          <p:cNvSpPr/>
          <p:nvPr/>
        </p:nvSpPr>
        <p:spPr>
          <a:xfrm>
            <a:off x="1010520" y="295740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a5a5"/>
                </a:solidFill>
                <a:latin typeface="微软雅黑"/>
                <a:ea typeface="微软雅黑"/>
              </a:rPr>
              <a:t>复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19"/>
          <p:cNvSpPr/>
          <p:nvPr/>
        </p:nvSpPr>
        <p:spPr>
          <a:xfrm>
            <a:off x="1131120" y="3460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a5a5"/>
                </a:solidFill>
                <a:latin typeface="微软雅黑"/>
                <a:ea typeface="微软雅黑"/>
              </a:rPr>
              <a:t>三维旋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组合 21"/>
          <p:cNvGrpSpPr/>
          <p:nvPr/>
        </p:nvGrpSpPr>
        <p:grpSpPr>
          <a:xfrm>
            <a:off x="585720" y="333360"/>
            <a:ext cx="3606840" cy="949320"/>
            <a:chOff x="585720" y="333360"/>
            <a:chExt cx="3606840" cy="949320"/>
          </a:xfrm>
        </p:grpSpPr>
        <p:grpSp>
          <p:nvGrpSpPr>
            <p:cNvPr id="168" name="组合 22"/>
            <p:cNvGrpSpPr/>
            <p:nvPr/>
          </p:nvGrpSpPr>
          <p:grpSpPr>
            <a:xfrm>
              <a:off x="585720" y="333360"/>
              <a:ext cx="3606840" cy="949320"/>
              <a:chOff x="585720" y="333360"/>
              <a:chExt cx="3606840" cy="949320"/>
            </a:xfrm>
          </p:grpSpPr>
          <p:sp>
            <p:nvSpPr>
              <p:cNvPr id="169" name="圆角矩形 24"/>
              <p:cNvSpPr/>
              <p:nvPr/>
            </p:nvSpPr>
            <p:spPr>
              <a:xfrm>
                <a:off x="585720" y="333360"/>
                <a:ext cx="3606840" cy="949320"/>
              </a:xfrm>
              <a:prstGeom prst="roundRect">
                <a:avLst>
                  <a:gd name="adj" fmla="val 11782"/>
                </a:avLst>
              </a:prstGeom>
              <a:gradFill rotWithShape="0">
                <a:gsLst>
                  <a:gs pos="0">
                    <a:srgbClr val="f5f5f5"/>
                  </a:gs>
                  <a:gs pos="100000">
                    <a:srgbClr val="f2f2f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圆角矩形 4"/>
              <p:cNvSpPr/>
              <p:nvPr/>
            </p:nvSpPr>
            <p:spPr>
              <a:xfrm>
                <a:off x="585720" y="333360"/>
                <a:ext cx="753480" cy="9493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7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Britannic Bold"/>
                  </a:rPr>
                  <a:t>03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TextBox 23"/>
            <p:cNvSpPr/>
            <p:nvPr/>
          </p:nvSpPr>
          <p:spPr>
            <a:xfrm>
              <a:off x="2023560" y="54648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拼接部分制作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TextBox 28"/>
          <p:cNvSpPr/>
          <p:nvPr/>
        </p:nvSpPr>
        <p:spPr>
          <a:xfrm>
            <a:off x="1218600" y="194940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a5a5"/>
                </a:solidFill>
                <a:latin typeface="微软雅黑"/>
                <a:ea typeface="微软雅黑"/>
              </a:rPr>
              <a:t>填充射线渐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等腰三角形 14"/>
          <p:cNvSpPr/>
          <p:nvPr/>
        </p:nvSpPr>
        <p:spPr>
          <a:xfrm rot="5400000">
            <a:off x="639000" y="2510640"/>
            <a:ext cx="262080" cy="2253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0b0f0"/>
              </a:gs>
              <a:gs pos="100000">
                <a:srgbClr val="0070c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15"/>
          <p:cNvSpPr/>
          <p:nvPr/>
        </p:nvSpPr>
        <p:spPr>
          <a:xfrm>
            <a:off x="1092960" y="24480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设置隐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17"/>
          <p:cNvSpPr/>
          <p:nvPr/>
        </p:nvSpPr>
        <p:spPr>
          <a:xfrm>
            <a:off x="4726440" y="3573360"/>
            <a:ext cx="276444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打开选择窗格：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lt+F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右侧的眼睛，隐藏组合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中的圆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注：图中形状的名称是修改过的。请以自己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实际名称为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组合1"/>
          <p:cNvGrpSpPr/>
          <p:nvPr/>
        </p:nvGrpSpPr>
        <p:grpSpPr>
          <a:xfrm>
            <a:off x="828720" y="3933720"/>
            <a:ext cx="2158920" cy="2159280"/>
            <a:chOff x="828720" y="3933720"/>
            <a:chExt cx="2158920" cy="2159280"/>
          </a:xfrm>
        </p:grpSpPr>
        <p:sp>
          <p:nvSpPr>
            <p:cNvPr id="177" name="圆形补位" hidden="1"/>
            <p:cNvSpPr/>
            <p:nvPr/>
          </p:nvSpPr>
          <p:spPr>
            <a:xfrm>
              <a:off x="828720" y="3933720"/>
              <a:ext cx="2158920" cy="2159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半圆"/>
            <p:cNvSpPr/>
            <p:nvPr/>
          </p:nvSpPr>
          <p:spPr>
            <a:xfrm>
              <a:off x="828720" y="3933720"/>
              <a:ext cx="2158920" cy="1079640"/>
            </a:xfrm>
            <a:custGeom>
              <a:avLst/>
              <a:gdLst>
                <a:gd name="textAreaLeft" fmla="*/ 0 w 2158920"/>
                <a:gd name="textAreaRight" fmla="*/ 2159280 w 2158920"/>
                <a:gd name="textAreaTop" fmla="*/ 0 h 1079640"/>
                <a:gd name="textAreaBottom" fmla="*/ 1080000 h 1079640"/>
              </a:gdLst>
              <a:ahLst/>
              <a:rect l="textAreaLeft" t="textAreaTop" r="textAreaRight" b="textAreaBottom"/>
              <a:pathLst>
                <a:path w="2160000" h="1080000">
                  <a:moveTo>
                    <a:pt x="1080000" y="0"/>
                  </a:moveTo>
                  <a:cubicBezTo>
                    <a:pt x="1676468" y="0"/>
                    <a:pt x="2160000" y="483532"/>
                    <a:pt x="2160000" y="1080000"/>
                  </a:cubicBezTo>
                  <a:lnTo>
                    <a:pt x="0" y="1080000"/>
                  </a:lnTo>
                  <a:cubicBezTo>
                    <a:pt x="0" y="483532"/>
                    <a:pt x="483532" y="0"/>
                    <a:pt x="108000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9" name="Picture 3" descr=""/>
          <p:cNvPicPr/>
          <p:nvPr/>
        </p:nvPicPr>
        <p:blipFill>
          <a:blip r:embed="rId1"/>
          <a:stretch/>
        </p:blipFill>
        <p:spPr>
          <a:xfrm>
            <a:off x="3708360" y="1973160"/>
            <a:ext cx="3457440" cy="1455840"/>
          </a:xfrm>
          <a:prstGeom prst="rect">
            <a:avLst/>
          </a:prstGeom>
          <a:ln w="9360">
            <a:solidFill>
              <a:srgbClr val="bfbfbf"/>
            </a:solidFill>
            <a:miter/>
          </a:ln>
        </p:spPr>
      </p:pic>
      <p:sp>
        <p:nvSpPr>
          <p:cNvPr id="180" name="TextBox 18"/>
          <p:cNvSpPr/>
          <p:nvPr/>
        </p:nvSpPr>
        <p:spPr>
          <a:xfrm>
            <a:off x="1010520" y="295740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a5a5"/>
                </a:solidFill>
                <a:latin typeface="微软雅黑"/>
                <a:ea typeface="微软雅黑"/>
              </a:rPr>
              <a:t>复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19"/>
          <p:cNvSpPr/>
          <p:nvPr/>
        </p:nvSpPr>
        <p:spPr>
          <a:xfrm>
            <a:off x="1131120" y="3460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a5a5"/>
                </a:solidFill>
                <a:latin typeface="微软雅黑"/>
                <a:ea typeface="微软雅黑"/>
              </a:rPr>
              <a:t>三维旋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组合 21"/>
          <p:cNvGrpSpPr/>
          <p:nvPr/>
        </p:nvGrpSpPr>
        <p:grpSpPr>
          <a:xfrm>
            <a:off x="585720" y="333360"/>
            <a:ext cx="3606840" cy="949320"/>
            <a:chOff x="585720" y="333360"/>
            <a:chExt cx="3606840" cy="949320"/>
          </a:xfrm>
        </p:grpSpPr>
        <p:grpSp>
          <p:nvGrpSpPr>
            <p:cNvPr id="183" name="组合 22"/>
            <p:cNvGrpSpPr/>
            <p:nvPr/>
          </p:nvGrpSpPr>
          <p:grpSpPr>
            <a:xfrm>
              <a:off x="585720" y="333360"/>
              <a:ext cx="3606840" cy="949320"/>
              <a:chOff x="585720" y="333360"/>
              <a:chExt cx="3606840" cy="949320"/>
            </a:xfrm>
          </p:grpSpPr>
          <p:sp>
            <p:nvSpPr>
              <p:cNvPr id="184" name="圆角矩形 24"/>
              <p:cNvSpPr/>
              <p:nvPr/>
            </p:nvSpPr>
            <p:spPr>
              <a:xfrm>
                <a:off x="585720" y="333360"/>
                <a:ext cx="3606840" cy="949320"/>
              </a:xfrm>
              <a:prstGeom prst="roundRect">
                <a:avLst>
                  <a:gd name="adj" fmla="val 11782"/>
                </a:avLst>
              </a:prstGeom>
              <a:gradFill rotWithShape="0">
                <a:gsLst>
                  <a:gs pos="0">
                    <a:srgbClr val="f5f5f5"/>
                  </a:gs>
                  <a:gs pos="100000">
                    <a:srgbClr val="f2f2f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圆角矩形 4"/>
              <p:cNvSpPr/>
              <p:nvPr/>
            </p:nvSpPr>
            <p:spPr>
              <a:xfrm>
                <a:off x="585720" y="333360"/>
                <a:ext cx="753480" cy="9493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7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Britannic Bold"/>
                  </a:rPr>
                  <a:t>03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" name="TextBox 23"/>
            <p:cNvSpPr/>
            <p:nvPr/>
          </p:nvSpPr>
          <p:spPr>
            <a:xfrm>
              <a:off x="2023560" y="54648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拼接部分制作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TextBox 28"/>
          <p:cNvSpPr/>
          <p:nvPr/>
        </p:nvSpPr>
        <p:spPr>
          <a:xfrm>
            <a:off x="1218600" y="194940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a5a5"/>
                </a:solidFill>
                <a:latin typeface="微软雅黑"/>
                <a:ea typeface="微软雅黑"/>
              </a:rPr>
              <a:t>填充射线渐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等腰三角形 14"/>
          <p:cNvSpPr/>
          <p:nvPr/>
        </p:nvSpPr>
        <p:spPr>
          <a:xfrm rot="5400000">
            <a:off x="639000" y="3040920"/>
            <a:ext cx="262080" cy="2253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0b0f0"/>
              </a:gs>
              <a:gs pos="100000">
                <a:srgbClr val="0070c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15"/>
          <p:cNvSpPr/>
          <p:nvPr/>
        </p:nvSpPr>
        <p:spPr>
          <a:xfrm>
            <a:off x="1092960" y="24480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a5a5"/>
                </a:solidFill>
                <a:latin typeface="微软雅黑"/>
                <a:ea typeface="微软雅黑"/>
              </a:rPr>
              <a:t>设置隐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组合1"/>
          <p:cNvGrpSpPr/>
          <p:nvPr/>
        </p:nvGrpSpPr>
        <p:grpSpPr>
          <a:xfrm>
            <a:off x="3276720" y="2076480"/>
            <a:ext cx="2158920" cy="2160720"/>
            <a:chOff x="3276720" y="2076480"/>
            <a:chExt cx="2158920" cy="2160720"/>
          </a:xfrm>
        </p:grpSpPr>
        <p:sp>
          <p:nvSpPr>
            <p:cNvPr id="191" name="圆形补位" hidden="1"/>
            <p:cNvSpPr/>
            <p:nvPr/>
          </p:nvSpPr>
          <p:spPr>
            <a:xfrm>
              <a:off x="3276720" y="2076480"/>
              <a:ext cx="2158920" cy="2160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半圆"/>
            <p:cNvSpPr/>
            <p:nvPr/>
          </p:nvSpPr>
          <p:spPr>
            <a:xfrm>
              <a:off x="3276720" y="2076480"/>
              <a:ext cx="2158920" cy="1080360"/>
            </a:xfrm>
            <a:custGeom>
              <a:avLst/>
              <a:gdLst>
                <a:gd name="textAreaLeft" fmla="*/ 0 w 2158920"/>
                <a:gd name="textAreaRight" fmla="*/ 2159280 w 2158920"/>
                <a:gd name="textAreaTop" fmla="*/ 0 h 1080360"/>
                <a:gd name="textAreaBottom" fmla="*/ 1080720 h 1080360"/>
              </a:gdLst>
              <a:ahLst/>
              <a:rect l="textAreaLeft" t="textAreaTop" r="textAreaRight" b="textAreaBottom"/>
              <a:pathLst>
                <a:path w="2160000" h="1080000">
                  <a:moveTo>
                    <a:pt x="1080000" y="0"/>
                  </a:moveTo>
                  <a:cubicBezTo>
                    <a:pt x="1676468" y="0"/>
                    <a:pt x="2160000" y="483532"/>
                    <a:pt x="2160000" y="1080000"/>
                  </a:cubicBezTo>
                  <a:lnTo>
                    <a:pt x="0" y="1080000"/>
                  </a:lnTo>
                  <a:cubicBezTo>
                    <a:pt x="0" y="483532"/>
                    <a:pt x="483532" y="0"/>
                    <a:pt x="108000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TextBox 18"/>
          <p:cNvSpPr/>
          <p:nvPr/>
        </p:nvSpPr>
        <p:spPr>
          <a:xfrm>
            <a:off x="1010520" y="295740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复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组合1"/>
          <p:cNvGrpSpPr/>
          <p:nvPr/>
        </p:nvGrpSpPr>
        <p:grpSpPr>
          <a:xfrm>
            <a:off x="6016680" y="2073240"/>
            <a:ext cx="2160360" cy="2160720"/>
            <a:chOff x="6016680" y="2073240"/>
            <a:chExt cx="2160360" cy="2160720"/>
          </a:xfrm>
        </p:grpSpPr>
        <p:sp>
          <p:nvSpPr>
            <p:cNvPr id="195" name="圆形补位" hidden="1"/>
            <p:cNvSpPr/>
            <p:nvPr/>
          </p:nvSpPr>
          <p:spPr>
            <a:xfrm>
              <a:off x="6016680" y="2073240"/>
              <a:ext cx="2160360" cy="2160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半圆"/>
            <p:cNvSpPr/>
            <p:nvPr/>
          </p:nvSpPr>
          <p:spPr>
            <a:xfrm>
              <a:off x="6016680" y="2073240"/>
              <a:ext cx="2160360" cy="1080360"/>
            </a:xfrm>
            <a:custGeom>
              <a:avLst/>
              <a:gdLst>
                <a:gd name="textAreaLeft" fmla="*/ 0 w 2160360"/>
                <a:gd name="textAreaRight" fmla="*/ 2160720 w 2160360"/>
                <a:gd name="textAreaTop" fmla="*/ 0 h 1080360"/>
                <a:gd name="textAreaBottom" fmla="*/ 1080720 h 1080360"/>
              </a:gdLst>
              <a:ahLst/>
              <a:rect l="textAreaLeft" t="textAreaTop" r="textAreaRight" b="textAreaBottom"/>
              <a:pathLst>
                <a:path w="2160000" h="1080000">
                  <a:moveTo>
                    <a:pt x="1080000" y="0"/>
                  </a:moveTo>
                  <a:cubicBezTo>
                    <a:pt x="1676468" y="0"/>
                    <a:pt x="2160000" y="483532"/>
                    <a:pt x="2160000" y="1080000"/>
                  </a:cubicBezTo>
                  <a:lnTo>
                    <a:pt x="0" y="1080000"/>
                  </a:lnTo>
                  <a:cubicBezTo>
                    <a:pt x="0" y="483532"/>
                    <a:pt x="483532" y="0"/>
                    <a:pt x="108000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TextBox 27"/>
          <p:cNvSpPr/>
          <p:nvPr/>
        </p:nvSpPr>
        <p:spPr>
          <a:xfrm>
            <a:off x="4761720" y="4130640"/>
            <a:ext cx="18414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复制组合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得到组合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30"/>
          <p:cNvSpPr/>
          <p:nvPr/>
        </p:nvSpPr>
        <p:spPr>
          <a:xfrm>
            <a:off x="4035600" y="3306600"/>
            <a:ext cx="640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组合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31"/>
          <p:cNvSpPr/>
          <p:nvPr/>
        </p:nvSpPr>
        <p:spPr>
          <a:xfrm>
            <a:off x="6777360" y="3292560"/>
            <a:ext cx="640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组合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32"/>
          <p:cNvSpPr/>
          <p:nvPr/>
        </p:nvSpPr>
        <p:spPr>
          <a:xfrm>
            <a:off x="1131120" y="3460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a5a5"/>
                </a:solidFill>
                <a:latin typeface="微软雅黑"/>
                <a:ea typeface="微软雅黑"/>
              </a:rPr>
              <a:t>三维旋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09T05:36:00Z</dcterms:created>
  <dc:creator>Only for Design</dc:creator>
  <dc:description/>
  <cp:keywords/>
  <dc:language>en-US</dc:language>
  <cp:lastModifiedBy>a</cp:lastModifiedBy>
  <dcterms:modified xsi:type="dcterms:W3CDTF">2014-05-30T04:51:14Z</dcterms:modified>
  <cp:revision>23</cp:revision>
  <dc:subject/>
  <dc:title>矩形渐变在 PPT 3D中的妙用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A618D29B-8CC2-4D21-0045-0D7500006D53</vt:lpwstr>
  </property>
  <property fmtid="{D5CDD505-2E9C-101B-9397-08002B2CF9AE}" pid="3" name="ArticulatePath">
    <vt:lpwstr>矩形渐变在PPT3D中的妙用</vt:lpwstr>
  </property>
  <property fmtid="{D5CDD505-2E9C-101B-9397-08002B2CF9AE}" pid="4" name="KSOProductBuildVer">
    <vt:lpwstr>2052-9.1.0.4632</vt:lpwstr>
  </property>
</Properties>
</file>