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844-D308-417D-A712-C7EADE6A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BE95-5822-4A2E-8D6A-D7F68B5D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D87D-C8E8-4264-ABF0-C05CBA8A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1F3-7B6B-4D5D-8F92-68B4FDC2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7D8B-C1ED-4169-9959-F8A718B1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B602-3D48-47B0-BE66-9C7C41D1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A456-BA63-420A-9DEC-8783EE87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53E7-1789-4CF5-B16B-CFDF346A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6202-682D-4539-9935-0008B307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2943-C989-49C2-8262-E53F9DEE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2903-4CF2-4A69-B0BF-755B7459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A99E-4741-4BA4-81DC-D97CB322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DE06-50B8-449C-9451-71046C95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4F93-E81C-4841-B77C-AE88E538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F748-1A3B-425D-9E65-6A8B8BB1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4274-AF0D-4320-8F28-D2F4CB69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92BF-A272-441E-89E8-0EDD6649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3CF-BACE-4EA8-AC30-78F0AE21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A55-04F9-4520-9F00-D83B0E93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1C9-CEEA-4C03-9C49-92C07D0D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FB9-350F-47B8-BE86-0E75D50D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209-5A02-47AF-8036-3F587345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316-4BE8-42A9-9A2D-A55FDCC8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4C1-492D-458E-9395-5799B418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0"/>
            <a:ext cx="2317680" cy="2055600"/>
            <a:chOff x="6934320" y="0"/>
            <a:chExt cx="2317680" cy="2055600"/>
          </a:xfrm>
        </p:grpSpPr>
        <p:sp>
          <p:nvSpPr>
            <p:cNvPr id="231" name="未知"/>
            <p:cNvSpPr/>
            <p:nvPr/>
          </p:nvSpPr>
          <p:spPr>
            <a:xfrm>
              <a:off x="7041600" y="0"/>
              <a:ext cx="2102760" cy="190620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6480"/>
              <a:ext cx="2317680" cy="2049120"/>
              <a:chOff x="6934320" y="6480"/>
              <a:chExt cx="2317680" cy="204912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6480"/>
                <a:ext cx="383760" cy="14184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6480"/>
                <a:ext cx="2317680" cy="204912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9840"/>
                <a:ext cx="186480" cy="21456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7680"/>
                <a:ext cx="162720" cy="28764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82400"/>
                <a:ext cx="534960" cy="2412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5680"/>
                <a:ext cx="383760" cy="39096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70040"/>
                <a:ext cx="392400" cy="7272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4920"/>
                <a:ext cx="301680" cy="17964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4680"/>
                <a:ext cx="325080" cy="14184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8960"/>
                <a:ext cx="546840" cy="12672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2080"/>
                <a:ext cx="443880" cy="1105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9920"/>
                <a:ext cx="455040" cy="36432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4120"/>
                <a:ext cx="257400" cy="6483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0720-1CB7-4520-A3E6-39499FBF52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71D1-8D6C-434C-B065-EA3C6301CC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12:42:50Z</dcterms:created>
  <dc:creator/>
  <dc:description/>
  <dc:language>en-US</dc:language>
  <cp:lastModifiedBy>a</cp:lastModifiedBy>
  <dcterms:modified xsi:type="dcterms:W3CDTF">2015-01-15T04:39:1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