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679-82BA-44BD-A0C5-E500F0FD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FAD-823C-4C7E-97EE-672E59A0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5E4-E06E-45A3-8048-31FF032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6D3-B6B6-4666-AFE9-7342BA2E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1AFD-529B-4BB7-9E51-D7185F07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8BA9-E298-4B1A-A375-C1BA8211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85D-D8A5-48D4-A08B-E99AD1C4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3494-D043-417E-B1CD-78EBD535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EAD-E5D4-443F-B136-01045D1F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3B9D-AF2B-434F-9BC8-64C759E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6A46-79FC-4967-A714-E615CCD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1C4-0373-4823-96F1-F212B71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1D1A-6C47-45BE-949C-5FCBEF9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614-B2AC-42EE-ADD2-20E2F6F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6CD1-3457-4A69-8712-98AE2983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022-D112-4F4F-8A2D-98CB34D3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8E7D-E03A-4614-B3A2-9B1D3B58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C90-9712-4FF2-A927-58A32D0D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5A5-DCAA-4EC3-8A29-48762529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0C5-83AC-4A61-8054-43C259EC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2AE-210D-4D0E-9EF1-BE47F11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673-37CD-4289-99E7-D545D68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91E-396A-4E6D-940D-86A1544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9C9-93EE-40D5-9F20-794BD5F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461440" y="6372360"/>
            <a:ext cx="67320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9A5-3EE5-4667-B144-3EEBF83A8F2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209A-4137-430A-BA54-A00556A15C7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0E4-A9A6-4A34-8232-91EE45FA5B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22560" y="2707920"/>
            <a:ext cx="410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3600"/>
            </a:b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98560" y="443880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hea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5-30T04:50:02Z</dcterms:modified>
  <cp:revision>84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