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79FD-805F-4026-BEB1-8C0117971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0715-4696-442B-8C9E-67060AA6D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8462-CC71-4B24-AE81-6D9BC3723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D85C-5C97-46F4-ABB1-EBE9C7AB5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22F7F-61B4-40FC-B2ED-44AF35C29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DE1CF-4C52-4357-AB3B-9FDDB40D1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ECE83-9D21-4EB8-AB44-716FED2D5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1BF7F-4C2D-443D-B4DD-1F9534C9C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3E171-A38D-4422-96FB-55137A99C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31844-C881-4EEF-BC1B-57521D995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D9DE6-7803-4F69-9819-FBB8AB2B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B8C3-1775-4865-8B1C-5D44E6F70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16DB9-0D64-4DE7-A641-492B2778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7514F-7461-4C7C-B5DF-CFF92C17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75758-FFAC-4002-B3B8-53C72DD8D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8945F-E310-4B87-B30A-87B4B5DE1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C34EC-7C2F-46AC-8460-37D20611E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086B-6E26-423E-9CAD-54BC899AF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50F3-75C3-4CB0-98F2-607D3A1DE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4A97-8A61-4A07-9FF4-05C87C7E5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C529-D3B9-4435-805F-488C691CA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8EEC-8A43-47E5-A6AF-FFFE5DEF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1DAB-FF03-4626-8DA5-BE0704F8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965A-4CA6-4044-B234-5FF09345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3"/>
          <a:stretch/>
        </p:blipFill>
        <p:spPr>
          <a:xfrm>
            <a:off x="8172360" y="6624720"/>
            <a:ext cx="905040" cy="2095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EEA46-F4A5-49BD-A9E4-A25C1498A787}" type="slidenum"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84B7A-42A9-4EF3-9ECE-C5574E48113C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E45A5-477A-4390-873B-3BAD0540B6D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16000" y="4220640"/>
            <a:ext cx="5614920" cy="13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ffffff"/>
                </a:solidFill>
                <a:latin typeface="Arial"/>
              </a:rPr>
              <a:t>精致花朵灰色</a:t>
            </a:r>
            <a:r>
              <a:rPr b="0" lang="es-UY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es-UY" sz="40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es-E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es-E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es-E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es-E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es-E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es-E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7:55:06Z</dcterms:created>
  <dc:creator>Mariajose</dc:creator>
  <dc:description/>
  <dc:language>en-US</dc:language>
  <cp:lastModifiedBy>a</cp:lastModifiedBy>
  <dcterms:modified xsi:type="dcterms:W3CDTF">2015-01-15T03:02:40Z</dcterms:modified>
  <cp:revision>28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