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5C83-B6D6-4BCD-B76A-D46E6FA9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1E7-8378-41F4-ADDF-245998A8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076D-64D5-414D-9BCB-0F97BE06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623-EA1B-4124-AB45-4E059771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E641-9C59-487D-BB33-5C0EFBCD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949-9F97-4BCD-9D3A-47A064D0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7FA-BA13-4EEC-AC6C-7119432C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7F1A-4513-4A6C-A55A-E0DBA870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B389-1061-46DC-A2DC-434666E0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B90-F9EC-4A33-9B7E-1A9537D1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318-C05B-4621-9661-4E5791C1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A94-20B0-49BC-AF7A-326E8AEB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1F24-2385-451B-BD32-6A01B16DCC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7C42-CDA0-424D-A828-5DE61C972C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46528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808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808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37:23Z</dcterms:created>
  <dc:creator>wostou</dc:creator>
  <dc:description/>
  <cp:keywords/>
  <dc:language>en-US</dc:language>
  <cp:lastModifiedBy>a</cp:lastModifiedBy>
  <dcterms:modified xsi:type="dcterms:W3CDTF">2014-07-20T06:32:03Z</dcterms:modified>
  <cp:revision>9</cp:revision>
  <dc:subject/>
  <dc:title>主题班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