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D97-5FB7-42DF-9652-EA129090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356-06E3-45A9-96E1-B6C4AFB1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0C4-0E1F-4AEA-BA96-C8433EE8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A5E-483D-4E75-A8B4-E54685C9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84F6-C0C5-4A7F-8303-AD01735B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48F0-01F9-41C0-B9F0-73E627E3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9060-2416-4487-B5E5-869866F7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7136-A5B5-4484-B934-44180A5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AF31-DD21-47FF-AA77-13FD4007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D71F-95CB-4E95-9B96-67CC75F4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97FB-EC8F-476D-ACA4-18D053F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C1B-F24B-4BE3-9A8D-96D2F888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7D22-FB1A-4642-86B4-9D94A4C6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51D5-788C-4678-8EA0-B75ECC45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5A94-F549-4806-83A6-6EBEFEB6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267A-7CA2-4B17-B8DC-F72DB9C9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F565-7EAE-4065-8EEB-9241B74E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3878-820A-41DD-A69C-DF007FB9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8000E-BDB7-4AF1-862A-EA68136F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5325-BC3B-4244-890B-0186E0CA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6AA1-4445-4546-93DD-A9776A6D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A6D2-26FD-41B3-8779-A20F2A61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BFF-DC06-4523-95D0-0252BB9E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AC72-CE63-41C5-B18D-09303C0C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4FB2-EE3A-416F-A861-5D3E8A6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B81D-29EB-462E-80FE-EE744544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D99E0-022D-4553-AEBF-0A724BC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CEFB7-3EF5-4FD7-AD6D-6EF52BEB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338D-056E-4979-9B92-1A79E447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0412-516E-42CF-A71C-33DC71A2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C80-DE5F-419A-98F1-5CBBE9A9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95E-6A3C-409C-875A-CBB3BA1B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CCC-9577-4213-A147-DE13502D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8ED-0C93-40BC-83E0-52C384BC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373-D553-4A81-936E-FD663EFC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C3C-2DF5-4806-836C-5331407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8956-7639-4F0F-8DBC-9E421950A3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179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179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8B60-A847-4CFB-8261-B8EE2303B7EB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F230-6471-4682-A1C9-AAE3B263A034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1E1-64D8-4CE3-9E44-A325468BFB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00364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973080" y="0"/>
            <a:ext cx="6664320" cy="5398920"/>
            <a:chOff x="973080" y="0"/>
            <a:chExt cx="6664320" cy="5398920"/>
          </a:xfrm>
        </p:grpSpPr>
        <p:sp>
          <p:nvSpPr>
            <p:cNvPr id="129" name="矩形 4"/>
            <p:cNvSpPr/>
            <p:nvPr/>
          </p:nvSpPr>
          <p:spPr>
            <a:xfrm>
              <a:off x="1504800" y="0"/>
              <a:ext cx="5261040" cy="5662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973080" y="1349640"/>
              <a:ext cx="66643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2483280" y="2798280"/>
              <a:ext cx="367380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>a</cp:lastModifiedBy>
  <dcterms:modified xsi:type="dcterms:W3CDTF">2015-01-15T02:41:4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