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5889-1CC7-4E27-8A3B-9EE281C40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589F-1C84-4E2B-ABF9-EB2F432E5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433B-C815-4AAB-96ED-F5C03698F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C4F1-DDB4-4254-8B55-D9B95C391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412D9-222F-402D-B9F0-A3D8BAE2D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664D3-8EB1-43DE-813C-8B2CEC151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53667-3CB9-4710-988F-C12A6B42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E237C-A4D8-4157-9F10-17B8019FF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DC483-C307-44DC-AA7C-5A66F2FF4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BF5C7-83BA-453C-BCAB-FD492EF25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FE4B7-3DE2-4EE9-B823-685A5523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9744-9A3F-41D8-8710-5791FECAA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D3F44-5154-421F-AF19-68400F94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634F9-B029-4DD6-9959-3082411C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DCEDA-F4C2-46B4-BD9B-BF594A42E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C8820-F176-4E54-ACC0-16EF65134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DE79E-B0A2-45D9-935E-A932D86E4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93A1A-A519-4454-9A1A-8A3C31A22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63AA4-0283-415A-B101-397A597B4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BDBF1-6748-4E61-B083-97EFCAE81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B5E09-DA67-42B1-AF61-FE0808113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FB8CA-094A-4A78-BE0A-6A93410A7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CCEA-C165-41DF-83B8-43E7F118A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01F7A-6947-4092-9B2B-276FB6BFF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F809D-9650-496A-A6AF-26BD82A8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07C63-06BC-4ECA-9CA0-E3E9E211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4B047-3DEC-4F9F-8E1B-7BF4B47F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52A92-69B9-4C3F-A40A-AD83F4D00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7B716-1BFB-47C0-94B6-EC31E160E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44A4B-57B3-4B7E-AB02-34167869A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F7C1-9730-455A-94CD-217987637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EB3C-D5A2-4F48-B9CE-5F5151411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C30C-9E2C-4630-B13B-B78554900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B1C1-3E72-4754-ADCB-AF0A6EFD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DFE6-6A6D-4803-B3E4-B8494691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F048-AB18-466D-8F1E-71F65362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0c0c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Click to edit the outline text format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1" marL="743040" indent="-285840">
              <a:spcBef>
                <a:spcPts val="499"/>
              </a:spcBef>
              <a:buClr>
                <a:srgbClr val="0c0c0c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econd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2" marL="11430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Third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3" marL="16002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Four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4" marL="20574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Fif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5" marL="20574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ix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6" marL="20574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even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2000" y="6308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65E39-B389-4549-83B8-B01673AE6164}" type="slidenum"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0c0c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Click to edit the outline text format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1" marL="743040" indent="-285840">
              <a:spcBef>
                <a:spcPts val="499"/>
              </a:spcBef>
              <a:buClr>
                <a:srgbClr val="0c0c0c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econd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2" marL="11430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Third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3" marL="16002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Four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4" marL="20574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Fif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5" marL="20574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ix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6" marL="20574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even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4A5C3-51D3-413D-A207-400EB971C031}" type="slidenum"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F937F-D539-483A-8D04-968AE6C53A8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93045-DA43-4E75-99ED-F1BF8BA16E8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828720" y="1052640"/>
            <a:ext cx="52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c0c0c"/>
                </a:solidFill>
                <a:latin typeface="Arial"/>
              </a:rPr>
              <a:t>可爱小猫</a:t>
            </a:r>
            <a:r>
              <a:rPr b="1" lang="zh-CN" sz="4800" spc="-1" strike="noStrike">
                <a:solidFill>
                  <a:srgbClr val="0c0c0c"/>
                </a:solidFill>
                <a:latin typeface="Arial"/>
              </a:rPr>
              <a:t>PPT</a:t>
            </a:r>
            <a:r>
              <a:rPr b="1" lang="zh-CN" sz="4800" spc="-1" strike="noStrike">
                <a:solidFill>
                  <a:srgbClr val="0c0c0c"/>
                </a:solidFill>
                <a:latin typeface="Arial"/>
              </a:rPr>
              <a:t>模板</a:t>
            </a:r>
            <a:endParaRPr b="0" lang="en-US" sz="48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c0c0c"/>
                </a:solidFill>
                <a:latin typeface="黑体"/>
              </a:rPr>
              <a:t>模板的使用</a:t>
            </a: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49544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c0c0c"/>
                </a:solidFill>
                <a:latin typeface="黑体"/>
              </a:rPr>
              <a:t>配色方案修改：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1" marL="743040" indent="-285840">
              <a:spcBef>
                <a:spcPts val="451"/>
              </a:spcBef>
              <a:buClr>
                <a:srgbClr val="0c0c0c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配色方案在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格式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--&gt;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幻灯片设计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--&gt;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配色方案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--&gt;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编辑配色方案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下调整。</a:t>
            </a:r>
            <a:endParaRPr b="0" lang="en-US" sz="18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marL="343080" indent="-343080"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LOGO</a:t>
            </a:r>
            <a:r>
              <a:rPr b="0" lang="zh-CN" sz="2000" spc="-1" strike="noStrike">
                <a:solidFill>
                  <a:srgbClr val="0c0c0c"/>
                </a:solidFill>
                <a:latin typeface="黑体"/>
              </a:rPr>
              <a:t>的添加：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1" marL="743040" indent="-285840">
              <a:spcBef>
                <a:spcPts val="451"/>
              </a:spcBef>
              <a:buClr>
                <a:srgbClr val="0c0c0c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Logo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添加修改在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视图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--&gt;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母版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--&gt;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幻灯片母版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下调整。直接选择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logo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图片删除或修改。</a:t>
            </a:r>
            <a:endParaRPr b="0" lang="en-US" sz="18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marL="343080" indent="-343080"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c0c0c"/>
                </a:solidFill>
                <a:latin typeface="黑体"/>
              </a:rPr>
              <a:t>字体格式的设置：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1" marL="743040" indent="-285840">
              <a:spcBef>
                <a:spcPts val="451"/>
              </a:spcBef>
              <a:buClr>
                <a:srgbClr val="0c0c0c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括标题和文本格式的设置在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视图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--&gt;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母版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--&gt;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幻灯片母版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下调整。</a:t>
            </a:r>
            <a:endParaRPr b="0" lang="en-US" sz="18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4"/>
          <p:cNvSpPr txBox="1"/>
          <p:nvPr/>
        </p:nvSpPr>
        <p:spPr>
          <a:xfrm>
            <a:off x="971640" y="2781360"/>
            <a:ext cx="2793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c0c0c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谢谢观赏！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c0c0c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27" name="WordArt 5"/>
          <p:cNvSpPr txBox="1"/>
          <p:nvPr/>
        </p:nvSpPr>
        <p:spPr>
          <a:xfrm>
            <a:off x="1449360" y="3495600"/>
            <a:ext cx="1728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c0c0c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Arial"/>
              </a:rPr>
              <a:t>Thanks!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c0c0c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c0c0c"/>
                </a:solidFill>
                <a:latin typeface="Arial"/>
              </a:endParaRPr>
            </a:p>
          </p:txBody>
        </p:sp>
        <p:pic>
          <p:nvPicPr>
            <p:cNvPr id="13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6T13:54:09Z</dcterms:created>
  <dc:creator>北京锐得PPT</dc:creator>
  <dc:description/>
  <dc:language>en-US</dc:language>
  <cp:lastModifiedBy>a</cp:lastModifiedBy>
  <dcterms:modified xsi:type="dcterms:W3CDTF">2015-01-14T17:14:53Z</dcterms:modified>
  <cp:revision>147</cp:revision>
  <dc:subject/>
  <dc:title>锐得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