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474-E432-4007-AE5F-7CABB3A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62C-6C1B-4085-9AE4-C0B975D5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B79CE-DBC2-43D8-91F4-B29C73C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CE055-CFB4-4252-849E-0214128B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7D92-2125-4A74-9284-9E9F461D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7BA56-C990-49E0-BEA0-AEC7CAD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C078A-FDE4-42CF-9543-D77191C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DF4F-887A-41E5-ADC2-7418B68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FEEBC-676B-4F2A-946C-B8412002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E63E0-3C9F-4A32-93E5-19A481BE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F3E5-DE36-411E-813C-265FEFD6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03AD-28BE-4301-AB6F-07DC6D54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6BC-7C51-4EA9-8CC3-35B5321D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E61CA-322B-4AD0-B1E5-34A6F8E9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0B4A-75AD-4AFE-BBBF-4043FB8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53504-B0D6-473A-B7EF-9B50024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AB526-64E5-488C-A1E7-F23D1FB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ED9D9-08F3-45A4-B95F-445707D5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FBE3-1051-4498-9A59-9431D9B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77B4C-DBD0-4973-B377-D32211B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8A2B-B9A1-49AF-8789-FE2549A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22DAB-15E5-47E2-A773-A3DEE9C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D80E-3825-4A2D-BDE9-7E8A89A3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C85-6BDB-4B13-983E-15A05D03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2BB4E-23E0-4206-8361-67A27DF3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F435-9BF7-4684-91F9-8126ADAE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D2CE9-83D2-44BB-BCF6-915D751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90E4-90E6-449F-AE69-4E16849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4BFA-A799-41EE-BF3B-5F631CE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18F65-112F-4434-9455-9E46CCA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A861-8BED-4CFA-81C7-54DE3E6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9CBA1-2733-40A3-9ED5-863CBBF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A5F90-AC95-44E5-B388-025C414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64EE2-5D8C-456F-BC34-44017CD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0C6-EA9B-4BD5-A3CB-B6769526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919B-ABC8-43B5-8B1C-E25EE21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9823-0444-4F06-AC6C-312E5967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D5995-6BE7-48D1-B366-ECA40DAF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CA6F2-34B2-41B9-A3A4-6210803C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2E3CD-63E2-481E-81CA-A4281019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065B-0664-4C9F-A716-5E65FC1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60D1F-A42F-49AD-AE85-40D7445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64953-027F-4302-A600-97CA8F2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EFBDD-2B2F-40E3-ABDB-4B9EF3F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F0824-533F-49C4-922C-952A6EB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3A9D-C3DC-46D1-B8F2-695EF50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38C9B-997E-4F5F-8771-D534223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A3A42-8CD9-496B-8AE2-A9FB4D1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EED40-452B-48AE-9563-4F1D28CC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37A99-BD02-4398-94A1-5C8E1A2D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F19DB-52C4-4E56-BD83-A6CE054A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38F2D-B38A-4EA6-9203-73E68B46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4AB5F-6C9A-40ED-B039-506951CC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A2EB9-3C6A-4088-BE02-D3315187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AC11C-AC21-47A7-8994-99EB276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71481-7711-4644-8A6A-ED72827D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898C-039F-4B67-A9CA-8BDAE93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32B53-77E6-481A-90F5-D983CEA5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983AA-FE0B-42DD-8266-1ECEA5B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EE032-EC40-4FFA-9111-CF542570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09BC8-E4AC-44D7-AD01-48896EC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D84F4-D25F-40BE-9A6C-DDBE2F8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B9999-508D-419C-984C-A25746D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E9533-F4F3-47D6-8C1A-60F8BFD7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34298-E333-4987-8806-C37A52C9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F2CD1-A6C2-4DAF-808C-5F81092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B63D3-FE5C-4B0E-B105-29811F8D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FA3-3466-458F-ADCE-D5F2D5B5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08BC4-2751-45A0-A596-3466DA5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62FC1-36C6-4005-A65A-1DD618C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01311-5973-41DE-B967-C4D78DE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47460-2649-4378-B0C9-F1C373A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DCB5A-630B-4811-893F-B2818CB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D1B0A-D3A6-4722-836D-68137A2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A407C-AAF8-41BA-BC1A-8D15BA2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AC07D-35BA-4559-A8B9-11BACE23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F1746-A1D6-459E-B7E0-5DDFE59D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D7AC-6DFC-4C18-8960-E0A0003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059B-7B35-4316-BDCC-4B8246F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30D-2B65-44F1-BBC2-B4144E0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CE5-5609-424E-8F7E-7B66C6F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429-4340-4C1E-98F1-A6F82DD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9E55-0DCE-4F73-ADDB-25D8213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011-50FE-497D-B49E-E211EE7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FB01-3AC6-49E3-B423-C381D52C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E8B-AFD6-409D-B6D7-1CEB0828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C32A-0C5D-4C18-B586-D26460BF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5404-EF85-4D4B-B5FE-463F93A8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4669-BC74-4B65-8479-9A7B1FB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9B18-6E2B-40EB-A20D-994A9A0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CF74-A508-4EE5-B1B1-52A7454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477-49D8-4E29-B5B4-B7B06B0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698C-8716-4643-9A7A-AE52B095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1FE1-475D-4A93-8747-E8972E5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8D01-1C6B-477A-A05D-D093742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BF44-607A-4B26-804B-C35144D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8C2A-CB97-495D-9FD2-11DA5631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D337-77FA-479F-B2E6-846D92C9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5158-0BF5-43EA-987F-B7F099F4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2142-3E75-49AC-AFA1-B7565622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8000-BE35-4EF7-AF97-29F8F67A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61B9-ECA5-4B7C-AEFE-F57C9587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E02-E803-4F67-BFA8-AA69A23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8BDF-B50A-42F9-90D9-5103B0D0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A34B-6418-4E7A-9D24-6C5546D3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AA69-D5EE-41C0-AE8B-2FAFEB6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182B-8390-4201-9D88-41D3685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BB30-22EB-46C4-9AF1-A4D63EA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662E-DA56-44D5-8836-D03B9CF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ADC5-3762-411E-B263-2234E111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7846-265E-4E10-B08F-32AB19BA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1CCD-8C7A-4487-B888-EA124B6C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D7EC-6D68-408B-91A5-6E04BE60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E88-2D3B-40D5-A042-BE66CD27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E3FE-57FF-468A-AC4E-E277880F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0F68-6A19-4170-8BA6-794CCB3E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2789-C7CA-49FE-956E-E446A57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E9B9-E226-4D07-96B4-063A0847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E624-1251-4B82-BD93-04E8300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FF09-1170-446F-85DB-6C1EF3A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DF45-2A23-4C46-9524-151A3A4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22453-CCDA-441F-B53A-1B24D7B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6161-E010-42A1-A91F-F48FCD2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27F9-D569-47A9-9E9B-0FA5CD8D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BDD-E4A4-401A-8DC6-7CEBBE9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98946-B55F-4AF3-82E8-788A8E75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A48B-1F96-4E89-9A30-8502CECE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54A9A-AC98-437B-874B-CD2E5C5E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EE8F-74BC-4B4A-949A-579CCEB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94BE6-4D28-44A1-8466-D9AE192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0891-4C4F-4040-9CB0-E1C79CC1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331B-D7EA-49D8-8B9C-8FE0D81B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25AD-9EEB-4EBE-ACB4-24AC204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DA3B-9924-44F7-BE42-EB3028F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3276-890C-496B-AEFE-E735044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5DD-25DC-492A-BC31-C5DD427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2F238-B26A-4BB9-8312-E54B7CF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A21A-E83C-4D15-9C9D-50885665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E73D9-1057-4AAF-86A3-03D470B0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12E2-E19D-4554-A643-FDDE0CC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39DA-0C7A-4AE9-86FC-D86D4E5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BD72-2D27-4039-845B-A4D226BF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5ADB-A37C-4ECA-AA43-B83837AF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08A5-EF59-4092-8F31-DA1694B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C04D-3642-4DA9-928B-029C960F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1868-3386-43D8-AC3F-53348F6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319-DA35-4CD8-A5C7-9D44162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F71B9-1B5B-43A0-AA73-2DE8969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2F7E0-C398-4D0D-AD4B-23A398A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B2B5-B23B-4B62-A7CA-7D4DFDC3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9547-4744-40BA-8C89-E09379EE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E897-CE1A-4BBC-833E-C5BF3854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1263-E639-425E-BABA-71E1B473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7316D-79A6-45E6-AB67-4FACC5CA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CE31-ACB0-46B6-9423-EA9FAE48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5060-D131-4190-840C-438B6E9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9E2F-DCDB-4D22-AE96-AA4F7075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6DF-D082-4CD9-87E7-AD90D42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1EBA-81F7-4AAF-AC16-18F8D6D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8CF3-D365-4DCD-A7ED-18E705E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97D9C-28FB-4AC4-9B48-A72F152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AF3E-5A64-434D-A00E-3ED529D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6949-CC7E-4545-BE29-217CEFE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1303-5AA6-4F77-B06E-ABA637DD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CABD-84DB-44EF-9D93-95B69CB9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D7F8-3E9A-45F3-BCC1-C7D66467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724C-E1C0-4B93-A465-86E7C2D2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0AB67-BDDA-4305-B6E7-99CEB9F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AF8-DDE8-4D8D-84DD-934D9D28F3C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C15-CB4A-4DC3-B061-F255F62588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B195-120B-4968-99F1-AE43ED48C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A358-4DCF-4D46-80B2-9A238024D4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6089-DE55-441A-B2B4-3E6FBE009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3AC-55BB-4763-BD6C-14FBD18256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3536-B00A-4C37-AB0B-5F3A18E552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38F-CB64-423C-ABE9-9DD47885DD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F237-5DF2-4B45-ADC4-3BFB7E532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824A-86C5-4594-839F-4225EFB801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0EE2-98D4-4EC3-8C2D-A2484690B0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3744-5D83-4464-B541-A85A27E748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D69-6C0D-4E26-9706-F44174B8CB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9CB-B82D-4756-862A-6FE46FBB0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8E55-B4CE-4CE1-A9CF-BB2A48F371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BF1-2676-4A6B-AC13-8C6E29154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A77F-5C04-4D2E-B754-E471392365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7375-4F45-4DCE-BE09-FA2151EA1B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AEF-DA8B-4BAA-AFC6-282247DB3A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FBB-65FC-431A-82E8-295FB930A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B26-607F-44DE-BF8C-F4D9509A6B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30FC-9456-48DC-8005-61B6360A6F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A49-76A2-47CF-8F04-3F7DA169E0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B41-C3EE-4C8F-9233-FD504FBE7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FFA-0CDF-4322-A389-025812DA2C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899-F952-49F5-AC2A-F0A6D59A7B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PPT设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PPT设计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830760" y="1486080"/>
            <a:ext cx="7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72000" y="14860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PS Office</a:t>
            </a: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，让办公更轻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441600" y="2655720"/>
            <a:ext cx="7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4183200" y="2655720"/>
            <a:ext cx="34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是什么</a:t>
            </a: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3225960" y="3789360"/>
            <a:ext cx="7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3967200" y="3789360"/>
            <a:ext cx="34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设计要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2843280" y="5013360"/>
            <a:ext cx="7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3586320" y="5013360"/>
            <a:ext cx="34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活动时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PPT设计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682560" y="2565360"/>
            <a:ext cx="77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.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是什么？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是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owerpoin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的简称，中文翻译为演示文稿或幻灯片。在这里我们说的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,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是指使用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PS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演示组件或微软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制作出的一种文档，称之为“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”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可使用幻灯机或投影仪进行播放，现在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已经在人们的生活中占据了越来越重的位置，它被广泛应用于工作汇报、企业宣传、产品推介、婚礼庆典、项目竞标、管理咨询等领域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682560" y="1197000"/>
            <a:ext cx="777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.WPS 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，让办公更轻松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PS 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是一款开放、高效、安全，与微软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深度兼容并极具中文本地化优势的办公软件。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PS 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个人版包含三大组件：文字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ord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）、演示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resentation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）、表格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Spreadshee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），从功能上与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Microsoft 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的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ord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、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owerPoin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、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Excel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一一对应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40M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轻巧体积，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分钟下载安装，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indows\Linux\Mac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多平台支持，全面兼容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Microsoft Office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文档格式，并提供营养丰富的海量文档资源。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WPS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为您带来轻松愉悦的办公体验，每天已有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850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万人在使用它，你还不快试试？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682560" y="3718080"/>
            <a:ext cx="77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设计要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以“轻松办公”或“快乐办公”或“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Simple, Powerful and free”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为关键词，对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进行创作。不局限于图形、图片或动画，也可以使用线条、手绘等方式，重点突出主题，又可以作为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模板使用即可，设计者可自由发挥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611280" y="465444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4.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活动时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作品提交：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0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-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6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评选时间：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7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-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0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结果公布：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1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-20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23</a:t>
            </a:r>
            <a:r>
              <a:rPr b="1" lang="zh-CN" sz="1200" spc="-1" strike="noStrike">
                <a:solidFill>
                  <a:srgbClr val="808080"/>
                </a:solidFill>
                <a:latin typeface="Arial"/>
              </a:rPr>
              <a:t>日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PPT设计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3790800" y="2925720"/>
            <a:ext cx="30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THANKS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26:26Z</dcterms:modified>
  <cp:revision>1</cp:revision>
  <dc:subject/>
  <dc:title>PowerPoint 演示文稿</dc:title>
</cp:coreProperties>
</file>