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5F2A-4E97-474F-A622-962A48F50A5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0F79-187E-45DB-BF6F-82C580722CC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-148164480" y="0"/>
            <a:ext cx="296403480" cy="166728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8840" y="-360"/>
            <a:ext cx="360" cy="1949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众法被废止？不是被修改了吗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B771-76BC-4AFA-9337-69C205F6B2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B9D0-7889-41F7-9ABA-DD14BD19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BAA6-09B4-4B2B-86D7-E2A40289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0AD8-FB9E-4A82-BA52-9827AC6DD5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AEEFF-3BBF-4694-AFC8-32AAD8BA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40B3C-84E6-4E94-A0A6-C97D2FD6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C1336-9710-4B46-8603-65037D52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FF111-476A-4A86-8273-4E72A0D8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45655-8D9D-44EF-ACE3-FC015B82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54D87-D414-4089-8F6F-AC83CA7B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06DAC-358D-4770-BE4B-7E77647A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6560-4311-4577-9A0C-B9FE2F5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38FC8-FF3F-4B63-9BE3-CD3FDA29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E0B08-DC9A-4F9C-9073-8FB77D6B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2665B-1876-4002-AF1B-79462046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45DF6-89D3-4CBC-92F8-B298068D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489FF-90D1-4011-85C7-1BD0BBC1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0163-CE23-43BC-9D65-D6F47EE1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CC68-29B2-40C6-BB72-5EC386D3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9FAF-AFB9-409C-A4DB-01B82EF9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1B1B-E15E-4BEA-A747-9192AA37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B382-4C0E-496C-BBBE-100A17F9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99C2-3208-4634-8F3B-522ED130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92AA-B855-4B5C-9E55-7B1D4AFF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E4CF-8B23-40FB-8C86-C5C1B7AF50B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6947-BF67-416A-896D-2A17EDBBC4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2195640" y="30765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"/>
          <p:cNvSpPr/>
          <p:nvPr/>
        </p:nvSpPr>
        <p:spPr>
          <a:xfrm>
            <a:off x="7524720" y="4587840"/>
            <a:ext cx="1619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1835280" y="1238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66C4-EDC6-496E-9DDD-3EDD56266D52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B527-1585-43C6-A306-234661170DE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斜纹 11"/>
          <p:cNvSpPr/>
          <p:nvPr/>
        </p:nvSpPr>
        <p:spPr>
          <a:xfrm flipV="1" rot="16200000">
            <a:off x="3951720" y="-47160"/>
            <a:ext cx="1227240" cy="9153720"/>
          </a:xfrm>
          <a:custGeom>
            <a:avLst/>
            <a:gdLst>
              <a:gd name="textAreaLeft" fmla="*/ 0 w 1227240"/>
              <a:gd name="textAreaRight" fmla="*/ 1227600 w 1227240"/>
              <a:gd name="textAreaTop" fmla="*/ -360 h 9153720"/>
              <a:gd name="textAreaBottom" fmla="*/ 915372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斜纹 11"/>
          <p:cNvSpPr/>
          <p:nvPr/>
        </p:nvSpPr>
        <p:spPr>
          <a:xfrm flipH="1" rot="16200000">
            <a:off x="3953160" y="-3979800"/>
            <a:ext cx="1222560" cy="9153720"/>
          </a:xfrm>
          <a:custGeom>
            <a:avLst/>
            <a:gdLst>
              <a:gd name="textAreaLeft" fmla="*/ 0 w 1222560"/>
              <a:gd name="textAreaRight" fmla="*/ 1222560 w 1222560"/>
              <a:gd name="textAreaTop" fmla="*/ 0 h 9153720"/>
              <a:gd name="textAreaBottom" fmla="*/ 915408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081320" y="2768760"/>
            <a:ext cx="42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请输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2627280" y="18637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斜纹 11"/>
          <p:cNvSpPr/>
          <p:nvPr/>
        </p:nvSpPr>
        <p:spPr>
          <a:xfrm flipH="1" rot="16200000">
            <a:off x="3951000" y="-3339000"/>
            <a:ext cx="1227240" cy="9153720"/>
          </a:xfrm>
          <a:custGeom>
            <a:avLst/>
            <a:gdLst>
              <a:gd name="textAreaLeft" fmla="*/ -360 w 1227240"/>
              <a:gd name="textAreaRight" fmla="*/ 1227240 w 1227240"/>
              <a:gd name="textAreaTop" fmla="*/ 0 h 9153720"/>
              <a:gd name="textAreaBottom" fmla="*/ 915408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斜纹 11"/>
          <p:cNvSpPr/>
          <p:nvPr/>
        </p:nvSpPr>
        <p:spPr>
          <a:xfrm flipV="1" rot="16200000">
            <a:off x="3951000" y="-660960"/>
            <a:ext cx="1228680" cy="9153720"/>
          </a:xfrm>
          <a:custGeom>
            <a:avLst/>
            <a:gdLst>
              <a:gd name="textAreaLeft" fmla="*/ 0 w 1228680"/>
              <a:gd name="textAreaRight" fmla="*/ 1229040 w 1228680"/>
              <a:gd name="textAreaTop" fmla="*/ -360 h 9153720"/>
              <a:gd name="textAreaBottom" fmla="*/ 915372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接连接符 87"/>
          <p:cNvSpPr/>
          <p:nvPr/>
        </p:nvSpPr>
        <p:spPr>
          <a:xfrm>
            <a:off x="4211640" y="5578560"/>
            <a:ext cx="4613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8"/>
          <p:cNvSpPr/>
          <p:nvPr/>
        </p:nvSpPr>
        <p:spPr>
          <a:xfrm>
            <a:off x="4211640" y="5635800"/>
            <a:ext cx="45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Calibri"/>
              </a:rPr>
              <a:t>Copyright 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Calibri"/>
              </a:rPr>
              <a:t>©  Fashion Brand. All rights re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277720" y="-91440"/>
            <a:ext cx="2252160" cy="5342760"/>
            <a:chOff x="2277720" y="-91440"/>
            <a:chExt cx="2252160" cy="5342760"/>
          </a:xfrm>
        </p:grpSpPr>
        <p:grpSp>
          <p:nvGrpSpPr>
            <p:cNvPr id="100" name="Group 5"/>
            <p:cNvGrpSpPr/>
            <p:nvPr/>
          </p:nvGrpSpPr>
          <p:grpSpPr>
            <a:xfrm>
              <a:off x="2277720" y="-91440"/>
              <a:ext cx="2252160" cy="5342760"/>
              <a:chOff x="2277720" y="-91440"/>
              <a:chExt cx="2252160" cy="5342760"/>
            </a:xfrm>
          </p:grpSpPr>
          <p:sp>
            <p:nvSpPr>
              <p:cNvPr id="101" name="圆角矩形 64"/>
              <p:cNvSpPr/>
              <p:nvPr/>
            </p:nvSpPr>
            <p:spPr>
              <a:xfrm rot="662400">
                <a:off x="2816640" y="-9360"/>
                <a:ext cx="1227240" cy="51912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圆角矩形 65"/>
              <p:cNvSpPr/>
              <p:nvPr/>
            </p:nvSpPr>
            <p:spPr>
              <a:xfrm rot="662400">
                <a:off x="2757960" y="-21240"/>
                <a:ext cx="1227240" cy="5138640"/>
              </a:xfrm>
              <a:custGeom>
                <a:avLst/>
                <a:gdLst>
                  <a:gd name="textAreaLeft" fmla="*/ 0 w 1227240"/>
                  <a:gd name="textAreaRight" fmla="*/ 1227600 w 1227240"/>
                  <a:gd name="textAreaTop" fmla="*/ 0 h 5138640"/>
                  <a:gd name="textAreaBottom" fmla="*/ 5139000 h 51386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76"/>
            <p:cNvSpPr/>
            <p:nvPr/>
          </p:nvSpPr>
          <p:spPr>
            <a:xfrm rot="662400">
              <a:off x="3181680" y="79200"/>
              <a:ext cx="12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3"/>
            <p:cNvSpPr/>
            <p:nvPr/>
          </p:nvSpPr>
          <p:spPr>
            <a:xfrm rot="662400">
              <a:off x="3432240" y="705600"/>
              <a:ext cx="73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32"/>
          <p:cNvSpPr/>
          <p:nvPr/>
        </p:nvSpPr>
        <p:spPr>
          <a:xfrm>
            <a:off x="71280" y="214200"/>
            <a:ext cx="26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e6787"/>
                </a:solidFill>
                <a:latin typeface="Showcard Gothic"/>
              </a:rPr>
              <a:t>lo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1"/>
          <p:cNvGrpSpPr/>
          <p:nvPr/>
        </p:nvGrpSpPr>
        <p:grpSpPr>
          <a:xfrm>
            <a:off x="3908160" y="-89280"/>
            <a:ext cx="2213280" cy="5340600"/>
            <a:chOff x="3908160" y="-89280"/>
            <a:chExt cx="2213280" cy="5340600"/>
          </a:xfrm>
        </p:grpSpPr>
        <p:grpSp>
          <p:nvGrpSpPr>
            <p:cNvPr id="107" name="Group 12"/>
            <p:cNvGrpSpPr/>
            <p:nvPr/>
          </p:nvGrpSpPr>
          <p:grpSpPr>
            <a:xfrm>
              <a:off x="3908160" y="-89280"/>
              <a:ext cx="2213280" cy="5340600"/>
              <a:chOff x="3908160" y="-89280"/>
              <a:chExt cx="2213280" cy="5340600"/>
            </a:xfrm>
          </p:grpSpPr>
          <p:sp>
            <p:nvSpPr>
              <p:cNvPr id="108" name="圆角矩形 64"/>
              <p:cNvSpPr/>
              <p:nvPr/>
            </p:nvSpPr>
            <p:spPr>
              <a:xfrm rot="634200">
                <a:off x="4428000" y="-8280"/>
                <a:ext cx="1227600" cy="51912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圆角矩形 65"/>
              <p:cNvSpPr/>
              <p:nvPr/>
            </p:nvSpPr>
            <p:spPr>
              <a:xfrm rot="634200">
                <a:off x="4368600" y="-20160"/>
                <a:ext cx="1227600" cy="5138640"/>
              </a:xfrm>
              <a:custGeom>
                <a:avLst/>
                <a:gdLst>
                  <a:gd name="textAreaLeft" fmla="*/ 0 w 1227600"/>
                  <a:gd name="textAreaRight" fmla="*/ 1227960 w 1227600"/>
                  <a:gd name="textAreaTop" fmla="*/ 0 h 5138640"/>
                  <a:gd name="textAreaBottom" fmla="*/ 5139000 h 51386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e6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Box 89"/>
            <p:cNvSpPr/>
            <p:nvPr/>
          </p:nvSpPr>
          <p:spPr>
            <a:xfrm rot="634200">
              <a:off x="5023080" y="701280"/>
              <a:ext cx="73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49"/>
            <p:cNvSpPr/>
            <p:nvPr/>
          </p:nvSpPr>
          <p:spPr>
            <a:xfrm rot="634200">
              <a:off x="4760280" y="74160"/>
              <a:ext cx="12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7194240" y="-85320"/>
            <a:ext cx="2170800" cy="5337720"/>
            <a:chOff x="7194240" y="-85320"/>
            <a:chExt cx="2170800" cy="5337720"/>
          </a:xfrm>
        </p:grpSpPr>
        <p:grpSp>
          <p:nvGrpSpPr>
            <p:cNvPr id="113" name="Group 18"/>
            <p:cNvGrpSpPr/>
            <p:nvPr/>
          </p:nvGrpSpPr>
          <p:grpSpPr>
            <a:xfrm>
              <a:off x="7194240" y="-85320"/>
              <a:ext cx="2170800" cy="5337720"/>
              <a:chOff x="7194240" y="-85320"/>
              <a:chExt cx="2170800" cy="5337720"/>
            </a:xfrm>
          </p:grpSpPr>
          <p:sp>
            <p:nvSpPr>
              <p:cNvPr id="114" name="圆角矩形 64"/>
              <p:cNvSpPr/>
              <p:nvPr/>
            </p:nvSpPr>
            <p:spPr>
              <a:xfrm rot="604200">
                <a:off x="7693560" y="-6120"/>
                <a:ext cx="1227240" cy="51912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圆角矩形 65"/>
              <p:cNvSpPr/>
              <p:nvPr/>
            </p:nvSpPr>
            <p:spPr>
              <a:xfrm rot="604200">
                <a:off x="7633800" y="-17280"/>
                <a:ext cx="1227240" cy="5138640"/>
              </a:xfrm>
              <a:custGeom>
                <a:avLst/>
                <a:gdLst>
                  <a:gd name="textAreaLeft" fmla="*/ 0 w 1227240"/>
                  <a:gd name="textAreaRight" fmla="*/ 1227600 w 1227240"/>
                  <a:gd name="textAreaTop" fmla="*/ 0 h 5138640"/>
                  <a:gd name="textAreaBottom" fmla="*/ 5139000 h 51386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4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91"/>
            <p:cNvSpPr/>
            <p:nvPr/>
          </p:nvSpPr>
          <p:spPr>
            <a:xfrm rot="604200">
              <a:off x="8311680" y="706320"/>
              <a:ext cx="73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50"/>
            <p:cNvSpPr/>
            <p:nvPr/>
          </p:nvSpPr>
          <p:spPr>
            <a:xfrm rot="604200">
              <a:off x="7976520" y="68040"/>
              <a:ext cx="12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3"/>
          <p:cNvGrpSpPr/>
          <p:nvPr/>
        </p:nvGrpSpPr>
        <p:grpSpPr>
          <a:xfrm>
            <a:off x="5545800" y="-87120"/>
            <a:ext cx="2186640" cy="5338800"/>
            <a:chOff x="5545800" y="-87120"/>
            <a:chExt cx="2186640" cy="5338800"/>
          </a:xfrm>
        </p:grpSpPr>
        <p:grpSp>
          <p:nvGrpSpPr>
            <p:cNvPr id="119" name="Group 24"/>
            <p:cNvGrpSpPr/>
            <p:nvPr/>
          </p:nvGrpSpPr>
          <p:grpSpPr>
            <a:xfrm>
              <a:off x="5545800" y="-87120"/>
              <a:ext cx="2186640" cy="5338800"/>
              <a:chOff x="5545800" y="-87120"/>
              <a:chExt cx="2186640" cy="5338800"/>
            </a:xfrm>
          </p:grpSpPr>
          <p:sp>
            <p:nvSpPr>
              <p:cNvPr id="120" name="圆角矩形 64"/>
              <p:cNvSpPr/>
              <p:nvPr/>
            </p:nvSpPr>
            <p:spPr>
              <a:xfrm rot="616200">
                <a:off x="6053400" y="-6840"/>
                <a:ext cx="1226160" cy="51912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圆角矩形 65"/>
              <p:cNvSpPr/>
              <p:nvPr/>
            </p:nvSpPr>
            <p:spPr>
              <a:xfrm rot="616200">
                <a:off x="5994000" y="-18720"/>
                <a:ext cx="1226160" cy="5138640"/>
              </a:xfrm>
              <a:custGeom>
                <a:avLst/>
                <a:gdLst>
                  <a:gd name="textAreaLeft" fmla="*/ 0 w 1226160"/>
                  <a:gd name="textAreaRight" fmla="*/ 1226520 w 1226160"/>
                  <a:gd name="textAreaTop" fmla="*/ 0 h 5138640"/>
                  <a:gd name="textAreaBottom" fmla="*/ 5139000 h 51386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8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Box 90"/>
            <p:cNvSpPr/>
            <p:nvPr/>
          </p:nvSpPr>
          <p:spPr>
            <a:xfrm rot="616200">
              <a:off x="6641280" y="700560"/>
              <a:ext cx="738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51"/>
            <p:cNvSpPr/>
            <p:nvPr/>
          </p:nvSpPr>
          <p:spPr>
            <a:xfrm rot="616200">
              <a:off x="6358680" y="70560"/>
              <a:ext cx="127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34920" y="20520"/>
            <a:ext cx="1219320" cy="1281240"/>
            <a:chOff x="34920" y="20520"/>
            <a:chExt cx="1219320" cy="1281240"/>
          </a:xfrm>
        </p:grpSpPr>
        <p:grpSp>
          <p:nvGrpSpPr>
            <p:cNvPr id="125" name="Group 3"/>
            <p:cNvGrpSpPr/>
            <p:nvPr/>
          </p:nvGrpSpPr>
          <p:grpSpPr>
            <a:xfrm>
              <a:off x="55800" y="20520"/>
              <a:ext cx="1198440" cy="1281240"/>
              <a:chOff x="55800" y="20520"/>
              <a:chExt cx="1198440" cy="1281240"/>
            </a:xfrm>
          </p:grpSpPr>
          <p:sp>
            <p:nvSpPr>
              <p:cNvPr id="126" name="圆角矩形 28"/>
              <p:cNvSpPr/>
              <p:nvPr/>
            </p:nvSpPr>
            <p:spPr>
              <a:xfrm>
                <a:off x="128880" y="50400"/>
                <a:ext cx="1125360" cy="125136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51360"/>
                  <a:gd name="textAreaBottom" fmla="*/ 1196640 h 1251360"/>
                </a:gdLst>
                <a:ahLst/>
                <a:rect l="textAreaLeft" t="textAreaTop" r="textAreaRight" b="textAreaBottom"/>
                <a:pathLst>
                  <a:path w="21600" h="24018">
                    <a:moveTo>
                      <a:pt x="3600" y="0"/>
                    </a:moveTo>
                    <a:arcTo wR="3600" hR="3600" stAng="16200000" swAng="-5400000"/>
                    <a:lnTo>
                      <a:pt x="0" y="20418"/>
                    </a:lnTo>
                    <a:arcTo wR="3600" hR="3600" stAng="10800000" swAng="-5400000"/>
                    <a:lnTo>
                      <a:pt x="18000" y="2401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圆角矩形 29"/>
              <p:cNvSpPr/>
              <p:nvPr/>
            </p:nvSpPr>
            <p:spPr>
              <a:xfrm>
                <a:off x="55800" y="20520"/>
                <a:ext cx="1144800" cy="1238400"/>
              </a:xfrm>
              <a:custGeom>
                <a:avLst/>
                <a:gdLst>
                  <a:gd name="textAreaLeft" fmla="*/ 55800 w 1144800"/>
                  <a:gd name="textAreaRight" fmla="*/ 1089000 w 1144800"/>
                  <a:gd name="textAreaTop" fmla="*/ 55800 h 1238400"/>
                  <a:gd name="textAreaBottom" fmla="*/ 1182600 h 1238400"/>
                </a:gdLst>
                <a:ahLst/>
                <a:rect l="textAreaLeft" t="textAreaTop" r="textAreaRight" b="textAreaBottom"/>
                <a:pathLst>
                  <a:path w="21600" h="23365">
                    <a:moveTo>
                      <a:pt x="3600" y="0"/>
                    </a:moveTo>
                    <a:arcTo wR="3600" hR="3600" stAng="16200000" swAng="-5400000"/>
                    <a:lnTo>
                      <a:pt x="0" y="19765"/>
                    </a:lnTo>
                    <a:arcTo wR="3600" hR="3600" stAng="10800000" swAng="-5400000"/>
                    <a:lnTo>
                      <a:pt x="18000" y="2336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35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Box 40"/>
            <p:cNvSpPr/>
            <p:nvPr/>
          </p:nvSpPr>
          <p:spPr>
            <a:xfrm>
              <a:off x="34920" y="5346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44"/>
            <p:cNvSpPr/>
            <p:nvPr/>
          </p:nvSpPr>
          <p:spPr>
            <a:xfrm>
              <a:off x="34920" y="762840"/>
              <a:ext cx="11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8"/>
          <p:cNvGrpSpPr/>
          <p:nvPr/>
        </p:nvGrpSpPr>
        <p:grpSpPr>
          <a:xfrm>
            <a:off x="34920" y="1284120"/>
            <a:ext cx="1225440" cy="1278000"/>
            <a:chOff x="34920" y="1284120"/>
            <a:chExt cx="1225440" cy="1278000"/>
          </a:xfrm>
        </p:grpSpPr>
        <p:grpSp>
          <p:nvGrpSpPr>
            <p:cNvPr id="131" name="Group 9"/>
            <p:cNvGrpSpPr/>
            <p:nvPr/>
          </p:nvGrpSpPr>
          <p:grpSpPr>
            <a:xfrm>
              <a:off x="81360" y="1284120"/>
              <a:ext cx="1179000" cy="1278000"/>
              <a:chOff x="81360" y="1284120"/>
              <a:chExt cx="1179000" cy="1278000"/>
            </a:xfrm>
          </p:grpSpPr>
          <p:sp>
            <p:nvSpPr>
              <p:cNvPr id="132" name="圆角矩形 31"/>
              <p:cNvSpPr/>
              <p:nvPr/>
            </p:nvSpPr>
            <p:spPr>
              <a:xfrm>
                <a:off x="135000" y="1311480"/>
                <a:ext cx="1125360" cy="125064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50640"/>
                  <a:gd name="textAreaBottom" fmla="*/ 1195920 h 1250640"/>
                </a:gdLst>
                <a:ahLst/>
                <a:rect l="textAreaLeft" t="textAreaTop" r="textAreaRight" b="textAreaBottom"/>
                <a:pathLst>
                  <a:path w="21600" h="24004">
                    <a:moveTo>
                      <a:pt x="3600" y="0"/>
                    </a:moveTo>
                    <a:arcTo wR="3600" hR="3600" stAng="16200000" swAng="-5400000"/>
                    <a:lnTo>
                      <a:pt x="0" y="20404"/>
                    </a:lnTo>
                    <a:arcTo wR="3600" hR="3600" stAng="10800000" swAng="-5400000"/>
                    <a:lnTo>
                      <a:pt x="18000" y="240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圆角矩形 32"/>
              <p:cNvSpPr/>
              <p:nvPr/>
            </p:nvSpPr>
            <p:spPr>
              <a:xfrm>
                <a:off x="81360" y="1284120"/>
                <a:ext cx="1125360" cy="123804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38040"/>
                  <a:gd name="textAreaBottom" fmla="*/ 1183320 h 1238040"/>
                </a:gdLst>
                <a:ahLst/>
                <a:rect l="textAreaLeft" t="textAreaTop" r="textAreaRight" b="textAreaBottom"/>
                <a:pathLst>
                  <a:path w="21600" h="23762">
                    <a:moveTo>
                      <a:pt x="3600" y="0"/>
                    </a:moveTo>
                    <a:arcTo wR="3600" hR="3600" stAng="16200000" swAng="-5400000"/>
                    <a:lnTo>
                      <a:pt x="0" y="20162"/>
                    </a:lnTo>
                    <a:arcTo wR="3600" hR="3600" stAng="10800000" swAng="-5400000"/>
                    <a:lnTo>
                      <a:pt x="18000" y="237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1e6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Box 41"/>
            <p:cNvSpPr/>
            <p:nvPr/>
          </p:nvSpPr>
          <p:spPr>
            <a:xfrm>
              <a:off x="71280" y="1806120"/>
              <a:ext cx="5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45"/>
            <p:cNvSpPr/>
            <p:nvPr/>
          </p:nvSpPr>
          <p:spPr>
            <a:xfrm>
              <a:off x="34920" y="2022840"/>
              <a:ext cx="11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34920" y="2585880"/>
            <a:ext cx="1204920" cy="1278000"/>
            <a:chOff x="34920" y="2585880"/>
            <a:chExt cx="1204920" cy="1278000"/>
          </a:xfrm>
        </p:grpSpPr>
        <p:grpSp>
          <p:nvGrpSpPr>
            <p:cNvPr id="137" name="Group 15"/>
            <p:cNvGrpSpPr/>
            <p:nvPr/>
          </p:nvGrpSpPr>
          <p:grpSpPr>
            <a:xfrm>
              <a:off x="61200" y="2585880"/>
              <a:ext cx="1178640" cy="1278000"/>
              <a:chOff x="61200" y="2585880"/>
              <a:chExt cx="1178640" cy="1278000"/>
            </a:xfrm>
          </p:grpSpPr>
          <p:sp>
            <p:nvSpPr>
              <p:cNvPr id="138" name="圆角矩形 34"/>
              <p:cNvSpPr/>
              <p:nvPr/>
            </p:nvSpPr>
            <p:spPr>
              <a:xfrm>
                <a:off x="114840" y="2612160"/>
                <a:ext cx="1125000" cy="1251720"/>
              </a:xfrm>
              <a:custGeom>
                <a:avLst/>
                <a:gdLst>
                  <a:gd name="textAreaLeft" fmla="*/ 54720 w 1125000"/>
                  <a:gd name="textAreaRight" fmla="*/ 1070280 w 1125000"/>
                  <a:gd name="textAreaTop" fmla="*/ 54720 h 1251720"/>
                  <a:gd name="textAreaBottom" fmla="*/ 1197000 h 1251720"/>
                </a:gdLst>
                <a:ahLst/>
                <a:rect l="textAreaLeft" t="textAreaTop" r="textAreaRight" b="textAreaBottom"/>
                <a:pathLst>
                  <a:path w="21600" h="24032">
                    <a:moveTo>
                      <a:pt x="3600" y="0"/>
                    </a:moveTo>
                    <a:arcTo wR="3600" hR="3600" stAng="16200000" swAng="-5400000"/>
                    <a:lnTo>
                      <a:pt x="0" y="20432"/>
                    </a:lnTo>
                    <a:arcTo wR="3600" hR="3600" stAng="10800000" swAng="-5400000"/>
                    <a:lnTo>
                      <a:pt x="18000" y="240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角矩形 35"/>
              <p:cNvSpPr/>
              <p:nvPr/>
            </p:nvSpPr>
            <p:spPr>
              <a:xfrm>
                <a:off x="61200" y="2585880"/>
                <a:ext cx="1125000" cy="1238760"/>
              </a:xfrm>
              <a:custGeom>
                <a:avLst/>
                <a:gdLst>
                  <a:gd name="textAreaLeft" fmla="*/ 54720 w 1125000"/>
                  <a:gd name="textAreaRight" fmla="*/ 1070280 w 1125000"/>
                  <a:gd name="textAreaTop" fmla="*/ 54720 h 1238760"/>
                  <a:gd name="textAreaBottom" fmla="*/ 1184040 h 1238760"/>
                </a:gdLst>
                <a:ahLst/>
                <a:rect l="textAreaLeft" t="textAreaTop" r="textAreaRight" b="textAreaBottom"/>
                <a:pathLst>
                  <a:path w="21600" h="23783">
                    <a:moveTo>
                      <a:pt x="3600" y="0"/>
                    </a:moveTo>
                    <a:arcTo wR="3600" hR="3600" stAng="16200000" swAng="-5400000"/>
                    <a:lnTo>
                      <a:pt x="0" y="20183"/>
                    </a:lnTo>
                    <a:arcTo wR="3600" hR="3600" stAng="10800000" swAng="-5400000"/>
                    <a:lnTo>
                      <a:pt x="18000" y="237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a8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Box 42"/>
            <p:cNvSpPr/>
            <p:nvPr/>
          </p:nvSpPr>
          <p:spPr>
            <a:xfrm>
              <a:off x="51120" y="310464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46"/>
            <p:cNvSpPr/>
            <p:nvPr/>
          </p:nvSpPr>
          <p:spPr>
            <a:xfrm>
              <a:off x="34920" y="3321360"/>
              <a:ext cx="111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34920" y="3886200"/>
            <a:ext cx="1171440" cy="1278000"/>
            <a:chOff x="34920" y="3886200"/>
            <a:chExt cx="1171440" cy="1278000"/>
          </a:xfrm>
        </p:grpSpPr>
        <p:grpSp>
          <p:nvGrpSpPr>
            <p:cNvPr id="143" name="Group 21"/>
            <p:cNvGrpSpPr/>
            <p:nvPr/>
          </p:nvGrpSpPr>
          <p:grpSpPr>
            <a:xfrm>
              <a:off x="34920" y="3886200"/>
              <a:ext cx="1171440" cy="1278000"/>
              <a:chOff x="34920" y="3886200"/>
              <a:chExt cx="1171440" cy="1278000"/>
            </a:xfrm>
          </p:grpSpPr>
          <p:sp>
            <p:nvSpPr>
              <p:cNvPr id="144" name="圆角矩形 37"/>
              <p:cNvSpPr/>
              <p:nvPr/>
            </p:nvSpPr>
            <p:spPr>
              <a:xfrm>
                <a:off x="82080" y="3912480"/>
                <a:ext cx="1124280" cy="1251720"/>
              </a:xfrm>
              <a:custGeom>
                <a:avLst/>
                <a:gdLst>
                  <a:gd name="textAreaLeft" fmla="*/ 54720 w 1124280"/>
                  <a:gd name="textAreaRight" fmla="*/ 1069560 w 1124280"/>
                  <a:gd name="textAreaTop" fmla="*/ 54720 h 1251720"/>
                  <a:gd name="textAreaBottom" fmla="*/ 1197000 h 1251720"/>
                </a:gdLst>
                <a:ahLst/>
                <a:rect l="textAreaLeft" t="textAreaTop" r="textAreaRight" b="textAreaBottom"/>
                <a:pathLst>
                  <a:path w="21600" h="24048">
                    <a:moveTo>
                      <a:pt x="3600" y="0"/>
                    </a:moveTo>
                    <a:arcTo wR="3600" hR="3600" stAng="16200000" swAng="-5400000"/>
                    <a:lnTo>
                      <a:pt x="0" y="20448"/>
                    </a:lnTo>
                    <a:arcTo wR="3600" hR="3600" stAng="10800000" swAng="-5400000"/>
                    <a:lnTo>
                      <a:pt x="18000" y="240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圆角矩形 38"/>
              <p:cNvSpPr/>
              <p:nvPr/>
            </p:nvSpPr>
            <p:spPr>
              <a:xfrm>
                <a:off x="34920" y="3886200"/>
                <a:ext cx="1124280" cy="1239120"/>
              </a:xfrm>
              <a:custGeom>
                <a:avLst/>
                <a:gdLst>
                  <a:gd name="textAreaLeft" fmla="*/ 54720 w 1124280"/>
                  <a:gd name="textAreaRight" fmla="*/ 1069560 w 1124280"/>
                  <a:gd name="textAreaTop" fmla="*/ 54720 h 1239120"/>
                  <a:gd name="textAreaBottom" fmla="*/ 1184400 h 1239120"/>
                </a:gdLst>
                <a:ahLst/>
                <a:rect l="textAreaLeft" t="textAreaTop" r="textAreaRight" b="textAreaBottom"/>
                <a:pathLst>
                  <a:path w="21600" h="23806">
                    <a:moveTo>
                      <a:pt x="3600" y="0"/>
                    </a:moveTo>
                    <a:arcTo wR="3600" hR="3600" stAng="16200000" swAng="-5400000"/>
                    <a:lnTo>
                      <a:pt x="0" y="20206"/>
                    </a:lnTo>
                    <a:arcTo wR="3600" hR="3600" stAng="10800000" swAng="-5400000"/>
                    <a:lnTo>
                      <a:pt x="18000" y="2380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44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Box 43"/>
            <p:cNvSpPr/>
            <p:nvPr/>
          </p:nvSpPr>
          <p:spPr>
            <a:xfrm>
              <a:off x="52200" y="44089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7"/>
            <p:cNvSpPr/>
            <p:nvPr/>
          </p:nvSpPr>
          <p:spPr>
            <a:xfrm>
              <a:off x="58680" y="4614480"/>
              <a:ext cx="11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椭圆 3"/>
          <p:cNvSpPr/>
          <p:nvPr/>
        </p:nvSpPr>
        <p:spPr>
          <a:xfrm>
            <a:off x="3511440" y="915840"/>
            <a:ext cx="3313080" cy="3311640"/>
          </a:xfrm>
          <a:prstGeom prst="ellipse">
            <a:avLst/>
          </a:prstGeom>
          <a:solidFill>
            <a:srgbClr val="31859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"/>
          <p:cNvSpPr/>
          <p:nvPr/>
        </p:nvSpPr>
        <p:spPr>
          <a:xfrm>
            <a:off x="3921120" y="1324080"/>
            <a:ext cx="2494080" cy="2493720"/>
          </a:xfrm>
          <a:prstGeom prst="ellipse">
            <a:avLst/>
          </a:prstGeom>
          <a:solidFill>
            <a:srgbClr val="1e678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"/>
          <p:cNvSpPr/>
          <p:nvPr/>
        </p:nvSpPr>
        <p:spPr>
          <a:xfrm>
            <a:off x="4457880" y="1862280"/>
            <a:ext cx="1420560" cy="1419120"/>
          </a:xfrm>
          <a:prstGeom prst="ellipse">
            <a:avLst/>
          </a:prstGeom>
          <a:solidFill>
            <a:srgbClr val="43525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5"/>
          <p:cNvSpPr/>
          <p:nvPr/>
        </p:nvSpPr>
        <p:spPr>
          <a:xfrm>
            <a:off x="4970520" y="2373480"/>
            <a:ext cx="396720" cy="396720"/>
          </a:xfrm>
          <a:prstGeom prst="ellipse">
            <a:avLst/>
          </a:prstGeom>
          <a:solidFill>
            <a:srgbClr val="e4486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6"/>
          <p:cNvSpPr/>
          <p:nvPr/>
        </p:nvSpPr>
        <p:spPr>
          <a:xfrm>
            <a:off x="5670720" y="3073320"/>
            <a:ext cx="1153800" cy="1154160"/>
          </a:xfrm>
          <a:prstGeom prst="line">
            <a:avLst/>
          </a:prstGeom>
          <a:ln w="19080">
            <a:solidFill>
              <a:srgbClr val="435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2"/>
          <p:cNvSpPr/>
          <p:nvPr/>
        </p:nvSpPr>
        <p:spPr>
          <a:xfrm flipH="1">
            <a:off x="5308200" y="915840"/>
            <a:ext cx="1515960" cy="1516320"/>
          </a:xfrm>
          <a:prstGeom prst="line">
            <a:avLst/>
          </a:prstGeom>
          <a:ln w="19080">
            <a:solidFill>
              <a:srgbClr val="e44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27"/>
          <p:cNvSpPr/>
          <p:nvPr/>
        </p:nvSpPr>
        <p:spPr>
          <a:xfrm flipH="1">
            <a:off x="1568160" y="915840"/>
            <a:ext cx="1942920" cy="0"/>
          </a:xfrm>
          <a:prstGeom prst="line">
            <a:avLst/>
          </a:prstGeom>
          <a:ln w="19080">
            <a:solidFill>
              <a:srgbClr val="2a8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28"/>
          <p:cNvSpPr/>
          <p:nvPr/>
        </p:nvSpPr>
        <p:spPr>
          <a:xfrm flipH="1">
            <a:off x="1547280" y="4218120"/>
            <a:ext cx="1963800" cy="9360"/>
          </a:xfrm>
          <a:prstGeom prst="line">
            <a:avLst/>
          </a:prstGeom>
          <a:ln w="19080">
            <a:solidFill>
              <a:srgbClr val="1e6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29"/>
          <p:cNvSpPr/>
          <p:nvPr/>
        </p:nvSpPr>
        <p:spPr>
          <a:xfrm flipH="1">
            <a:off x="6824520" y="915840"/>
            <a:ext cx="2160720" cy="0"/>
          </a:xfrm>
          <a:prstGeom prst="line">
            <a:avLst/>
          </a:prstGeom>
          <a:ln w="19080">
            <a:solidFill>
              <a:srgbClr val="e44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30"/>
          <p:cNvSpPr/>
          <p:nvPr/>
        </p:nvSpPr>
        <p:spPr>
          <a:xfrm flipH="1">
            <a:off x="6824520" y="4218120"/>
            <a:ext cx="2160720" cy="9360"/>
          </a:xfrm>
          <a:prstGeom prst="line">
            <a:avLst/>
          </a:prstGeom>
          <a:ln w="19080">
            <a:solidFill>
              <a:srgbClr val="435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31"/>
          <p:cNvSpPr/>
          <p:nvPr/>
        </p:nvSpPr>
        <p:spPr>
          <a:xfrm flipH="1">
            <a:off x="3511440" y="3452760"/>
            <a:ext cx="774720" cy="774720"/>
          </a:xfrm>
          <a:prstGeom prst="line">
            <a:avLst/>
          </a:prstGeom>
          <a:ln w="19080">
            <a:solidFill>
              <a:srgbClr val="1e6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34"/>
          <p:cNvSpPr/>
          <p:nvPr/>
        </p:nvSpPr>
        <p:spPr>
          <a:xfrm>
            <a:off x="3511440" y="915840"/>
            <a:ext cx="486000" cy="484200"/>
          </a:xfrm>
          <a:prstGeom prst="line">
            <a:avLst/>
          </a:prstGeom>
          <a:ln w="19080">
            <a:solidFill>
              <a:srgbClr val="2a8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6769080" y="9777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4860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9"/>
          <p:cNvSpPr/>
          <p:nvPr/>
        </p:nvSpPr>
        <p:spPr>
          <a:xfrm>
            <a:off x="6804000" y="3825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1"/>
          <p:cNvSpPr/>
          <p:nvPr/>
        </p:nvSpPr>
        <p:spPr>
          <a:xfrm>
            <a:off x="1260360" y="37958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6787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368360" y="9777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8fbd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6"/>
          <p:cNvSpPr/>
          <p:nvPr/>
        </p:nvSpPr>
        <p:spPr>
          <a:xfrm>
            <a:off x="1260360" y="43099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6787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7"/>
          <p:cNvSpPr/>
          <p:nvPr/>
        </p:nvSpPr>
        <p:spPr>
          <a:xfrm>
            <a:off x="6661080" y="43099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8"/>
          <p:cNvSpPr/>
          <p:nvPr/>
        </p:nvSpPr>
        <p:spPr>
          <a:xfrm>
            <a:off x="6661080" y="53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4860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9"/>
          <p:cNvSpPr/>
          <p:nvPr/>
        </p:nvSpPr>
        <p:spPr>
          <a:xfrm>
            <a:off x="1260360" y="530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8fbd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4CD4-5130-4E7A-9DAE-71FA39AD80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斜纹 11"/>
          <p:cNvSpPr/>
          <p:nvPr/>
        </p:nvSpPr>
        <p:spPr>
          <a:xfrm flipV="1" rot="16200000">
            <a:off x="3951720" y="-47160"/>
            <a:ext cx="1227240" cy="9153720"/>
          </a:xfrm>
          <a:custGeom>
            <a:avLst/>
            <a:gdLst>
              <a:gd name="textAreaLeft" fmla="*/ 0 w 1227240"/>
              <a:gd name="textAreaRight" fmla="*/ 1227600 w 1227240"/>
              <a:gd name="textAreaTop" fmla="*/ -360 h 9153720"/>
              <a:gd name="textAreaBottom" fmla="*/ 915372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斜纹 11"/>
          <p:cNvSpPr/>
          <p:nvPr/>
        </p:nvSpPr>
        <p:spPr>
          <a:xfrm flipH="1" rot="16200000">
            <a:off x="3953160" y="-3979800"/>
            <a:ext cx="1222560" cy="9153720"/>
          </a:xfrm>
          <a:custGeom>
            <a:avLst/>
            <a:gdLst>
              <a:gd name="textAreaLeft" fmla="*/ 0 w 1222560"/>
              <a:gd name="textAreaRight" fmla="*/ 1222560 w 1222560"/>
              <a:gd name="textAreaTop" fmla="*/ 0 h 9153720"/>
              <a:gd name="textAreaBottom" fmla="*/ 915408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斜纹 11"/>
          <p:cNvSpPr/>
          <p:nvPr/>
        </p:nvSpPr>
        <p:spPr>
          <a:xfrm flipH="1" rot="16200000">
            <a:off x="3951000" y="-3339000"/>
            <a:ext cx="1227240" cy="9153720"/>
          </a:xfrm>
          <a:custGeom>
            <a:avLst/>
            <a:gdLst>
              <a:gd name="textAreaLeft" fmla="*/ -360 w 1227240"/>
              <a:gd name="textAreaRight" fmla="*/ 1227240 w 1227240"/>
              <a:gd name="textAreaTop" fmla="*/ 0 h 9153720"/>
              <a:gd name="textAreaBottom" fmla="*/ 915408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斜纹 11"/>
          <p:cNvSpPr/>
          <p:nvPr/>
        </p:nvSpPr>
        <p:spPr>
          <a:xfrm flipV="1" rot="16200000">
            <a:off x="3951000" y="-660960"/>
            <a:ext cx="1228680" cy="9153720"/>
          </a:xfrm>
          <a:custGeom>
            <a:avLst/>
            <a:gdLst>
              <a:gd name="textAreaLeft" fmla="*/ 0 w 1228680"/>
              <a:gd name="textAreaRight" fmla="*/ 1229040 w 1228680"/>
              <a:gd name="textAreaTop" fmla="*/ -360 h 9153720"/>
              <a:gd name="textAreaBottom" fmla="*/ 915372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2195640" y="1968480"/>
            <a:ext cx="54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35258"/>
                </a:solidFill>
                <a:latin typeface="Matura MT Script Capitals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175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06:54:00Z</dcterms:created>
  <dc:creator>Administrator</dc:creator>
  <dc:description/>
  <cp:keywords/>
  <dc:language>en-US</dc:language>
  <cp:lastModifiedBy>a</cp:lastModifiedBy>
  <dcterms:modified xsi:type="dcterms:W3CDTF">2014-08-02T02:26:42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