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A70-FC9C-4F94-A5D7-52ECD008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138-EA57-489E-B393-A87C165D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94E-CBAE-4C86-9666-4CEA130D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3CD-073A-46F7-AF90-9DFA2704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FA1-8FC8-4C37-9A20-DC682F93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D5F-A32F-402E-BFD0-3E4E0F3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010-4F9F-4DE2-91FA-858D0B3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ECF-324B-4450-A219-8D3D0F64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EE8-8E47-44FE-97C3-5F9049D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D67-3ABE-45FF-9784-F2FCC4BB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CAB-35B6-45B8-9B43-3E379CE4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B56-65E6-4136-977A-5D6833C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1940-0712-45C9-8BCE-1AF1973641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DC1-4751-47F3-A330-780E5D84E6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362320" y="3962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1:19:48Z</dcterms:created>
  <dc:creator/>
  <dc:description/>
  <cp:keywords/>
  <dc:language>en-US</dc:language>
  <cp:lastModifiedBy>a</cp:lastModifiedBy>
  <dcterms:modified xsi:type="dcterms:W3CDTF">2014-07-15T02:2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