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777-7EAF-4568-9A67-691B2AEA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A8A-22A4-4589-BB44-CCAA9F10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9D9-9F41-469E-BE06-3C47FA58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177-7EA6-4960-AE05-6F0F9AF2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7A36-CDD8-4493-886E-98A9EA6F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6214-16DD-4AAD-8298-D181D8CC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BBB2-3B4B-4028-90E3-4C996324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E405-88C5-40DC-BC1E-FA4ED086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64B1-B804-4A7C-A706-FF534EE0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8337-6A74-437E-A37F-8F0F5E37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384C-F872-43A6-A618-E552FC64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D67-CF14-4109-8AA4-E09405B7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4D7A-491F-474A-A238-78A1361E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BB77-7E26-4539-86ED-3286B565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1F7C-1FA8-41F5-8C5B-C0F466EC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0811-11A1-49EC-9563-473885DE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066D-88E6-4A64-AAEB-CEBCC60E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90FB-ED1F-4E93-B846-4CB78105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59FC-B43A-4294-AD27-5FD9BD39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61DF-C9AA-491A-BC86-AFBB918D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ED5-FFA3-4793-BDCB-E3713FFB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6D56-3D28-4A26-9585-9BB0099D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B315-5985-4C21-A38E-6446D7AF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854D-0EA9-4187-96CB-30F6518E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015F-3455-428D-AAE3-03F6F0B26AE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5517-A522-45EE-8180-BE4577C12A5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0F22-762A-4E1D-AF9C-FD0D95BDCF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71480" y="2742840"/>
            <a:ext cx="54579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  <a:ea typeface="宋体"/>
              </a:rPr>
              <a:t>PRESENTATION 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06720" y="3528720"/>
            <a:ext cx="4494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Calibri"/>
              </a:rPr>
              <a:t>Compan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16:40:44Z</dcterms:created>
  <dc:creator>Admin</dc:creator>
  <dc:description/>
  <cp:keywords/>
  <dc:language>en-US</dc:language>
  <cp:lastModifiedBy>a</cp:lastModifiedBy>
  <dcterms:modified xsi:type="dcterms:W3CDTF">2014-08-02T02:26:55Z</dcterms:modified>
  <cp:revision>8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