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7C4C-3264-4A25-8056-AFF2B78A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A264-7273-4DB9-91DC-A1EE3752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2773-0E10-4DAC-8AC5-1A3190E8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CA2D-FFA2-44EA-BAE7-2EE1A432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6860-9462-4AC7-A776-180133A4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4D24-A1F0-4F3E-9538-0B4995D7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7785-D074-4751-8D59-686FE3A6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2806-015D-4C0F-A66D-B9227DF0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3D58-830F-48E0-B070-F8DF4D50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F914-E5CF-4872-9031-B8D8E2EB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E05A-808E-43E1-B2D8-9193A2D9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EB03-DA81-4808-9F29-EB664D96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DAEF-2693-4AEC-A50C-2D3C5F54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DE57-8B4C-4FB3-8AAA-6FE20789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8FE8-6775-46FB-BEE2-3FEE82ED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72AB-C296-42EA-819B-877171FA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9426-4F31-495A-B3D7-A20DFBE8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E9EC-4537-4A06-B60F-FBCEF0B0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5336-AF85-4ED8-A1EE-8E2A68AE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0559-8A59-4045-8137-59EE33E1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B278-5FC3-457C-9C03-64E6D990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0813-C21E-46E2-A815-242CDF48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C81A-B618-476F-AD51-16CF7702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BDA4-2118-4066-AD60-0259B50B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EF11-71D1-415C-8098-7A486C9A3E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16D3-5C6E-4E81-A207-9E6A8FC401E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0589-9FF6-4E11-83A7-07F8E3CA84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91186774 副本副本"/>
          <p:cNvPicPr/>
          <p:nvPr/>
        </p:nvPicPr>
        <p:blipFill>
          <a:blip r:embed="rId1"/>
          <a:stretch/>
        </p:blipFill>
        <p:spPr>
          <a:xfrm>
            <a:off x="1440" y="117360"/>
            <a:ext cx="9142560" cy="666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5T02:12:16Z</dcterms:created>
  <dc:creator>Administrator</dc:creator>
  <dc:description/>
  <cp:keywords/>
  <dc:language>en-US</dc:language>
  <cp:lastModifiedBy>a</cp:lastModifiedBy>
  <dcterms:modified xsi:type="dcterms:W3CDTF">2014-08-09T07:06:0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