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A088F-0A85-4E91-8C52-928E437F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6BB4-9861-4AC4-96FC-6E259DF0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4D499-B26F-45AD-A65D-2C758CB7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1C46-F145-4645-A736-9F7005C1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C6DF-15CE-4839-BEC7-CA7F084E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E025-B96A-43FA-9B45-916EC896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CC7B-A0F3-41BC-890A-ED100765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9C18-ABC3-45C5-B6CE-7EFE3BF5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C81B-1949-4A83-B9F2-CA0E9230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97E35-1B8C-4524-9172-7ED1761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4B5B-99F1-4D6C-8266-F076793D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E4DBD-F444-4A1A-BE3E-6F3D0A1E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30A2-1742-4877-A508-CC25F5E2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11011-169A-44DD-84BB-05A9AB2E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0C81-E474-44CD-809B-3A479790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A7A9-0413-4A35-B0DA-A660E039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E552-17EA-4BE0-9E94-8DCD7CF7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C326-1B89-444C-B589-1AE506DC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B08C3-00DF-4A93-99FC-BECD3ADA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AA1DB-DA01-4362-A10F-0DFD6577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A6A1F-88A1-4BDC-9989-096CF4D4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13AB-02B4-4984-9FEA-6990128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E066-E280-4FED-B27A-48E9FA0E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F416-99F6-4523-BCA4-A7EDDAD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DB3-BA1C-4941-92FD-84F906BF8DA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36360" y="6651720"/>
            <a:ext cx="1084320" cy="215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EF53-FCE3-498E-BCCE-F58AB059BAC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4ACF-3F10-4960-8C9C-B53ABC0E72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522900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cp:keywords/>
  <dc:language>en-US</dc:language>
  <cp:lastModifiedBy>a</cp:lastModifiedBy>
  <dcterms:modified xsi:type="dcterms:W3CDTF">2014-07-16T08:54:11Z</dcterms:modified>
  <cp:revision>599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