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760-7F20-4476-8238-D1A95F38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943-7D27-40B9-9A44-41F75A2B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CE9-A7C7-43E9-A399-497479F9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8E6-61AC-457B-8C0D-62414A00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FDD8-6FAF-45A3-AC87-BD036B06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7C03-9BBE-4CA4-A668-71D5EABB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CB3D-E440-41EA-B701-A9E27E80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9B61-68CC-4906-842C-237861E8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843E-7991-4688-8AE0-B7A8C28B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1750-285C-401F-A267-A64C03DE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39D6-3B61-4A32-AB56-6210159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EEA-5609-4A04-8995-899F5A7B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7F10-A486-4618-961E-5DDBAF19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D8D9-3EBB-4FEE-ADA0-09E3E4AC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837D-F0A1-438A-A011-3A6EE0A0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8E2-7878-4317-B87A-59C5BCA3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BE37-8529-4252-B1DE-BC8FC34A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5234-023B-48EB-B974-1167394C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9D97-444E-4593-8F81-F3934EB5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2B20-3382-42BB-8B60-75F3FAFC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A781-EA2E-42A7-B338-D7CC45A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FA83-866C-4BEB-91BB-0C7FF30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AD3-98B0-4ADB-A46C-29DB38D3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7224-6C8F-4CB8-9970-31B929FD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48E3-C11E-40E0-92DB-706D13B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9CFF-2320-4F5B-9B29-614CA54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8B83-F294-4939-AE43-990D4149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01E42-D75D-48C4-8EA6-2A9CB052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2D3B-D59E-49B4-A9D5-28703C89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C670-F604-4566-A4CF-2A8EA188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AC0-169B-4B19-B29C-2F0E2167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8A9-B054-4ECD-BEB5-825F23F8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C59-B324-4C4F-B397-EFC448F1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B42-2BD2-4BAA-BE14-E2D46EE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BE7-E203-4E46-BE2C-3D57CFF4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2DC-ED3E-4B18-8BAD-B9BA74B0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6856-2D1E-4D24-88CD-97CAA26EAEAE}" type="slidenum">
              <a:rPr b="1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E575-C889-4FD4-91F7-284EF084619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C33F-C3E2-47AA-A586-2D66B9BDA7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4486c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348E-8261-49E0-858B-E460E74FE2D0}" type="slidenum">
              <a:rPr b="0" lang="zh-CN" sz="1000" spc="-1" strike="noStrike">
                <a:solidFill>
                  <a:srgbClr val="24486c"/>
                </a:solidFill>
                <a:latin typeface="Arial Black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Your Topic Goes 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40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/>
  <dc:description/>
  <cp:keywords/>
  <dc:language>en-US</dc:language>
  <cp:lastModifiedBy>a</cp:lastModifiedBy>
  <dcterms:modified xsi:type="dcterms:W3CDTF">2014-07-29T06:55:03Z</dcterms:modified>
  <cp:revision>8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