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21296-1025-4BD5-BE7B-A3029A149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A29B7-C85E-436E-A321-ABE62B557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75223-F26F-4F77-AE60-F51479A1F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421AC-9144-4BB6-BAA2-5901C5966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D4E96-17C4-40E8-905A-5CA634618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F8468-562A-41F1-A48F-ECB7F5C41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0922E-8860-4FCC-AE1A-DCC55FDF3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D8D9D-73FE-4E7C-A542-A28834755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1A76B-CA3D-470E-9983-0868C0EA5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F3ADE-A228-479C-A6E3-F4D2FA25A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F7147-183F-4347-9080-49010A629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A2557-DC11-4F15-9814-D958A50D0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F2267-0139-4B0F-977C-7D19317D3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37AED-5CEC-4E1C-9D4B-3B0A4D59A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9EC39-12AC-449E-B2FF-E78DD246C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F0E56-0C04-4BA6-B7ED-5FAFEDE4A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64532-5695-42EA-BB03-DEF80C801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43A07-242E-423E-B86F-D9EE8E0A1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4EB71-1FE7-4271-8A54-663B1E97F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2DA0F-57E7-49C6-8D06-5F2EA9F53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0A56E-9133-4D43-AA16-736EF5001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9189E-1EAD-490A-A04C-EAF106CD4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312DF-E920-4DB4-B808-2D4B7CB17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3D890-5053-452A-A4C5-1BEB296B6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6" descr=""/>
          <p:cNvPicPr/>
          <p:nvPr/>
        </p:nvPicPr>
        <p:blipFill>
          <a:blip r:embed="rId3"/>
          <a:stretch/>
        </p:blipFill>
        <p:spPr>
          <a:xfrm>
            <a:off x="8461440" y="6670800"/>
            <a:ext cx="677880" cy="1807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6C378-B7B8-4184-BA47-4BF7E72EB427}" type="slidenum">
              <a:rPr b="0" lang="es-E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1CB20-786E-45C4-B5A6-22ADEE7F9E2F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440EC-5F13-4F92-9812-A408CFB39E83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47640" y="1196640"/>
            <a:ext cx="583272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4400" spc="-1" strike="noStrike">
                <a:solidFill>
                  <a:srgbClr val="ffffff"/>
                </a:solidFill>
                <a:latin typeface="Arial"/>
              </a:rPr>
              <a:t>Presentation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3" descr=""/>
          <p:cNvPicPr/>
          <p:nvPr/>
        </p:nvPicPr>
        <p:blipFill>
          <a:blip r:embed="rId2"/>
          <a:stretch/>
        </p:blipFill>
        <p:spPr>
          <a:xfrm>
            <a:off x="8286840" y="6541920"/>
            <a:ext cx="892080" cy="3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88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9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TextBox 7"/>
            <p:cNvSpPr/>
            <p:nvPr/>
          </p:nvSpPr>
          <p:spPr>
            <a:xfrm rot="20926800">
              <a:off x="1908000" y="3573720"/>
              <a:ext cx="46670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www.</a:t>
              </a:r>
              <a:r>
                <a:rPr b="1" lang="zh-CN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eeppt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cp:keywords/>
  <dc:language>en-US</dc:language>
  <cp:lastModifiedBy>a</cp:lastModifiedBy>
  <dcterms:modified xsi:type="dcterms:W3CDTF">2014-07-17T06:10:54Z</dcterms:modified>
  <cp:revision>730</cp:revision>
  <dc:subject/>
  <dc:title>Diapositiv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636</vt:lpwstr>
  </property>
</Properties>
</file>