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B782-35A6-4527-86D6-A81F56E58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D2F2-32DB-4A09-86A8-AB43AA6AE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DE40BD-CA26-4165-8119-9A8BBE328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5C7772-AB43-425E-A8A1-30B3A7EBA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151D76-0F5A-4E2C-AA76-3827BF7B4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13CEAA-9BE3-4BF0-8815-FB97CCB60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09CE98-9BC4-412E-A809-125C47F43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641FDE-D3F0-4904-ADD5-5391BD8E7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5674BB-17F7-4119-9B5B-5B023A7B7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34B972-8228-4675-99D3-39216C11C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3E6814-A889-40FA-AE25-079EE2673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496745-DAB6-4853-82FE-6E1A23C99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DA2A-16CB-4AFC-AA49-13C89B48D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A0AC95-26D1-42D3-827C-677A8D90F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BD8AA1-6DFD-4011-9554-FF2DC470D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A81506-BB0B-48D0-8001-314AC580C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707D2E-62AC-4354-ADC2-87883047C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A718E9-377F-454E-B6A9-B0FAB854A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9463A9-350F-4CE3-A8BD-DE142435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9593C7-50D0-4ECC-B779-BEB9AE12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429E52-A766-439D-AE5B-0D83776A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42F9DB-C3FF-4821-A9B1-2912DC12B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F8450B-D0AC-4B33-9E68-EA75BDC57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D014-CB33-45F5-A2E1-B563C6A01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F94846-874F-4616-B9D9-932651203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FDC8E5-101C-436D-97AE-9651EDFCA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91BD7F-3462-42A0-B215-B4A8D5381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B8DF91-BFF3-4969-A4F2-35A37F02B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B84379-72CD-41DC-A01C-BA2FD46D2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4EA333-4784-4508-8163-EA9EF7F1A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EDB62A-8079-4BD6-9FB8-393337151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020679-FE09-4342-9AD4-79F7B120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27CBCE-A4B4-4B90-8758-20175318B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A9A5F2-F413-403D-A5DF-7818F24F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665E5-8383-458E-94F0-6AF8F0008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3F62B3-C753-4BDB-BBFD-9137DB42D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059B64-49EC-4BFF-96FE-2379B2CC9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88E2D0-9699-4895-8716-D67C59B0B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B37D00-23F0-4324-B8B7-91F2543A7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E8B23C-DFDB-4E5D-A4E6-796874CC3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97862F-0CCE-4DFD-A0C3-EA2EA5D1B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79F24C-B013-460F-84EC-34645E43A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E82929-AD75-4A1D-8D23-8C5180D9C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A2E45C-05C0-46FD-BD42-75ED11CB3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A8173C-7B39-4484-BA0E-FDB6A592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AE7FC-373C-44D2-A23C-367F556A3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863DDD-0D9F-4788-9044-8D6C3324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414508-6C38-46D5-9077-938FA66B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0E2760-B563-4BA1-96AB-5349BB188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6C2AD5-93E0-4850-89B0-F8E40309B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34740D-53C6-46C6-BA79-263E1A052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4DE788-78FF-462A-99DB-2A7015232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04DE25-3B36-406C-A371-5C951B5F5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687101-E6B1-46EE-84C5-8CF41AB0A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0EE6A0-12AC-4333-BF92-309CDA67F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2F136C-0D97-4C0B-96F7-9EBE9CFD8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0B0EA-DDF0-4053-8C79-C75352011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E958FD-E82F-4B0E-B794-B73508078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2D0845-88F4-4CFD-8A1D-E3E01F1DF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55F285-A146-4EEB-818E-2D3858CB0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EB8AEC-7C50-467C-947F-7DF0BB452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2C251E-A21E-45A9-9B7A-4E9E9D131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F3ED98-A845-4794-AA01-F28D35DD7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E54C75-0772-4EDD-9512-9E4D1BDA4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332EB-1EEE-47F3-9AEE-5B1C6E535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61BCD-D8C9-4FC6-AF91-9F6EC05AB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47E83-B6CA-4CFD-9425-C49D5060F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79943-D2B3-44E2-A191-D475C6624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0BB0-29A8-4877-B1A0-96B0BC8DD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D7F02-443F-45D5-B709-3A4929B99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2637B-CD7B-420E-A65A-F9C81E89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10A8A-6BEF-45FF-AF66-ACCBADEF7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7BB4A-CD7B-49B9-89C5-63BCA0FA4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3D4ED-C37E-40D9-9CF4-84205A149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3027D-C74C-49C9-B0EF-0B62337BB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57A65-E3F6-43C1-B56C-5B98D0409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A9F46-3F95-4CBB-9BE5-4CF2556BA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79D59-F201-4D34-B04E-A98FCB906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079ED-BA1E-4DF4-AF6A-C6B45D120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5285-1A0B-4817-98C2-8D31EF434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53939-654A-4F8D-8B8B-94FD31E22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3F334-8739-4A42-B9BD-F9B7EAD9B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56F46-575F-4AD7-ADA2-D43A618E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39D43-7CE5-4DAE-8DFE-263A84E0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2B2E7-48C8-4F87-A2D4-25CACFFB0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F4334-5648-42DB-B2A1-13161665B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E471C-7111-40EC-AF0E-F4AD5F78B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5A1B3-6771-4A15-8D11-76143415F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5C917-639D-4473-AB98-6A8FA2C32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390DC-917A-4B96-BFBD-150A90B9B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CD14-8629-4C4C-BC97-AAF88BCEF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8B28A-68FA-4D1E-A65C-23F059D2E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8AA56-A67A-4B17-BBFF-5E7B0F426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5A18D-176F-4E49-8176-F3B79DF0F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9F3BC-8095-4453-BA85-E84685D8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DCA49-DE05-4738-BAC2-0A6F496F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EB070-DD48-431F-98BE-A66607C5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E5B82-C522-4677-BADC-E1911CBC9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7AD3D-7AE7-4C9D-9C2C-B54032768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59A7F-7178-4846-8660-99BA7F1A2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C86A2-4AE9-47E7-BFF3-65FD16AC0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4FE0-F5B4-4413-BAC3-AA2D2770C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69EE2-49E0-4295-83B5-564AA37D4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D72BE-10AA-4AF8-B7C6-64D52B427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134FB-1462-4B1C-BCCE-31CBA5F14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517D6-25AB-4509-B140-39A5EBD4B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CCB4C4-597D-46E6-9A72-DEE6ADF79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A51F71-C1DA-48DB-A0D6-523D3D21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757A4-3C43-48E2-A555-A784FBFC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7BB0C0-B396-4E08-B93D-F22975072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B2FA5E-947A-4AF8-8657-D50A7268C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A1114E-9EB1-45DA-8053-AED920304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3C2D-ECB2-4519-AA65-D71FB212E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76FD0F-A7D4-4AAE-BAA6-A450CB3C2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700F28-1AE0-4672-97A3-1C522AC1F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4F1441-60A6-468B-BD95-6D254D44B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FA8CEC-B228-4E39-8901-25EBAB2E2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298ED5-5528-469E-9A48-2DF4D83FA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CA12CF-69BF-479E-B965-213CFADB5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7F7656-2D87-4394-8490-51F01CAFE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5FBD8D-C97E-43DF-861A-8D5CF1716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AE92C8-903E-408A-B619-6341DDC7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8E9427-A177-4ABE-97B8-CDE66B996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885C-D585-4384-B723-6B80E6FC9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8980B4-398A-4F59-996B-B2AB2DF78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A038DB-03E5-4F35-BD79-730F4D28B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C5A9B2-A306-4D22-9CDE-4F435212C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AB81E7-D40F-4BE1-9D81-2B76CD0A7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6809C4-3EA8-4B2F-98F8-CF0E8D31D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4165CB-49CA-4199-89C1-DA022902D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688F9A-4320-4EF8-8B68-546B41011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E226E8-DBBC-4FFB-859E-74105543B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ABE8BF-D15E-41F5-A742-E181F369E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C5F901-42C1-4B98-B9D0-0D10D1A5E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7A2C-4959-42BC-9526-B9772B00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85088C-C926-4F7C-AFA5-845FFA87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CFDAE6-B65D-46A5-9968-CECB74F7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DD0FFC-AC27-4F1B-A965-6C70DFCCB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836A85-B81F-4F2C-B6EC-8D5B7EA83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9E899A-C6F1-4724-9B89-9A2984AC3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F0AACF-6EBE-4593-915C-E4B4AFB36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69E994-CD6F-49EC-B4FA-A6F8C31D1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D52F5C-0C7D-47E0-8625-1242533FA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E1D94B-9605-4FBF-9ECC-4E5D7CD5D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2B95C3-F86E-4F24-BAAA-8EC8639F9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A7D0-BD6A-480B-B222-511B0FDA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BA9678-B477-4850-B505-52CDEE501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46BD23-5BA1-42EF-8F37-055782A1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B1EFF2-50B7-4369-B466-E763AAE7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227BA0-EDFA-4FC8-B385-E894081A4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75CEC6-77E7-498B-9077-EC89A2D70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966E12-CF32-4A2C-BB92-53BBE45AB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B06B03-B311-450F-A168-C6D6E5871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3A06BD-41B4-4A83-8CA3-5C9FBA3F0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14B8A7-2B08-4645-A496-C5CBBABE1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C2646B-F49F-4FDD-B37B-FBACF8ACF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F408B-291D-4800-8821-7C17694FD03D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29F85-8E32-4AD4-8DAA-456AEAD18F3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7F2C1-1298-4CF3-AA76-1DDDABADBF67}" type="datetime">
              <a:rPr b="0" lang="zh-CN" sz="11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4C477-43F7-482A-BF3A-6D6FFDDFDBA4}" type="slidenum">
              <a:rPr b="0" lang="zh-CN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5EF49-07F9-4B28-975C-9DC09690DA17}" type="datetime">
              <a:rPr b="0" lang="zh-CN" sz="11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4BF28-15E1-4DC0-9F50-B30017CB750F}" type="slidenum">
              <a:rPr b="0" lang="zh-CN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87C5F-B393-429C-A158-0B9FF7806649}" type="datetime">
              <a:rPr b="0" lang="zh-CN" sz="11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B1AF7-BA70-4214-A5BA-B46AD2326496}" type="slidenum">
              <a:rPr b="0" lang="zh-CN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99E18-3A0B-401E-A2AB-203ACF2D8461}" type="datetime">
              <a:rPr b="0" lang="zh-CN" sz="11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6AF8A-89ED-4504-B57C-08556841C4D3}" type="slidenum">
              <a:rPr b="0" lang="zh-CN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B25FA-BA37-4A80-994A-BAC9689EEFA9}" type="datetime">
              <a:rPr b="0" lang="zh-CN" sz="11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64F3F-FFA0-429F-BF05-7B5BCB47E1B3}" type="slidenum">
              <a:rPr b="0" lang="zh-CN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CF928-EFE0-4485-B7BD-61EB7EAE8388}" type="datetime">
              <a:rPr b="0" lang="zh-CN" sz="11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90B12-F399-4ED8-B371-485A0D31748E}" type="slidenum">
              <a:rPr b="0" lang="zh-CN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645B8-2CC4-4B46-AE9B-977DD81DEF6E}" type="datetime">
              <a:rPr b="0" lang="zh-CN" sz="11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1354F-BA49-42DD-A0D3-A516CA9AE5BD}" type="slidenum">
              <a:rPr b="0" lang="zh-CN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28852-8001-4C62-8838-2550885DAC83}" type="datetime">
              <a:rPr b="0" lang="zh-CN" sz="11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55602-C584-4D9E-B9C0-AF5EE6B1849E}" type="slidenum">
              <a:rPr b="0" lang="zh-CN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64EFB-4BD0-4EF3-A5E9-FBC2CBBECB7B}" type="datetime">
              <a:rPr b="0" lang="zh-CN" sz="11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2A916-7E05-49F9-B621-EBA5CCC892ED}" type="slidenum">
              <a:rPr b="0" lang="zh-CN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E56CC-9206-4120-8E9B-DB6E48626D58}" type="datetime">
              <a:rPr b="0" lang="zh-CN" sz="11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242E1-1404-4E4E-90A0-96904BEB6C05}" type="slidenum">
              <a:rPr b="0" lang="zh-CN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FCA1E-7F42-407E-A43C-5CB902C37C9C}" type="datetime">
              <a:rPr b="0" lang="zh-CN" sz="11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2ABCA-ACBF-4DC3-83B6-AA8AB2C85CD1}" type="slidenum">
              <a:rPr b="0" lang="zh-CN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E53DB-FB12-4B65-8F58-B8816EBC740F}" type="datetime">
              <a:rPr b="0" lang="zh-CN" sz="11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55828-3F08-4B92-ADA3-C36FFDF631F0}" type="slidenum">
              <a:rPr b="0" lang="zh-CN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矩形 3"/>
          <p:cNvSpPr/>
          <p:nvPr/>
        </p:nvSpPr>
        <p:spPr>
          <a:xfrm>
            <a:off x="1440" y="6480"/>
            <a:ext cx="9144000" cy="3278160"/>
          </a:xfrm>
          <a:prstGeom prst="rect">
            <a:avLst/>
          </a:prstGeom>
          <a:solidFill>
            <a:srgbClr val="0066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3"/>
          <p:cNvSpPr/>
          <p:nvPr/>
        </p:nvSpPr>
        <p:spPr>
          <a:xfrm>
            <a:off x="1511280" y="2062080"/>
            <a:ext cx="4181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微软雅黑"/>
              </a:rPr>
              <a:t>简约就是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3617280" y="3448080"/>
            <a:ext cx="348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蓝色简约范儿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5"/>
          <p:cNvSpPr/>
          <p:nvPr/>
        </p:nvSpPr>
        <p:spPr>
          <a:xfrm>
            <a:off x="7869240" y="5086440"/>
            <a:ext cx="123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0000"/>
                </a:solidFill>
                <a:latin typeface="Blackadder ITC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矩形 1"/>
          <p:cNvSpPr/>
          <p:nvPr/>
        </p:nvSpPr>
        <p:spPr>
          <a:xfrm>
            <a:off x="0" y="0"/>
            <a:ext cx="9144000" cy="617400"/>
          </a:xfrm>
          <a:prstGeom prst="rect">
            <a:avLst/>
          </a:prstGeom>
          <a:solidFill>
            <a:srgbClr val="0066c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直角三角形 3"/>
          <p:cNvSpPr/>
          <p:nvPr/>
        </p:nvSpPr>
        <p:spPr>
          <a:xfrm flipV="1">
            <a:off x="0" y="0"/>
            <a:ext cx="395280" cy="457200"/>
          </a:xfrm>
          <a:prstGeom prst="rtTriangle">
            <a:avLst/>
          </a:pr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Box 6"/>
          <p:cNvSpPr/>
          <p:nvPr/>
        </p:nvSpPr>
        <p:spPr>
          <a:xfrm>
            <a:off x="466560" y="8892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Group 5"/>
          <p:cNvGrpSpPr/>
          <p:nvPr/>
        </p:nvGrpSpPr>
        <p:grpSpPr>
          <a:xfrm>
            <a:off x="1740960" y="450720"/>
            <a:ext cx="5134680" cy="1501560"/>
            <a:chOff x="1740960" y="450720"/>
            <a:chExt cx="5134680" cy="1501560"/>
          </a:xfrm>
        </p:grpSpPr>
        <p:sp>
          <p:nvSpPr>
            <p:cNvPr id="541" name="TextBox 7"/>
            <p:cNvSpPr/>
            <p:nvPr/>
          </p:nvSpPr>
          <p:spPr>
            <a:xfrm>
              <a:off x="1740960" y="450720"/>
              <a:ext cx="8024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800" spc="-1" strike="noStrike">
                  <a:solidFill>
                    <a:srgbClr val="0066cc"/>
                  </a:solidFill>
                  <a:latin typeface="Arial"/>
                  <a:ea typeface="微软雅黑"/>
                </a:rPr>
                <a:t>1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矩形 19"/>
            <p:cNvSpPr/>
            <p:nvPr/>
          </p:nvSpPr>
          <p:spPr>
            <a:xfrm>
              <a:off x="2483640" y="1127880"/>
              <a:ext cx="4392000" cy="617040"/>
            </a:xfrm>
            <a:prstGeom prst="rect">
              <a:avLst/>
            </a:prstGeom>
            <a:solidFill>
              <a:srgbClr val="94949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何为简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3" name="Group 8"/>
            <p:cNvGrpSpPr/>
            <p:nvPr/>
          </p:nvGrpSpPr>
          <p:grpSpPr>
            <a:xfrm>
              <a:off x="2336400" y="941400"/>
              <a:ext cx="532080" cy="1010880"/>
              <a:chOff x="2336400" y="941400"/>
              <a:chExt cx="532080" cy="1010880"/>
            </a:xfrm>
          </p:grpSpPr>
          <p:sp>
            <p:nvSpPr>
              <p:cNvPr id="544" name="直角三角形 20"/>
              <p:cNvSpPr/>
              <p:nvPr/>
            </p:nvSpPr>
            <p:spPr>
              <a:xfrm flipV="1">
                <a:off x="2483280" y="1072440"/>
                <a:ext cx="338400" cy="607680"/>
              </a:xfrm>
              <a:prstGeom prst="rtTriangle">
                <a:avLst/>
              </a:pr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直接连接符 10"/>
              <p:cNvSpPr/>
              <p:nvPr/>
            </p:nvSpPr>
            <p:spPr>
              <a:xfrm flipH="1">
                <a:off x="2336400" y="941400"/>
                <a:ext cx="532080" cy="101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6" name="Group 11"/>
          <p:cNvGrpSpPr/>
          <p:nvPr/>
        </p:nvGrpSpPr>
        <p:grpSpPr>
          <a:xfrm>
            <a:off x="1740960" y="2138400"/>
            <a:ext cx="5134680" cy="1501560"/>
            <a:chOff x="1740960" y="2138400"/>
            <a:chExt cx="5134680" cy="1501560"/>
          </a:xfrm>
        </p:grpSpPr>
        <p:sp>
          <p:nvSpPr>
            <p:cNvPr id="547" name="TextBox 28"/>
            <p:cNvSpPr/>
            <p:nvPr/>
          </p:nvSpPr>
          <p:spPr>
            <a:xfrm>
              <a:off x="1740960" y="2138400"/>
              <a:ext cx="8024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800" spc="-1" strike="noStrike">
                  <a:solidFill>
                    <a:srgbClr val="0066cc"/>
                  </a:solidFill>
                  <a:latin typeface="Arial"/>
                  <a:ea typeface="微软雅黑"/>
                </a:rPr>
                <a:t>2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矩形 29"/>
            <p:cNvSpPr/>
            <p:nvPr/>
          </p:nvSpPr>
          <p:spPr>
            <a:xfrm>
              <a:off x="2483640" y="2815560"/>
              <a:ext cx="4392000" cy="617040"/>
            </a:xfrm>
            <a:prstGeom prst="rect">
              <a:avLst/>
            </a:prstGeom>
            <a:solidFill>
              <a:srgbClr val="94949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何为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9" name="Group 14"/>
            <p:cNvGrpSpPr/>
            <p:nvPr/>
          </p:nvGrpSpPr>
          <p:grpSpPr>
            <a:xfrm>
              <a:off x="2336400" y="2629080"/>
              <a:ext cx="532080" cy="1010880"/>
              <a:chOff x="2336400" y="2629080"/>
              <a:chExt cx="532080" cy="1010880"/>
            </a:xfrm>
          </p:grpSpPr>
          <p:sp>
            <p:nvSpPr>
              <p:cNvPr id="550" name="直角三角形 31"/>
              <p:cNvSpPr/>
              <p:nvPr/>
            </p:nvSpPr>
            <p:spPr>
              <a:xfrm flipV="1">
                <a:off x="2483280" y="2760120"/>
                <a:ext cx="338400" cy="607680"/>
              </a:xfrm>
              <a:prstGeom prst="rtTriangle">
                <a:avLst/>
              </a:prstGeom>
              <a:solidFill>
                <a:srgbClr val="d6d6d6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直接连接符 32"/>
              <p:cNvSpPr/>
              <p:nvPr/>
            </p:nvSpPr>
            <p:spPr>
              <a:xfrm flipH="1">
                <a:off x="2336400" y="2629080"/>
                <a:ext cx="532080" cy="101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2" name="Group 17"/>
          <p:cNvGrpSpPr/>
          <p:nvPr/>
        </p:nvGrpSpPr>
        <p:grpSpPr>
          <a:xfrm>
            <a:off x="1812600" y="3803760"/>
            <a:ext cx="5064480" cy="1503360"/>
            <a:chOff x="1812600" y="3803760"/>
            <a:chExt cx="5064480" cy="1503360"/>
          </a:xfrm>
        </p:grpSpPr>
        <p:sp>
          <p:nvSpPr>
            <p:cNvPr id="553" name="TextBox 34"/>
            <p:cNvSpPr/>
            <p:nvPr/>
          </p:nvSpPr>
          <p:spPr>
            <a:xfrm>
              <a:off x="1812600" y="3803760"/>
              <a:ext cx="8024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800" spc="-1" strike="noStrike">
                  <a:solidFill>
                    <a:srgbClr val="0066cc"/>
                  </a:solidFill>
                  <a:latin typeface="Arial"/>
                  <a:ea typeface="微软雅黑"/>
                </a:rPr>
                <a:t>3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矩形 35"/>
            <p:cNvSpPr/>
            <p:nvPr/>
          </p:nvSpPr>
          <p:spPr>
            <a:xfrm>
              <a:off x="2483280" y="4481640"/>
              <a:ext cx="4393800" cy="617400"/>
            </a:xfrm>
            <a:prstGeom prst="rect">
              <a:avLst/>
            </a:prstGeom>
            <a:solidFill>
              <a:srgbClr val="94949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简约与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5" name="Group 20"/>
            <p:cNvGrpSpPr/>
            <p:nvPr/>
          </p:nvGrpSpPr>
          <p:grpSpPr>
            <a:xfrm>
              <a:off x="2336040" y="4295160"/>
              <a:ext cx="532440" cy="1011960"/>
              <a:chOff x="2336040" y="4295160"/>
              <a:chExt cx="532440" cy="1011960"/>
            </a:xfrm>
          </p:grpSpPr>
          <p:sp>
            <p:nvSpPr>
              <p:cNvPr id="556" name="直角三角形 37"/>
              <p:cNvSpPr/>
              <p:nvPr/>
            </p:nvSpPr>
            <p:spPr>
              <a:xfrm flipV="1">
                <a:off x="2483280" y="4426200"/>
                <a:ext cx="338760" cy="608400"/>
              </a:xfrm>
              <a:prstGeom prst="rtTriangle">
                <a:avLst/>
              </a:prstGeom>
              <a:solidFill>
                <a:srgbClr val="d6d6d6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直接连接符 38"/>
              <p:cNvSpPr/>
              <p:nvPr/>
            </p:nvSpPr>
            <p:spPr>
              <a:xfrm flipH="1">
                <a:off x="2336040" y="4295160"/>
                <a:ext cx="532440" cy="1011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矩形 1"/>
          <p:cNvSpPr/>
          <p:nvPr/>
        </p:nvSpPr>
        <p:spPr>
          <a:xfrm>
            <a:off x="0" y="0"/>
            <a:ext cx="9144000" cy="617400"/>
          </a:xfrm>
          <a:prstGeom prst="rect">
            <a:avLst/>
          </a:prstGeom>
          <a:solidFill>
            <a:srgbClr val="0066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直角三角形 3"/>
          <p:cNvSpPr/>
          <p:nvPr/>
        </p:nvSpPr>
        <p:spPr>
          <a:xfrm flipV="1">
            <a:off x="0" y="0"/>
            <a:ext cx="395280" cy="457200"/>
          </a:xfrm>
          <a:prstGeom prst="rtTriangle">
            <a:avLst/>
          </a:pr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6"/>
          <p:cNvSpPr/>
          <p:nvPr/>
        </p:nvSpPr>
        <p:spPr>
          <a:xfrm>
            <a:off x="466560" y="8892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过渡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Group 5"/>
          <p:cNvGrpSpPr/>
          <p:nvPr/>
        </p:nvGrpSpPr>
        <p:grpSpPr>
          <a:xfrm>
            <a:off x="1885320" y="2104920"/>
            <a:ext cx="5134680" cy="1501560"/>
            <a:chOff x="1885320" y="2104920"/>
            <a:chExt cx="5134680" cy="1501560"/>
          </a:xfrm>
        </p:grpSpPr>
        <p:sp>
          <p:nvSpPr>
            <p:cNvPr id="562" name="TextBox 7"/>
            <p:cNvSpPr/>
            <p:nvPr/>
          </p:nvSpPr>
          <p:spPr>
            <a:xfrm>
              <a:off x="1885320" y="2104920"/>
              <a:ext cx="8024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800" spc="-1" strike="noStrike">
                  <a:solidFill>
                    <a:srgbClr val="0066cc"/>
                  </a:solidFill>
                  <a:latin typeface="Arial"/>
                  <a:ea typeface="微软雅黑"/>
                </a:rPr>
                <a:t>1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矩形 19"/>
            <p:cNvSpPr/>
            <p:nvPr/>
          </p:nvSpPr>
          <p:spPr>
            <a:xfrm>
              <a:off x="2628000" y="2782080"/>
              <a:ext cx="4392000" cy="617040"/>
            </a:xfrm>
            <a:prstGeom prst="rect">
              <a:avLst/>
            </a:prstGeom>
            <a:solidFill>
              <a:srgbClr val="94949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何为简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4" name="Group 8"/>
            <p:cNvGrpSpPr/>
            <p:nvPr/>
          </p:nvGrpSpPr>
          <p:grpSpPr>
            <a:xfrm>
              <a:off x="2480760" y="2595600"/>
              <a:ext cx="532080" cy="1010880"/>
              <a:chOff x="2480760" y="2595600"/>
              <a:chExt cx="532080" cy="1010880"/>
            </a:xfrm>
          </p:grpSpPr>
          <p:sp>
            <p:nvSpPr>
              <p:cNvPr id="565" name="直角三角形 20"/>
              <p:cNvSpPr/>
              <p:nvPr/>
            </p:nvSpPr>
            <p:spPr>
              <a:xfrm flipV="1">
                <a:off x="2627640" y="2726640"/>
                <a:ext cx="338400" cy="607680"/>
              </a:xfrm>
              <a:prstGeom prst="rtTriangle">
                <a:avLst/>
              </a:pr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直接连接符 10"/>
              <p:cNvSpPr/>
              <p:nvPr/>
            </p:nvSpPr>
            <p:spPr>
              <a:xfrm flipH="1">
                <a:off x="2480760" y="2595600"/>
                <a:ext cx="532080" cy="101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矩形 1"/>
          <p:cNvSpPr/>
          <p:nvPr/>
        </p:nvSpPr>
        <p:spPr>
          <a:xfrm>
            <a:off x="0" y="0"/>
            <a:ext cx="9144000" cy="6174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直角三角形 3"/>
          <p:cNvSpPr/>
          <p:nvPr/>
        </p:nvSpPr>
        <p:spPr>
          <a:xfrm flipV="1">
            <a:off x="0" y="0"/>
            <a:ext cx="395280" cy="457200"/>
          </a:xfrm>
          <a:prstGeom prst="rtTriangle">
            <a:avLst/>
          </a:pr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6"/>
          <p:cNvSpPr/>
          <p:nvPr/>
        </p:nvSpPr>
        <p:spPr>
          <a:xfrm>
            <a:off x="466560" y="8892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简约的定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2"/>
          <p:cNvSpPr/>
          <p:nvPr/>
        </p:nvSpPr>
        <p:spPr>
          <a:xfrm>
            <a:off x="539640" y="609480"/>
            <a:ext cx="80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矩形 3"/>
          <p:cNvSpPr/>
          <p:nvPr/>
        </p:nvSpPr>
        <p:spPr>
          <a:xfrm>
            <a:off x="0" y="-25560"/>
            <a:ext cx="9144000" cy="5726160"/>
          </a:xfrm>
          <a:prstGeom prst="rect">
            <a:avLst/>
          </a:prstGeom>
          <a:solidFill>
            <a:srgbClr val="0066cc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4"/>
          <p:cNvSpPr/>
          <p:nvPr/>
        </p:nvSpPr>
        <p:spPr>
          <a:xfrm>
            <a:off x="519120" y="1336680"/>
            <a:ext cx="7067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聆听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矩形 1"/>
          <p:cNvSpPr/>
          <p:nvPr/>
        </p:nvSpPr>
        <p:spPr>
          <a:xfrm>
            <a:off x="0" y="3576600"/>
            <a:ext cx="9144000" cy="2138400"/>
          </a:xfrm>
          <a:prstGeom prst="rect">
            <a:avLst/>
          </a:prstGeom>
          <a:gradFill rotWithShape="0">
            <a:gsLst>
              <a:gs pos="0">
                <a:srgbClr val="d5d5d5"/>
              </a:gs>
              <a:gs pos="100000">
                <a:srgbClr val="d3d3d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5"/>
          <p:cNvSpPr/>
          <p:nvPr/>
        </p:nvSpPr>
        <p:spPr>
          <a:xfrm>
            <a:off x="519120" y="2346480"/>
            <a:ext cx="706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s for your 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</a:rPr>
              <a:t>list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5" name="Group 2"/>
          <p:cNvGrpSpPr/>
          <p:nvPr/>
        </p:nvGrpSpPr>
        <p:grpSpPr>
          <a:xfrm>
            <a:off x="762120" y="0"/>
            <a:ext cx="7056360" cy="5714640"/>
            <a:chOff x="762120" y="0"/>
            <a:chExt cx="7056360" cy="5714640"/>
          </a:xfrm>
        </p:grpSpPr>
        <p:sp>
          <p:nvSpPr>
            <p:cNvPr id="576" name="矩形 4"/>
            <p:cNvSpPr/>
            <p:nvPr/>
          </p:nvSpPr>
          <p:spPr>
            <a:xfrm>
              <a:off x="1302480" y="0"/>
              <a:ext cx="5599800" cy="59652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3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3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762120" y="1428480"/>
              <a:ext cx="7056360" cy="42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TextBox 7"/>
            <p:cNvSpPr/>
            <p:nvPr/>
          </p:nvSpPr>
          <p:spPr>
            <a:xfrm rot="20926800">
              <a:off x="2360160" y="2964960"/>
              <a:ext cx="3889800" cy="99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26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6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26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26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26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3T08:02:13Z</dcterms:created>
  <dc:creator>yellownancy</dc:creator>
  <dc:description/>
  <dc:language>en-US</dc:language>
  <cp:lastModifiedBy>a</cp:lastModifiedBy>
  <dcterms:modified xsi:type="dcterms:W3CDTF">2015-01-15T02:54:09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