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CFAA-9409-403F-8876-A2DE50E4F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2A31-6683-45B5-B235-B5B1629BCF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3DFDC6-931D-4381-B5ED-D63A023C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301C5-BB8F-49ED-B579-BB68AEB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A9FA8-6526-438D-B1E4-BA76B79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3C927-447B-46BA-841E-58DE4E4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0E4EE-4585-4745-8075-A8FCBDE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643D6-CD4E-4A80-810B-F9023F9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86809-0641-4269-BA53-0777C1B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23916-46CB-49D5-9296-D130EB65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BA243-43A2-4792-9778-0D22EB59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A9EAE-D6E7-47BB-A691-F02FB56F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D5E9-E014-4892-AB13-3B662AB68C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4F95E-0A8E-4A7E-B5AF-F69A1EE0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5B6F8-C9B7-418A-947C-A6A5A985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FED73-3C37-4324-80FF-6359D2F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CDA98-4584-4C19-8C28-6600B6A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B27A0-ADD8-4257-87D6-93CC088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FBDC9-F183-44C0-A963-847B0C4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7C951-A7A6-4B24-A601-0601565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EE436-9173-4E34-8470-8EF6CF6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109C5-F04E-44AA-85BF-00C722C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357E6-9B66-4E1C-94CF-ED69D508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18A7-AA73-4979-8344-5136C1A53C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959FC-EFEC-4EC3-9262-8A56D277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51AFF-1FA8-435C-96D0-8765AF49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4E415-B24E-4357-B7DC-EDFBA429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73D4B-FD71-403C-ABDA-3772970D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931E6-D1C7-4604-A16F-7F2884B4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E62C8-E8B6-45C1-A965-5FE05B5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6544E-6CF4-4E2D-A6D2-58FBBB4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80070-CD19-4D92-A404-2873CE4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A1440-2623-4D79-89EA-7FC6434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B88CE-2E36-4CCA-9301-0B6E870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686E9-0CF9-43A0-9ADD-DE824E8C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4375C-AAF7-41E3-853A-6B29ECCA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5BCB3-9F8A-46E0-8D18-888DFEB7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69C39C-8C08-4C7E-B959-68D4AF1D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461F34-8242-48D6-A8EE-C6E2A5F3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60172-96A1-43A3-9AEE-1269D27B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670A8-21EC-4CC7-9439-B85ED99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0DDFC4-1275-4A98-B43B-A8D13E0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4A9052-2347-44C5-8F6F-529B9D9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4D6141-8C6C-4639-A2E0-5D77A29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C774FA-9980-43DE-BBCF-E345FC9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262B38-44D9-4875-9702-5C161E6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62485-9A10-423B-B993-C2FCF5B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423285-B4FD-4E7F-B595-83A16993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C86E1F-F297-4422-9164-029E4773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184CA-97D1-4392-BF23-0144011C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01231-AE97-4F0F-BEB5-16159D4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5B1F7-D6D0-4890-A256-F0EEC84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20DBD-55B9-4B28-B26C-E79207F4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955C8-AC6C-4F6C-A46A-91C0F514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EE4B8-BEFD-4047-A825-4DF1BBE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5BC2E-0EC6-4E37-8401-936D991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FD5DB-6AFC-4ECB-840C-ABE3626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55C5E-3A53-4C82-8B9E-663B4A2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3A417-D644-4C36-85E2-1A85A6D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2CD06-6CD0-4D53-B070-C0BC7521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EB2AE-8E36-44E0-BE24-4B4BA0E4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0DAD87-EFAE-4EB3-8E1A-2EFA881F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DEB76A-0969-41DE-A834-8836A2E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CB11B4-F868-461C-863A-07DA797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6B8FFF-01AF-4FBF-B366-3FD94F4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1CF6A3-5B59-4EE0-90CA-44FFB7D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E0055E-714E-491E-8FFB-B84A014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92788D-01BB-4312-8917-BC7265D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821494-3355-4882-B625-179C29C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243F29-ACD3-41F1-A059-F9DDAB41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AE8D17-07C0-48A9-A06A-5ED888D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BC2923-E991-4A83-B0E1-96B19B2F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4A7B9F-B266-4616-A067-4D867763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D02A-D4FB-46F4-A95F-E95BF8536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DC37A-57F1-4BD8-B616-15B279F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0A1D3-4B76-4FFF-8BDF-641A745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27401-6711-4CAC-9769-8E03952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CF3A8-ABE7-48AD-8001-D7468FB7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576F-B83A-471F-98C5-6785340E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70A6-4287-4CC0-8A59-7286B3501E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61DF4-22F3-41F8-AD42-DEB31B5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200E-7438-469F-9638-5160353A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7CA2-58DB-4914-AB29-92CE5555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5754-D967-4B87-86B0-9635F6E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A0D62-6FD3-4A5B-8E6D-7E46C4E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BF2F-62A3-46E3-88A6-F7A6C8C2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7BDC7-907B-429B-8044-7C696B21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17703-13B0-4BE3-A9E2-182201B1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A4A8D-491B-4E06-8688-C87E09F4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41562-FEA6-471D-8560-C740B2A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F81E-979A-4D36-9782-C24B549A07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ED34E-25F8-446E-9679-3AC2B5F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83810-0EF9-49B9-8DE5-BC17056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7E644-1975-447B-83F5-9EEF8A5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03DBF-7635-45A2-B470-B072B94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5C5F6-2FE9-4E34-BC66-D66DB01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B1FC0-2A5D-4F4D-8FD8-D50B00C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F68B2-F835-4088-86B4-8347A28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1BB11-6B10-40C6-87CE-E97CDC08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645C5-70ED-413D-B80E-64CD1A09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7BBD1-EEFE-4E5D-B4E9-4C9B5313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7646-27CF-4EC4-B7EC-5E745C00B1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78512-CB93-4567-9C4B-147C226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A282E-2B06-4036-8038-0BF13F4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066E5-83B6-47E1-9AC2-A13EE51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F3BC1-6A3B-4846-B965-676816B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DFA96-841C-49BD-84D8-B6F14034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E96F8-641F-4DFF-93B1-A9CA8A1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F719A-4665-4A28-A93A-EC0B3D8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3CB0A-6DCA-4A50-8D52-8C60319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AFF60-9477-4758-A203-E7464BD4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D6231-06A9-4822-BBA3-284520A6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AD7E-2D36-4922-B0AF-5430E53481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F6F25-ED1F-4891-AF0F-DD5E5F0A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E1BBC-5C2F-4ECF-A040-944498C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1B006-6B3E-4A75-B8F1-A7D5C2C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8DFA5-5FBD-44DA-9C6F-171D629F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1E0A8-9B86-4973-BAF9-8F3B6AE9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B4A8A-3751-45EA-A1DF-51873FA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5922C7-04EC-46DC-B450-5B4026E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1AB38-4F04-478F-B063-D80E20D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01CD67-4008-41C2-9A35-A8DBEB1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20EF8-2C03-47E5-AA96-9FDB2F0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0AF8-BA55-4C0C-B0ED-D2F8D70005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B24AA-9501-40BA-A0A4-A246FAD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7FCC4-AC0B-4169-BD2B-CA4093AF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71862-B529-458C-B697-D5C459B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88D4A7-E0BF-402A-8F3E-B32344D9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17A1F-6BB5-43D2-87E4-60F426F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4DA96-81E9-4505-B286-EBD09A26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F5FC4-EB40-473C-A77E-5453589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32214-3E38-4B75-8A1F-AAEC22C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2BC73-ED71-45CD-BBF9-66184588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150A9-CD60-4A4F-8379-586A67C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BBD8-227E-4829-BD48-F47C94F9A4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6138D-1080-4D91-BF97-A14C1F1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FF7F0B-19E8-4164-A030-30171E4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352EC-9050-46E9-8D89-AABCA22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436C9-EFDA-4F95-8C6D-7DAC983B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A2962-4A70-4E58-83A2-251346DE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AE62A-B5B9-4CB5-8373-5CAE4AB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952F0-FEBD-4B0C-9586-840F00C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A9C443-B68B-435C-94BC-63EA8C2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9722F-4779-492C-A089-CD65964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24BE3A-AB01-4EDC-A7F4-6887E91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6642-7A8C-42CB-BE36-C0F184AEFD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BE147-918A-48B9-AE0B-CD9F7774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89D159-C292-4720-A27F-ABEF80A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6F5F7-B368-4115-AA38-1EA9161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B2F36C-49D9-49D2-B2FA-6905D7A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93294-82F5-4998-8E25-D49CA6B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EB26E-B11D-4DE1-AA55-597CB0AD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3726D-4A57-477E-AF90-AB4B3D78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44469-CE77-42AE-8E71-5B4181FC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0D05F-CEE1-48A9-B154-C3C63AB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6446E-6FE3-4D3C-99F7-7E1C1EE7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4"/>
          <p:cNvPicPr/>
          <p:nvPr/>
        </p:nvPicPr>
        <p:blipFill>
          <a:blip r:embed="rId2"/>
          <a:srcRect l="0" t="0" r="0" b="6641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A7B1DB-ED26-4BE6-B793-C270EF2BF3A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48A-977E-4BC2-9FAE-2984124B8A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CF2-E12C-4F0F-AD38-2EE38E889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9FC-86A3-45B8-A0ED-B2324E259C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94D-85DC-46C8-B310-946F5B42B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B931-616C-4E23-86D2-B07598E6C7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1B1-9A90-4B32-84B4-AAFF9130A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00B-7241-44ED-80ED-120C0D4C06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BD4-AC7B-4188-8FDE-D35E995897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62CE-B395-48D3-AC2D-EFC92422F7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ED8A-7DAB-46FC-B9CD-4B3CF3EE04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2"/>
          <p:cNvPicPr/>
          <p:nvPr/>
        </p:nvPicPr>
        <p:blipFill>
          <a:blip r:embed="rId3"/>
          <a:stretch/>
        </p:blipFill>
        <p:spPr>
          <a:xfrm>
            <a:off x="-33480" y="3495600"/>
            <a:ext cx="9177480" cy="33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3"/>
          <p:cNvPicPr/>
          <p:nvPr/>
        </p:nvPicPr>
        <p:blipFill>
          <a:blip r:embed="rId4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C0F-4580-4E09-8B81-FBE1C754A52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77D-E098-470C-B574-A6C6B99F6E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1B0E-A934-40E7-84E5-A174369DB2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35F-8E68-4FE1-A75A-BD2BBBE41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469B-4662-48C5-807C-C25C7D997E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A537-ADBB-487E-B8C9-6E856AF88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9AA1-9E2D-4162-A3C7-BC0E0C34BD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50A-E3B5-40F3-A96E-01C59CE4E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E6E-2396-42E3-8744-50B98C8E91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47D-DA7C-40AD-AB15-A405F59CE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41D-086B-4E28-855E-5C81C14D1D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93D8-5C45-406B-B117-44F0001C1C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B00F-94DB-40D6-AD79-7D5467B042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8BE-07E3-4F86-888C-09F1AAAE0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76360" y="40942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274920" y="51732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C1A612B-6905-4EAB-9FAE-6B772EF3D86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23C4A69-06BB-4C1E-BADD-BF7D91C3894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2"/>
          <p:cNvPicPr/>
          <p:nvPr/>
        </p:nvPicPr>
        <p:blipFill>
          <a:blip r:embed="rId2"/>
          <a:stretch/>
        </p:blipFill>
        <p:spPr>
          <a:xfrm>
            <a:off x="-33480" y="3495600"/>
            <a:ext cx="9177480" cy="3362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3"/>
          <p:cNvPicPr/>
          <p:nvPr/>
        </p:nvPicPr>
        <p:blipFill>
          <a:blip r:embed="rId3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4-07-17T06:09:53Z</dcterms:modified>
  <cp:revision>15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