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B417-80B4-408B-9FEF-9E9967E89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5FAF-EF26-4C5C-A1BE-738475307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1B28-01A7-4A99-A300-B83FE8109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ECC0-A6B3-45ED-AEA9-DB680025F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8C0CD-C983-4C76-8EB7-56ED600EA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3467B-E8D9-4AA7-A25D-F33D30595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7724E-AAD1-4760-AE34-8799B1222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10D3A-9223-466C-A805-242FD7C40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3E422-F790-4D3B-B3C3-68AEF6A43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4B9E5-FB3C-448C-B01C-5353BE515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22447-1111-4782-B228-2D69F860B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5403-9E3A-43C3-A4F5-DDF996FC1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1C069-C11E-4BCA-98FC-B0F88020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06BBE-CF92-46D0-B554-CD845B3B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303A3-55B3-475A-AA05-2F8D8E593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525C0-58C0-4B65-A1EE-6318CCF40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61AA7-044D-4A4B-87B8-5C6EE9823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730F-357B-458A-8342-FD1CCC0F2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11EC-1B9E-4229-8910-99B8B0CD6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7A02-3A60-4DFA-8DF7-BB5622CA8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8998-B2ED-46B6-A185-F8E673FA9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05BC-8108-4D90-B733-56E2C4821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1B62-C09E-4A31-9071-E28FB33DE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5F31-F855-4CE9-8E56-F342FFDC9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3"/>
          <a:stretch/>
        </p:blipFill>
        <p:spPr>
          <a:xfrm>
            <a:off x="8101080" y="6597720"/>
            <a:ext cx="1008000" cy="2602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87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F774F-51E5-4F5A-B3C4-F837390D408E}" type="slidenum">
              <a:rPr b="0" lang="es-E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0E575-73F3-42E1-9E3F-6977AD20A4B4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476CD-F456-4AC4-B484-6436FA28618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75564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礼物气球</a:t>
            </a: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1403280" y="22766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4604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es-E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es-E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es-E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es-E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es-E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es-E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a</cp:lastModifiedBy>
  <dcterms:modified xsi:type="dcterms:W3CDTF">2015-01-15T02:49:43Z</dcterms:modified>
  <cp:revision>69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