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B1C-7DEE-40BE-B1B8-B20FE2A7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B61-08EA-4D85-A8A0-8963198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BAC-693E-4965-8305-24C8F7EF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A9E-8C8E-4307-B21F-87F859C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D050-B246-4D4F-9C41-AA74270B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7F51-B581-403C-9A30-6D2B9E2B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94D-9771-4EBB-8CBA-5FBBA68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864D-7B79-4435-BE5A-74D2404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232B-1474-4880-931A-646D6037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DA35-D241-4D62-9E76-53B1221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928-45A2-43DD-A3D7-8375879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0A6-B7A8-4B20-A864-C1E8DA0A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1AE4-5B22-43E0-BD42-18D4F90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7EA-3C53-46DD-A34A-06FADC3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2AC-973A-4AC2-838E-9DF4D59D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F03D-83E2-47DC-B4AA-7BE6B2D6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F2A-9BE1-4D09-B153-04A46E46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950-B9E1-42A5-939F-FA06F8F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B30-B26D-4182-BF1D-3B403A9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1A1-9684-43F2-BC6E-74B4135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0E5-E359-43BC-80A4-9915C1F8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66F-3A8C-4F90-B5D2-01828BA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6B1-FF0A-4E54-A69D-00B0E8EB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F3A-1F0A-4387-B20A-CEE2C23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061-E962-4EDE-B063-F09F8C35E9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4D4-234D-4F2F-A951-998B786644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0680-77D3-4E50-A8A5-22F707BDA0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9E7-6B13-4B0F-8D89-BFBC9160C0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1172" t="1428" r="0" b="0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21191400">
            <a:off x="2600280" y="2663640"/>
            <a:ext cx="5207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Insert the title of your presenta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21191400">
            <a:off x="2779200" y="3894840"/>
            <a:ext cx="5199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sert the subtitle of your presentatio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B143-EB41-4A6A-A5C2-69A193A4CF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2760-FCFA-48DB-B023-09919823EC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22600" cy="184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7469280" y="5067360"/>
            <a:ext cx="1674720" cy="1790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6977-9957-47BE-9915-D80AA5587C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0D4D-0763-4CA1-AC5A-0DE1CF5D9F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22600" cy="184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469280" y="5067360"/>
            <a:ext cx="1674720" cy="179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E592-2E94-4D98-9305-6597601F1BA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6AC-6186-4E2F-B5AE-6F92E0E5EA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2260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7469280" y="5067360"/>
            <a:ext cx="1674720" cy="1790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 rot="21402600">
            <a:off x="1869840" y="571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>a</cp:lastModifiedBy>
  <dcterms:modified xsi:type="dcterms:W3CDTF">2014-07-30T05:03:14Z</dcterms:modified>
  <cp:revision>1</cp:revision>
  <dc:subject/>
  <dc:title>Insert the title of your presentation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