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6393A-AECC-4F59-A127-A45C8ED4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4F0AB-060D-470E-AA31-AB294D29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0ABD8-3F21-493F-878D-D213F252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FBC7-41D1-4F01-BCC1-A29294D8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0A6C-D902-450B-AE2B-9C1BB1D9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6911D-65A6-476E-ACF7-4A311573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0899A-E5D5-43C5-A522-CD517FE9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7136B-88A7-4720-8A1A-EF245282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FC41-B2B2-4A78-AB27-199563CF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7C0F6-15F5-4AD9-A15F-41CB39CA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F16D7-9B30-4B69-93B8-18EFAD16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B0B35-DF22-4956-B909-967C7C4D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C2504-6EFD-49DA-B150-CF0F318A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3342-E812-427F-BB8E-0C3F049E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5CDDD-0A91-4C7C-A7CA-70FD3047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8483E-4913-423D-AA36-E9E0C7FA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75C48-8882-4C4F-B6F2-A85BC45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FC40B-0255-4F03-8278-F202B69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5ABFD-A817-4B28-AC7E-33432BBA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3125E-9B1E-48AC-89BE-79B5C9E8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8118D-470B-459D-A846-CFE2068F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C282F-564D-41E7-9636-60C62AFF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42C92-4504-4203-BDC6-70D5D815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2F9A3-E3B5-4EE5-A264-047ED5A2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EF0F6-C6DA-49BE-8C8D-3E49948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194EF-2D39-4DDB-8BB9-9FDE975A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A59E3-0B8E-4736-AD08-F61EBF47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849C4-8166-4488-ADD4-942673A4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1B7C8-01B7-4C94-A7B7-C723EEB6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71D47-8F06-45DD-BC0D-A825DDF4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AABBF-41E3-4645-86E6-47E4F9DD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4076D-F314-47C1-99AA-708A812C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DC0E3-7617-4356-9931-3A476F3B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7B7DB-9273-4AEE-80B9-7B75CB35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E4C80-230E-41D3-B7A0-A227FB22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40EE4-D0BE-478D-B3D5-A9486975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C134C-7A40-43F0-9A21-BD382ED6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BC489-62C3-4B0C-8F6E-15144F8C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0D0CB-A88F-43C4-BD5F-3F883473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20E99-6DD3-4F35-897A-9762A3F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76AD3-14E2-4996-B4A8-F7ED24D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B692F-5F91-47CF-AFE9-2A66CEC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41986-374F-4E26-924A-E166F1FE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31096-4DDD-47DF-9A3F-38C21377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D9BF9-98B6-4B3E-8951-47874F01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43E91-7946-461D-8613-7324E460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CC07C-2E33-487D-9D99-87102342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24658-BEB0-4C11-9344-CDE6C70A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AA9EA-964D-4DE5-813C-33D0C32A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219BF-87CB-4D63-AF79-9AC7D8CB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153FB-1767-4DEE-BE8F-A3056E1F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11442-E367-425A-9F5C-0A3B95E9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EAB3D-3D33-4BF2-822D-6DEB829D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E9D85-B2DA-4555-8A3E-ACB403C5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177A7-8E8C-48BE-BA2F-D40DB766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20117-625F-4576-9C95-EB8DCE7F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51C5E-E674-4648-8E6C-F0CC2DDB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47141-6FD8-4045-A79E-A7604C5A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32E04-E9C2-48F6-99FB-0D2AF7EB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F225E-5FE7-4982-9D7F-65021A9C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8C2C4-F7D8-4848-BC77-133260A3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8F729-D4DB-4961-A82D-D68FE59D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FF156-9951-4BA3-A070-506E14DE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3085E-0096-4498-A18F-EA361886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4F797-BDB8-4F1F-8535-47FF347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92445-0544-4DAB-933C-B118D118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2EEB2-8811-4C69-8E09-5E614C68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79A73-2B72-400F-B48A-79F7199E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04D5B-577C-496B-9522-5DD349D6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4D71C-4C40-462C-BDFC-23CA1BA8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12B31-68A9-4D77-9FC1-2A76EC38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543B3-2AF3-4151-A698-070D2604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59FE3-5E64-4553-BA1A-7A2111A2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2AED9-9C6B-4CD1-A83D-C119AA54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E3992-FEFE-48D7-A952-211E0FA9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2072C-4378-4916-B524-D4A9C0BB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37FF5-464E-4D82-AA27-DE666B28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9CF29-BB20-4F86-B5BB-3B37132C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69A50-7B12-4B5D-8407-6F7E302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CB088-3E83-420B-93A3-9BD5EFDC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3F4F0-1134-4772-BF4F-07144FDC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B23-E60B-4315-8E50-28C7C853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04D-BEDE-4785-8A70-B80A2BAB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158-3725-44C4-9983-E38799B0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DD0-9408-43B6-AEB0-41DECB05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77B-6BCB-4A95-8679-85E7E2A9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0E7-3BED-45E0-938A-FDE5B570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CF3-8FC8-4627-9107-529F1A92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173-A294-46BC-BFA6-F91FF585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038-23B7-4441-99A6-D45F137B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ADD-F984-49D0-BF01-CC81A9B1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449-1A73-435D-834F-0A50D7DA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F65-FE7F-4FA7-93B1-43B34FCB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E6DA-45B6-423A-8E43-3DE9266A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2CB8-36A9-4D5D-B34C-D716ED2D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FFC0-50AF-4D6E-8E2E-35537B7F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3143-7924-4C59-8C16-0048C079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ECFB-DACA-4D9D-917D-234B59E8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F226-E6A1-460F-A555-C8AE43AE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93EF-02B3-4300-AC61-92EAFED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94E3-F085-4CC8-A6AE-1DACD77B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B1A1-925C-4E87-A372-F20B0FCB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69EF-EDC5-48B0-9FD7-12B46C67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10E0-A065-4066-947E-03375FDC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0A3F-9105-41A4-AE60-5C704E01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E47A-2B35-4B47-92C2-FC7518A7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61C19-27A2-4CBB-99E4-94E2732C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A772-06FF-40FC-937C-AF7DF625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57B1A-8164-45F7-A33D-A76B8FB5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30EEE-FC17-4D81-83A8-16EB1F4E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AD03-292A-4D03-B5AB-12381587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87CC-3B9B-4F69-B155-D86AEB6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F034-2C62-4795-ADD7-5368E75B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3F749-74D6-404E-9E3A-1A601FFE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54FD-2130-4F45-AD12-5246F743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D6C2-CDD2-465F-AD94-AC332C13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553E-8389-49D1-8E70-1ECCCF7C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D87C-2FEB-400C-8098-6A0AB98F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EF483-B7C6-48F8-94BC-67FC18A9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C640F-B1EB-428E-A50A-C30F4281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4ED9C-BEF1-4A59-8B6F-1524D5E5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B59EF-872A-4EDC-88E5-FB601378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4B96-102E-4381-B3BE-52EB76FC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33DA-C223-4301-8580-7C71BF4D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21096-F76F-4B6C-8FCF-849F419C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B31B-BB05-4FDF-B106-590408AB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4BDF9-1BA3-4AC9-9A21-FA457D64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0188C-5F45-434D-A243-60655CF9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FAED-69E4-44A1-9F7B-C33798F0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DC50-753A-4D3B-A5AF-C914D79D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2EAC6-E5E3-4EDA-84E4-5A3ED66B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230F-7140-4E19-A56F-E5AE0497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FDEDF-3DA2-4700-B2EA-AEDF790E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11C49-30F8-4C62-B9AE-8521B36D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73503-533C-42B6-A70C-18CE6AE4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9CA72-04F4-4152-8618-11BDFC1C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E3908-152D-48A2-8DDF-0A8F1CB9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7E4DC-77F8-4E24-9C22-CFBF7A8A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4F83-296E-4146-856B-F128CCB7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91A1-808A-49F2-8B4F-00672F47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EFC74-A2C3-4915-BB34-0079A8A2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E6A14-79A9-48F6-83E1-DB45D7AA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D680E-084B-4599-B0C6-E3361C81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25FC8-0206-4298-90DF-C6DB161E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3"/>
          <p:cNvPicPr/>
          <p:nvPr/>
        </p:nvPicPr>
        <p:blipFill>
          <a:blip r:embed="rId2"/>
          <a:stretch/>
        </p:blipFill>
        <p:spPr>
          <a:xfrm>
            <a:off x="0" y="0"/>
            <a:ext cx="9163080" cy="1219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nordri_02"/>
          <p:cNvPicPr/>
          <p:nvPr/>
        </p:nvPicPr>
        <p:blipFill>
          <a:blip r:embed="rId3"/>
          <a:stretch/>
        </p:blipFill>
        <p:spPr>
          <a:xfrm>
            <a:off x="0" y="1225440"/>
            <a:ext cx="9144000" cy="17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4F54C02-0D7D-4F98-9245-CEF91318BF4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使用规范说明</a:t>
            </a:r>
            <a:endParaRPr b="1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CA15-BA78-47A0-9750-065136A205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4759-5C87-4652-9522-26C63D5FF7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1F67-81D3-4A4D-8B9F-3827315B33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7ED-E717-4E65-9A21-7A216E9B5A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D54E-667A-403A-9D4A-223896F856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E204-EB93-4DB8-9A68-0DAF5D2EF8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E375-20E3-498E-989B-40A9784A02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6F0B-0180-44A2-886D-35F3764B89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9B92-F52C-45CE-828D-297E4A258C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3D48-096E-4F99-9154-C85B802DFF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DD7D-A346-4F81-8680-D57228CF84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07F2-8DDD-4135-AD9B-9D2D2106BA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2"/>
          <p:cNvPicPr/>
          <p:nvPr/>
        </p:nvPicPr>
        <p:blipFill>
          <a:blip r:embed="rId3"/>
          <a:stretch/>
        </p:blipFill>
        <p:spPr>
          <a:xfrm>
            <a:off x="0" y="3532320"/>
            <a:ext cx="9144000" cy="3325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"/>
          <p:cNvPicPr/>
          <p:nvPr/>
        </p:nvPicPr>
        <p:blipFill>
          <a:blip r:embed="rId4"/>
          <a:stretch/>
        </p:blipFill>
        <p:spPr>
          <a:xfrm>
            <a:off x="0" y="-19080"/>
            <a:ext cx="385128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0C3B-01B2-4401-A5C6-070DB365E7F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AC47-7499-446B-82EF-2ABB864E0B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2"/>
          <p:cNvPicPr/>
          <p:nvPr/>
        </p:nvPicPr>
        <p:blipFill>
          <a:blip r:embed="rId3"/>
          <a:stretch/>
        </p:blipFill>
        <p:spPr>
          <a:xfrm>
            <a:off x="0" y="3532320"/>
            <a:ext cx="9144000" cy="3325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1"/>
          <p:cNvPicPr/>
          <p:nvPr/>
        </p:nvPicPr>
        <p:blipFill>
          <a:blip r:embed="rId4"/>
          <a:stretch/>
        </p:blipFill>
        <p:spPr>
          <a:xfrm>
            <a:off x="0" y="-19080"/>
            <a:ext cx="3851280" cy="6877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820A-743C-4C17-8BD1-0D33C29B35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9B22-B79F-4632-A29F-A5B0EE062B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F0B1-623C-4976-B908-AEBABCBAD3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10B3-682C-4360-9C98-B3AC377DAE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75E0-9FC9-43CA-8AF6-F675C71086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255B-DDC2-4D51-9381-A95ABCC905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0820-7BEB-4CDC-AAAD-BE49696897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EFAA-BF76-4560-8BFB-C2CB0BD548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63BF-5CF7-475D-8774-5180EADFF7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BB34-45BA-4C99-8FF7-DA91284954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613" name="Group 3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614" name="Rectangle 4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5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6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7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8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9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0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1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12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623" name="Rectangle 13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14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15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6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17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8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20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</cp:lastModifiedBy>
  <dcterms:modified xsi:type="dcterms:W3CDTF">2014-07-21T06:53:15Z</dcterms:modified>
  <cp:revision>3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