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F5B3E-8A23-405B-9374-114B754F5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EDD6A-10B7-4D67-A089-EB076305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FCD90-5B36-4AD0-A996-172D08E1F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7AB5D-3F24-422B-B73A-774BA8EBC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FBEB-D00E-48EE-843A-E491637B5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5104-6DB4-431D-9018-42C5C3D2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6630-BB8D-4EAC-A609-36115B64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0D08-EB9E-42DA-AB90-52D5F40B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EF06-20C9-4D6E-BCF3-251B4973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36D2-256B-4900-8E81-F74034C1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561E-5A72-4138-9EDF-20400AF3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8A029-9058-44DB-BFE3-F1F959D7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4864-9141-45A6-94BE-E386C84E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158A-FF72-4ED0-A69B-F075EC05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B70D-C5E1-4163-B0EC-048A44F3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E8A9-5CBB-40FF-9741-AAE283A42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827E-E260-419D-B165-030D16635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BA231-83E0-40A1-954A-F0E5EF56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13575-4966-40C7-9F8A-E8759872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8DB7E-6CFD-461B-ABF4-9B91B88E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034C7-FC83-4654-9D8A-FB0A6186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B83B6-8D69-456B-BD2F-AC664EFF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1E38B-1B66-4570-8DDD-9B1353BC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37F1A-56DE-4732-BAF4-44DA99AD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6ABF-5D58-4817-A4EA-BE7F7F63D7BD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3"/>
          <a:stretch/>
        </p:blipFill>
        <p:spPr>
          <a:xfrm>
            <a:off x="0" y="6551640"/>
            <a:ext cx="2629080" cy="190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16CB-B2CF-4068-B697-0E67A77CE55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BB54-B19E-4215-90A2-BA330DF60D0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34560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cp:keywords/>
  <dc:language>en-US</dc:language>
  <cp:lastModifiedBy>a</cp:lastModifiedBy>
  <dcterms:modified xsi:type="dcterms:W3CDTF">2014-07-19T08:52:23Z</dcterms:modified>
  <cp:revision>49</cp:revision>
  <dc:subject/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