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9CC0-C205-4F7F-80F9-470704D4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8725-CE81-4B95-A8B8-A12302E8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1E4C-3112-4DD9-BB20-1FA24D1B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46C1-74E7-4CA9-9066-51F728C8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D5E2-D70C-4EE1-80C6-390B3799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FDEB-F7B1-44DD-93E6-FA486BAE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6AF7-7373-48CC-A7B0-26937CAD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CE9E-6059-46F6-843A-44887E6E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64D3-070E-4B7F-8467-618A0D2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296A-88A6-4099-923D-5F26E23F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8CC8-EAB4-4D11-A6E9-D203ED7B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6404-D594-462F-95FE-53F71A59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B2BB-2BB8-4F57-9887-A8F099D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AE3-D6AB-4133-A46A-4D1B907F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7055-48E8-41D8-A09B-A342F1A7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0F4F-642D-4A34-AF4A-DF430B64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2575-4CCA-4B60-B97F-884FE1D4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DA9F-696E-4665-B58C-EF211211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1FEC-D1B4-4240-BEB1-C0B3066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6123-40CC-438E-8CF3-E389665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1B0B-893A-4D3C-B985-AD842C5C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4BE2-9ECA-4798-8A86-885387B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0E8E-B117-47AC-A374-5749AC5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A81B-3067-43EB-822F-BE9A81A7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064-976A-471C-8859-D32448BDF33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6360" y="6453360"/>
            <a:ext cx="259272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51B-099D-42EE-B519-6F702B189D3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3ED-1429-42B8-9CD7-C7E3308083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3456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cp:keywords/>
  <dc:language>en-US</dc:language>
  <cp:lastModifiedBy>a</cp:lastModifiedBy>
  <dcterms:modified xsi:type="dcterms:W3CDTF">2014-07-15T02:31:23Z</dcterms:modified>
  <cp:revision>50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