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262-E527-4789-8564-D13E2E1C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494-4714-48AF-907E-4406B73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9BA-32DF-49B0-AFE4-8822734F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CEF-CB53-45B1-A5D5-98D00CF6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FD07-24BA-4FD6-9BF2-28F1A9E4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8F4B-3DC8-4784-A781-EEB0D3C1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45F4-6B1B-4B8F-AAB9-1924E9A5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E770-0257-49C5-BA1B-E3E7A8CA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AF8A-627F-4BDE-B301-64001B3B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9F6A-2350-4337-9118-44760FC1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9B37-5EA1-4901-8513-4BCA9176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848-D759-4CD0-806F-81FA0917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EEBA-99ED-4090-93E1-22636F8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196C-AE89-40A2-98D2-75CD6EB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C921-CFD3-4BB7-9EE6-1783AEE4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B48B-F0C3-48B9-A0DF-457F37FE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15E7-F567-4544-A57E-EA7902DF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F379-8384-4EFC-A569-A5052B05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CF22-A005-466B-B34D-970F3A0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49F8-EDDF-4462-B69E-A4A30FAB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DD0A-2216-4F0E-BD98-AFCC7C88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CCBA-ABD8-4498-A383-E09CBC8A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15B-803E-4C11-AA59-4D133820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A7DF-28DB-40B4-92E5-5375A0E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82B3-527B-4457-8C4E-73EB02B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C880-799B-4B85-B9A7-DD1AA72C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0978-E92F-4194-92B4-76F15932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04E1-49CF-4216-9D69-2AD2B852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FCD6-66AE-42C3-B556-FC5BD070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B1D5-527B-41BA-8C68-AEE249DE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63E-CA5D-427A-8F0D-C39FE316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364-78AF-4D2C-A413-74821489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1CF-0CE5-4FD3-9163-44C43F1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A47-2BDE-4A1C-9CD5-56E88D5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7AE-F8CB-4E06-931A-871C8B3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BF6-D804-48BE-A65E-5D82F9E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AF0F-93A3-48F7-A501-6621C6743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86D3-F28C-4450-A9EC-EAF9E35D4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7037-6EFD-4931-A3DA-9DD769FF574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5C4-0A07-4441-968E-690F71200F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The County of Agenth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8410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es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About Agenth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An island off the coast of Lokil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A Tropical Paradise in the Indian Oc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On The Verge of An Economic Overh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Investment Opportunities Gal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Proposed 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Contact In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opyright, Concept &amp; Creation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Geetesh Baj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cp:keywords/>
  <dc:language>en-US</dc:language>
  <cp:lastModifiedBy>a</cp:lastModifiedBy>
  <dcterms:modified xsi:type="dcterms:W3CDTF">2014-07-19T08:54:35Z</dcterms:modified>
  <cp:revision>38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