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94E8-E634-4C28-AAC2-C691F38E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292-E8CB-4C55-8FE1-EE6714E8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912-5EE5-4097-ADD4-E69B43D0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2FE1-0EEF-45FC-9AE7-BFCD0853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0CBE-7EDF-43B3-A12B-903BE6FF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0C8-B8D7-4830-B8F8-4ED266F7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D16B-8B32-4F58-AC9E-7E3A45B5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D545-8523-4F08-9ABE-F5C9DA93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697A-673A-4FF7-9461-9987E220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1491-7701-491C-8A9C-08ABE31B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014D-E5CF-414D-9498-93EDF022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C3B-3CFA-4598-8124-3F6179DF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9016-AA64-468D-95D1-36418229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277F-0546-4B76-85CD-7BC5F08A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09D9-C24D-415F-89DF-4A455A48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AB0C-0A70-4AA8-BDA6-855A1505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C7DC-03E3-41A1-B669-4423B180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EEEA-0092-4FB7-B241-232CDF49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CFCD-08EC-40C3-B3EB-27628C30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F473-76D1-4A0E-8F38-4B3FCEDC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C220E-834C-47E8-AA40-C543AA0D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6EB9-99D4-4D64-9765-E0544EBF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204B-B7EF-473E-AFD7-0988B849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47C7-BC48-43EB-945E-9C929CA6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5588-E458-4748-A5F6-6C71F87E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8AC6-DDA4-4ACD-BC9D-E9C33AC5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CA96-EA51-45DC-B3EE-15EB283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5A02C-4A8A-4A40-875B-E29850AE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3DCB9-F616-4E3B-9837-E1E34A47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973EC-5D93-4E31-9D6C-639B5656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480-4758-4117-B237-E1F398AA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7F6-36C0-4726-906E-CE08EFF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2156-E3B1-4232-9FD0-3480F885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FF0-B7F8-4FCE-81F0-A1EB37BB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5E6-AC0A-435F-8449-AF95A0D2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08A-6810-4CB7-8E78-3D0361C4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arming 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0680" y="944280"/>
            <a:ext cx="8702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2203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382840" y="638136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101080" y="6381360"/>
            <a:ext cx="822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2288-7450-4385-971C-0F2884E0FE5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752120" y="14436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3C8F-3E4F-4066-9F17-5025BB28417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05E0-D3FD-4ED6-A4A6-4FFF3CC448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arming 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220680" y="944280"/>
            <a:ext cx="8702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752120" y="14436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2203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382840" y="6381360"/>
            <a:ext cx="568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101080" y="6381360"/>
            <a:ext cx="822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2832-43FE-418C-A397-C341107EAE3F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716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08000" y="836640"/>
            <a:ext cx="8928000" cy="5256360"/>
          </a:xfrm>
          <a:prstGeom prst="rect">
            <a:avLst/>
          </a:prstGeom>
          <a:solidFill>
            <a:srgbClr val="ff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692360" y="108000"/>
            <a:ext cx="7505640" cy="57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2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44360"/>
            <a:ext cx="738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0680" y="944280"/>
            <a:ext cx="8702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1:20:06Z</dcterms:created>
  <dc:creator>yang</dc:creator>
  <dc:description/>
  <cp:keywords/>
  <dc:language>en-US</dc:language>
  <cp:lastModifiedBy>a</cp:lastModifiedBy>
  <dcterms:modified xsi:type="dcterms:W3CDTF">2014-05-31T02:18:32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