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F6A-797C-4916-9399-24730C29C4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本模板来源于网络，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网整理发布，免费分享给大家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网是国内最专业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分享网站，所有模板均经严格测试，保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载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精彩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更多精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，敬请访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www.17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用时删除此备注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EFF-D5B6-4B5A-B3DC-D37A36A4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E78-E9D3-49B6-808A-7F9C013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5C0-6EFA-4D2F-BAA4-58BADB9F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CC0-9C60-4E59-9940-8F23788E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AC8F-510E-48D7-AB02-5091A472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DEFA-4A79-4550-991D-DD4DC22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A1DA-1B75-4201-9B88-D2C8B03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E8B-A830-467A-B039-ABF7E363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FD96-2C08-4607-B4B0-B00B0C4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7E64-F878-4FC1-96AD-B9EB44A1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63DB-AFD5-4B2E-9FD4-7EC3B1A6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FE6-DA4A-4B76-AD4A-EE33BD6F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7970-B9E8-49AE-91BC-15FCCBD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EE6-828F-436C-AFE8-A22181A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543E-799E-45CA-B57F-D159F148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0C64-5EC3-41D6-B8D9-731FE8A3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4F8-716D-4193-B45B-3832D640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B65E-69F2-4593-B529-EA03A943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7A44-F812-4455-9004-E8EE917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FC47-5B2A-47C5-BD4A-7C5280BC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AB55-88ED-4A88-A2A2-F18D8E1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C2D3-3F98-4386-8C44-B1C0BBF1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C0E-8B27-464A-ADAF-C4480BA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5106-F72D-4BF9-9E58-76FA4BDD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B0D6-3A12-4B31-97E3-A859EAA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4EA11-B83E-4B2C-BB18-7D31A41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E375-5C9C-4F42-8D90-42A22307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D08E-2A10-4B35-B4CF-E87AD2E0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F4CE-F9D2-470F-84FC-717872F1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659B-67AB-4B92-96B6-7AE2E4EC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9AC-4B7B-41F1-A07E-4ACE2AF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6C4-E08D-4EC0-A58D-5230CB18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093-6279-42A3-BC2E-1F8337A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6C0-E7E5-4ABD-A89B-3607436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9B1-179E-472B-BE53-91043F2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345-EDB9-4A67-B7D4-3CBAD98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AC9-36C1-49E3-AFE8-64F46E44C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5238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FE4-3653-4F95-B8E5-E32DF101C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7792-D3C4-429E-ADE8-B7F880866B2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F62-4379-467C-BAD7-9539F67834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85800" y="128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幻灯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1371600" y="288612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添加副标题或公司署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a</cp:lastModifiedBy>
  <dcterms:modified xsi:type="dcterms:W3CDTF">2014-07-20T08:03:20Z</dcterms:modified>
  <cp:revision>46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