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E68-2DCF-43AC-A0BA-E49F9BB5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523C-E590-445E-8529-A87A4323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6E3-3DCA-4758-B1AC-C11FD19B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D680-0F61-4B2D-BFBD-58924362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1CBB-E309-47D2-A8DE-FB4D7996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78CE-4D59-4215-9524-BE7A241F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7E82-9DB2-4AE7-8060-8D484DF6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A865-9DF7-4BB2-B647-6622DB75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FEFF-CAFA-4868-AE46-FE3CE5F2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9404-ECC0-4069-AE11-AB9459F8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7227-F387-4C6A-96DE-FD99B71F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D6E5-4B50-43A3-A693-2ACD4827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BC53-2BBF-4A9F-9E94-7C420188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94D9-94E0-4192-B098-10538676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4B4C-B129-4B4A-88DA-290BAF17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5BEC-2796-4CDF-B59C-1767B375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D090-F10A-4898-9BEA-D8242D45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83D6E-FB4B-407D-9DCD-177EE5A6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7A487-41A7-4EE4-A51A-0458C10D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9924-285F-4CF8-B8FD-77CF8EE3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EC0AC-6CAE-495A-ABCC-4AA301A4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78F22-2621-4119-A92F-41D4F192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18A-AFD9-41CA-981B-2183D76F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A96D6-FD59-4F8F-9DC9-210670ED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1D9A1-527D-43FA-B8E9-C7B26F99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673F7-4DC8-4154-B04E-26DC980E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32A92-8FCC-423A-91FC-B007670A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C22FC-235C-4785-AD5E-EB38CF7C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A6419-DC6A-44B2-9BD9-196A05CD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C3438-90DE-426B-BE50-738A1678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10A8-8BB9-469A-9044-215BDF9D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367-1CD1-4E86-B416-F5AAC40B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AC8-69EB-4512-9F38-40EC6BC2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63E9-9CCC-4B85-9607-432C2784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1E0-4C29-4B8D-A520-067C89C2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0D0-FDDD-4D6E-B0D0-A90C68FB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B6AB-1267-4798-A391-EA32D9E2AA30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5352-8765-40AA-B53C-687C04E1916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00CF-B921-4C35-A386-709B85CEA3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D78D-196F-4A6C-A919-4E40CD6660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menu"/>
          <p:cNvPicPr/>
          <p:nvPr/>
        </p:nvPicPr>
        <p:blipFill>
          <a:blip r:embed="rId1"/>
          <a:stretch/>
        </p:blipFill>
        <p:spPr>
          <a:xfrm>
            <a:off x="15840" y="30240"/>
            <a:ext cx="91281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F:/Z-杂货集/WPS-ppt大赛/1.png1"/>
          <p:cNvPicPr/>
          <p:nvPr/>
        </p:nvPicPr>
        <p:blipFill>
          <a:blip r:embed="rId1"/>
          <a:stretch/>
        </p:blipFill>
        <p:spPr>
          <a:xfrm>
            <a:off x="15840" y="30240"/>
            <a:ext cx="91281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F:/Z-杂货集/WPS-ppt大赛/2.png2"/>
          <p:cNvPicPr/>
          <p:nvPr/>
        </p:nvPicPr>
        <p:blipFill>
          <a:blip r:embed="rId1"/>
          <a:stretch/>
        </p:blipFill>
        <p:spPr>
          <a:xfrm>
            <a:off x="0" y="28440"/>
            <a:ext cx="91044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F:/Z-杂货集/WPS-ppt大赛/over.pngover"/>
          <p:cNvPicPr/>
          <p:nvPr/>
        </p:nvPicPr>
        <p:blipFill>
          <a:blip r:embed="rId1"/>
          <a:stretch/>
        </p:blipFill>
        <p:spPr>
          <a:xfrm>
            <a:off x="0" y="28440"/>
            <a:ext cx="9104400" cy="6829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F:/Z-杂货集/WPS-ppt大赛/over2.pngover2"/>
          <p:cNvPicPr/>
          <p:nvPr/>
        </p:nvPicPr>
        <p:blipFill>
          <a:blip r:embed="rId2"/>
          <a:stretch/>
        </p:blipFill>
        <p:spPr>
          <a:xfrm>
            <a:off x="0" y="28440"/>
            <a:ext cx="91044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F:/Z-杂货集/WPS-ppt大赛/个性.jpg个性"/>
          <p:cNvPicPr/>
          <p:nvPr/>
        </p:nvPicPr>
        <p:blipFill>
          <a:blip r:embed="rId1"/>
          <a:stretch/>
        </p:blipFill>
        <p:spPr>
          <a:xfrm>
            <a:off x="0" y="28440"/>
            <a:ext cx="910908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4T02:33:37Z</dcterms:modified>
  <cp:revision>1</cp:revision>
  <dc:subject/>
  <dc:title>PowerPoint 演示文稿</dc:title>
</cp:coreProperties>
</file>