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F3F-19E5-4DC3-B18A-787E01A6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D6A-6B40-4003-A0A4-C14213E8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033-39B8-4991-919D-FA1D4FD3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FEA-6E36-4154-94B2-8ECB369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5E14-8522-480B-A217-4CA329E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F43D-7A61-41E5-AB97-707909DC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227-3CF9-4528-BA7C-EF42A3CE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0CF-8855-4E0B-9296-5070B545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B6B-C7A8-48BD-94BB-7597660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01BA-9D9C-4BEC-8E32-39E69029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90F0-23A9-42D2-8003-239CCB68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89A-17FC-4318-90CD-F164806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5C7C-B985-44AB-B6C8-87EEFBA2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24F-6D8E-4F77-B553-4A067DF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02FA-41D0-4C85-B18D-2D1C6C0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419F-7E07-4F3E-A0D0-511F610E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5D56-6D93-4CB2-B726-BE9AD70D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382-5A56-4190-8A5C-47D60D6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535-30D5-4EF8-9862-7411135E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B69-9911-4FF8-8777-B982406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A95-10A4-461C-B1F8-3AD66D9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511-4775-4199-B008-EC1F5BE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F6D-76CA-4ABF-9241-E4DB954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1E-6A03-4100-8AA8-99094C88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04DD-8964-4D23-8195-5C8B4D3A9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F8B2-FF3B-40B9-90EE-D1097FAB7B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1B73-9646-443C-9AF5-BE7C2A458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99cc00"/>
                </a:solidFill>
                <a:latin typeface="Impact"/>
                <a:ea typeface="微软雅黑"/>
              </a:rPr>
              <a:t>DO</a:t>
            </a:r>
            <a:r>
              <a:rPr b="0" lang="zh-CN" sz="11700" spc="-1" strike="noStrike">
                <a:solidFill>
                  <a:srgbClr val="000000"/>
                </a:solidFill>
                <a:latin typeface="Impact"/>
                <a:ea typeface="微软雅黑"/>
              </a:rPr>
              <a:t> </a:t>
            </a:r>
            <a:r>
              <a:rPr b="0" lang="zh-CN" sz="6000" spc="-1" strike="noStrike">
                <a:solidFill>
                  <a:srgbClr val="99cc00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068720" y="38718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full of vig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9"/>
          <p:cNvSpPr/>
          <p:nvPr/>
        </p:nvSpPr>
        <p:spPr>
          <a:xfrm>
            <a:off x="733320" y="1249200"/>
            <a:ext cx="34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vig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89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92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1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95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cc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76720" y="145080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mprobable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convincing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076720" y="909720"/>
            <a:ext cx="343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0:04Z</dcterms:created>
  <dc:creator>yellownancy</dc:creator>
  <dc:description/>
  <dc:language>en-US</dc:language>
  <cp:lastModifiedBy>a</cp:lastModifiedBy>
  <dcterms:modified xsi:type="dcterms:W3CDTF">2015-01-14T17:21:2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