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432E1-5823-4166-B886-DE30078103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C1A1A-B8C0-4FE6-A01C-5644A96D3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16440-01BA-47A5-AE80-081A1E5E5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88809-23EB-42FB-B658-43D40D1B8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667F8-46EC-4917-97D1-EADF7C6E6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858A7-77F9-403A-B5A2-5904414FD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565612-CB4A-40E4-B576-921A97E78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61721E-4126-42BB-A1C0-356E78A454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F4CE98-8BC7-4A98-8C3A-06EBB4C9CD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747308-DF71-461A-B44F-B142E04B22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86BF8-052E-4D30-8529-B6AFAB6411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A8F05-5A15-4719-9C2B-AD61771B5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A62209-89AD-44E2-A94F-5DD630615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AFAD7-F7B6-4CE0-A22E-0C2FCC821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AF552D-DFFE-4E65-B782-155AEBC03A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59B85-AA4F-49A8-BA85-17C599AFB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7B398-02EB-4914-AA77-C17D7A07A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1C9A9-716B-4D73-A452-C84DB9BE1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208BA-AE50-4297-A44B-86EE8F3D8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5C85D7-4657-4ABA-BB14-D3D4B14C00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00A9F7-2E8C-485A-A56F-DF88455A4F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82380E-5E44-45BF-AFE7-58EF2C428F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E8B30E-D2E4-474F-8354-D9E8E929C2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B092D2-02DC-4CFC-B33C-355F728F32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F440A-4A57-4352-9D5D-53745E2AF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ADD1F-1847-46A1-B8AF-38D470AEEC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68946-F16B-4F89-8BDE-A2489788F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F895D-A340-47C6-A177-31F0420F1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1C0C1-7E17-4461-A7DC-C8E66FC95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2D58F-25B4-4FF5-92C4-9EC4B0E2E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DE42C-AD52-4C3D-93E2-9879F10A71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E97350-231E-4D1C-8B53-2F872CA295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D4585D-6E3F-4150-A966-D36E46B3E4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CBE71C-7EA8-4C94-9ED2-925EAA388B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DAAD14-10CD-4B71-8F80-751547306C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CCF888-2A29-419D-94B1-B2E27B065B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27CE44-B906-448B-8EE9-0CBEECD919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6884D1-23B1-4F5B-94D4-80974E1320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0AA292-4914-4349-8FE2-CED89F39CD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3919F4-1BF5-452D-AACE-B3C51F9C72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BF9444-27A9-4B6B-9CE2-65D019B91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1CFCBB-FD4C-4CF5-A422-A86B6F234C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AADA54-0789-4932-AC55-CB8C38C052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D920F4-AD71-4CAB-9A42-63DFC74C93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ACF7A6-6203-4865-8660-A9447C6FA8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B43EC9-D2AA-4306-8E01-A73C654FE7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257299-7754-48C8-8497-24F7BAF494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B33DDD-465F-4B93-B4B4-C80F3CFA22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B1B6E2-6491-4F7F-8E33-BEF0BE377E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59947E-ADAD-40CC-B5A3-73B740991A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DA75D8-1B85-43D4-9216-A65045D7DD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A371D3-263F-49D1-A24F-DAD9C224FC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B0958-A5D6-4A49-BA4A-C65207CED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2B63E1-F547-42DE-9A32-A901AE4ED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9C856A-5FC0-4A22-AB38-B4BC5C70C9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70185D-3DA2-4EE3-A615-21BA6DDBC5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8F51AF-0764-496E-9A38-401B3F23E6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D067AC-4DE7-4A59-B938-5C843E25FF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D0E853-C69C-412F-A3C2-A71FB4993F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89C0AB-EC91-403B-9783-1945372B1B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62797C-F868-4B35-B653-D59BE31BEA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A1DC75-3648-4247-B92E-431314EC3B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B21A4A-68BA-43E3-ABEA-EB91E46752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072130-2261-4522-ACDD-7EB3154D79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B0E571-C893-4A68-AFF7-9F982FD539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41D1EC-21AC-4E9E-9323-00DB98487B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2C8BF0-B7FD-4023-92DF-A8E79F1FE7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2F94DE-8F3C-420F-891B-281909F0A7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291186-7F52-4136-9F5A-E78FA12ECB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872D-B952-4A52-8B37-8834A00D0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835B-4A92-44B6-9B0F-E6CF7CC0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A4ED-4EEC-40B2-AE1A-C3E0C1AA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CD9EC-37F5-4EA6-B590-A429759A5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0DD3-2E41-488F-80B3-31383089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941E-9397-4058-9972-F968E2D6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D6F7-DC53-46A5-AF0D-171BA091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6963-F929-43C8-BC41-05B883B5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9C9A-8030-43E2-8C63-82DB33C1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BC758-8D96-4707-92DF-48902806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65DD5-E2B7-4463-9246-D96C1AD37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12BF5-65EE-45A0-9D28-C9E7A7733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D5C47-E748-48E0-A23C-0437A15C0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3722A-30BD-4320-B008-673E6258B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73A17-1793-4B92-A5C9-11989C949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A4A5F-2502-49C3-9715-46A198431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CAF0F-67CA-4465-A220-4D8C87438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00892-C824-435C-82DF-85A6FC74A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C8796-CE6E-442E-9111-F67F69555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B7117-232F-4101-952D-0C90B6CA0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051EE-D590-4CB5-9AC8-A15448E53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BBD2E-9545-4469-8FE3-A3BA100BA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9A70F-833A-4FD6-87F1-3921AFCD3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53CA9-B6D5-400C-A7F1-208582DFF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7331D2-D532-4001-9665-45919E00F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933BB-A80C-47AA-ADAB-5B2ED77EF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F320D-CEED-43D1-BDAB-6E29CD4CC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1F0AA-28E6-4147-988A-EFACAE2B9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07E15-7D4E-44B9-8FCB-7DF29D9AA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4EFDE-19A8-42E8-BA05-CDA556BF4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1D2AE-3298-4230-BED5-96DD23329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FCB85-1739-47B5-84DF-08449219F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CA2BA-34BB-4FBD-8BE0-246C21FD6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489ED-34E6-469E-82E0-579501DB3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71F6D-777F-41BB-847F-DCF3E278B1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3660A-A923-4EA4-9A3C-587386387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B64943-C208-4FF0-8801-DEFC0A2870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DF47E-0BBD-4C84-867E-5A29454C5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4BDD49-97B1-4F1B-98B5-F142BB3B5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9BF6E-874C-4572-834D-479BA60E6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8B2A5-7FED-41E6-9C8E-66CE2E8ED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4527B-223B-43B7-BEC1-5609B4A7B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AE529-5035-4775-A846-8FEBB29BC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58C12-9E23-4FB2-B697-61659F5DC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0A2E0-102C-4440-8202-6A9369011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5EC6BF-2E65-4ED0-8948-97811EF00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E96CB-3FD5-48F7-836A-5353AEB0F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B7EA49-A8D1-4A4D-80F4-9AC41F7C7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C1666B-6D1E-42B3-8676-0E17D0BCE1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23178-198A-4704-8C8C-C5B797206B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75C29-699B-45D7-B58D-0F80B8703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2D782-B138-40F4-8C97-0B40982D6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75087-10A6-4F87-B696-E203F17E9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79881-0665-4AA5-A328-F032A5220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DBE1B-F886-42A3-8696-FF0398245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DC07C-D75B-4866-86E3-AA29A3999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E6FC7-7B50-4296-9ED1-8E430ACA3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AF590-3AA7-46A5-9D73-532494D91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4F623-7BB0-4631-ADCE-D4D4072868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26A70-C498-4407-82E1-8C895C840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64D49-655B-4B4D-8F51-B154E0F61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C1DC0-F08B-44C7-8623-2F2F615A6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1B1B6-FF54-4D25-8FA7-BF81BEEDF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587C0-A807-4AA8-A693-7B14B4EFC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AC1B7-3D4A-4ED9-ADC0-AAEBB7C67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910439-C969-4D7A-ACAE-2D2E11253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DCD02-B1BC-4A29-BD8A-7F63AB115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C96B9-D6F8-4937-8A9F-EE5CCE9B8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3857E-FB71-4A71-9B6F-236947975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BFF29-11DE-43AC-BA87-FA5936569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FD9828-C79E-4885-9A69-715E49EFE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42DF75-73A0-40D6-9C16-25F2EB0DA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C9118-562C-48E5-AA06-60AC86429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263F47-B5F9-4136-BD35-2DB8309A06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F92EB-015C-4D4A-9368-15481219EE0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9C19-7D78-42BC-9442-9F2C5AF29DEB}"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C3BB-1895-4343-B5C2-4BE01F3AEB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4995-FEC1-4A36-A210-08439B113C94}"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0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28AB-50A5-45A9-9F6C-8DDFBA16C5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866F-D7F8-4DD5-85B2-E0915C376C2C}"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4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8B87-D438-44CC-A7C0-8F6E10C163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E615-9382-4E21-99FF-9470FD27E231}"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9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8854-3995-43AD-BF56-D3D475F49D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E1AF-E538-44D1-BC38-1D85051696A9}"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53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85C5-57E7-445C-8A4D-36D93958A7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609480"/>
            <a:ext cx="4952880" cy="1371600"/>
          </a:xfrm>
          <a:prstGeom prst="rect">
            <a:avLst/>
          </a:prstGeom>
          <a:solidFill>
            <a:srgbClr val="b92d1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22A8-6F53-4079-BDC4-3A25CA54503B}"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05A3-12DD-48EE-BF99-E688340DD1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F606-4DE4-4122-89C5-9DFABE2BD52F}"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2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625E-DF40-4883-B335-E7924D358A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4813-F07D-4AA5-A28F-552FBBED37C9}"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6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8E91-8C0D-47F4-AA1A-4D52492CCC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3E43-E03E-4622-9D28-D66F1DD42FC8}"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0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7CD1-0972-4659-BF6E-7043EEB89F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A2AB-8E4C-42C9-974D-544AFF088500}"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4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54D1-99AA-4FA7-A66B-CE85B68FE8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C165-97CB-454C-9136-6E092EABDF10}"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403C-71A5-456E-A9EF-8EC0F95A5C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FDD5-B12D-4964-9AA1-9145A863EC32}"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D46C-DACB-4B4C-A0A2-B058802963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91404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Microsoft Sans Serif"/>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218960" y="182196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2d14"/>
                </a:solidFill>
                <a:latin typeface="Microsoft Sans Serif"/>
                <a:ea typeface="宋体"/>
              </a:rPr>
              <a:t>Slide master</a:t>
            </a:r>
            <a:endParaRPr b="0" lang="en-US" sz="4400" spc="-1" strike="noStrike">
              <a:solidFill>
                <a:srgbClr val="4d4d4d"/>
              </a:solidFill>
              <a:latin typeface="Microsoft Sans Serif"/>
            </a:endParaRPr>
          </a:p>
        </p:txBody>
      </p:sp>
      <p:sp>
        <p:nvSpPr>
          <p:cNvPr id="571" name="PlaceHolder 2"/>
          <p:cNvSpPr>
            <a:spLocks noGrp="1"/>
          </p:cNvSpPr>
          <p:nvPr>
            <p:ph/>
          </p:nvPr>
        </p:nvSpPr>
        <p:spPr>
          <a:xfrm>
            <a:off x="1142640" y="3041280"/>
            <a:ext cx="6705720" cy="3282840"/>
          </a:xfrm>
          <a:prstGeom prst="rect">
            <a:avLst/>
          </a:prstGeom>
          <a:noFill/>
          <a:ln w="0">
            <a:noFill/>
          </a:ln>
        </p:spPr>
        <p:txBody>
          <a:bodyPr anchor="t">
            <a:normAutofit/>
          </a:bodyPr>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2282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2d14"/>
                </a:solidFill>
                <a:latin typeface="Microsoft Sans Serif"/>
                <a:ea typeface="宋体"/>
              </a:rPr>
              <a:t>Print master</a:t>
            </a:r>
            <a:endParaRPr b="0" lang="en-US" sz="4000" spc="-1" strike="noStrike">
              <a:solidFill>
                <a:srgbClr val="4d4d4d"/>
              </a:solidFill>
              <a:latin typeface="Microsoft Sans Serif"/>
            </a:endParaRPr>
          </a:p>
        </p:txBody>
      </p:sp>
      <p:sp>
        <p:nvSpPr>
          <p:cNvPr id="573" name="PlaceHolder 2"/>
          <p:cNvSpPr>
            <a:spLocks noGrp="1"/>
          </p:cNvSpPr>
          <p:nvPr>
            <p:ph/>
          </p:nvPr>
        </p:nvSpPr>
        <p:spPr>
          <a:xfrm>
            <a:off x="1981080" y="1447560"/>
            <a:ext cx="6934320" cy="4267080"/>
          </a:xfrm>
          <a:prstGeom prst="rect">
            <a:avLst/>
          </a:prstGeom>
          <a:noFill/>
          <a:ln w="0">
            <a:noFill/>
          </a:ln>
        </p:spPr>
        <p:txBody>
          <a:bodyPr anchor="t">
            <a:normAutofit/>
          </a:bodyPr>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4" name="Group 2"/>
          <p:cNvGrpSpPr/>
          <p:nvPr/>
        </p:nvGrpSpPr>
        <p:grpSpPr>
          <a:xfrm>
            <a:off x="0" y="0"/>
            <a:ext cx="8466120" cy="6858000"/>
            <a:chOff x="0" y="0"/>
            <a:chExt cx="8466120" cy="6858000"/>
          </a:xfrm>
        </p:grpSpPr>
        <p:sp>
          <p:nvSpPr>
            <p:cNvPr id="57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7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cp:keywords/>
  <dc:language>en-US</dc:language>
  <cp:lastModifiedBy>a</cp:lastModifiedBy>
  <dcterms:modified xsi:type="dcterms:W3CDTF">2014-08-05T06:27:33Z</dcterms:modified>
  <cp:revision>27</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y fmtid="{D5CDD505-2E9C-101B-9397-08002B2CF9AE}" pid="3" name="NXTAG2">
    <vt:lpwstr>0008007803000000000001024140</vt:lpwstr>
  </property>
</Properties>
</file>