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4FE2-AE33-4A7D-9C41-792E70417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8C7C-5732-46FC-84FB-FBE57BF175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416240-4F70-4AA4-B5F5-D28B04ED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EEEB8C-F653-45DE-A737-BA031F3D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6B2B08-2CE6-49D8-99BA-ED72001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84CFEC-AE39-47CB-B701-63650C2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318FEF-D953-4EC9-953E-42A747D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36A75-F361-40E6-B998-D13FD94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99F70-CE9B-48F6-A02A-C76E71E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03634-2728-45DD-9414-A3960C02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FE4A5-B970-4942-A4FC-FE070AE3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E27C4-1DF0-4C3B-9819-C819E5B2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79F9-F86A-4858-8AF8-280A109A7D5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D9720-C479-4FED-B62E-2D95984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FB75B-95D9-4E65-9367-95171567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1DF24-FA0F-4457-8DC5-C1DF1AB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B41BC-1F22-4192-821A-6DC5C984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C429D-1F32-4C91-8BD4-8B21875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4BB47-DE62-427F-B60B-7C3D906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036C5-2646-4100-A049-A855DFA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5618F-4085-481D-8450-9DAF42B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88AB8-3AC2-4700-9987-364086CC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58AFB-B567-47A0-9F6C-948E4D38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58F4-8D78-449C-9495-CC6952C401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E596A-AA71-4DFE-9067-A5F701C3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4B83B-E201-4FCA-A86D-30353B4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2B59-5B72-44E3-9F60-A6AB5A2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A1E0E-5307-4A31-B478-FE888391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4DD26-791F-4125-B1BC-F8A78B3E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62297-F7A1-43F0-8999-6254EFE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B362A-6AFB-4DEF-B01B-F66221B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A450D-EE69-4C55-8AF4-41FE73F6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138B9-DD5A-404E-B6F0-2DE0F161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1C221-72D0-48B3-B6FE-723B02A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0C406-0319-40C9-B588-B4E28C1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07D23-2BC7-4ABC-B32E-93BFD085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EB92A-AB04-4A4C-85CD-56C7A931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B87FBF-FB95-489F-AB85-46484C40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2EA3AC-99E9-45E0-8561-A031454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F19460-FB55-4B23-8E5B-71407D3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3A4BCA-6364-4109-A5A0-3139C166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FC1775-A912-4C97-A90E-B6A7B4DD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5DD48B-FB50-45B6-ADC1-5A01BD93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8F1D35-597A-439B-92F7-8C86E14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5EA110-89AF-4AE3-B0F2-8B5FA19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3C001-81B7-47ED-847F-9CEAA1A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0711C-E85D-40FD-8754-7E1FF257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AEDEF1-F192-4107-8447-F5C01A80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030126-F8BF-44AD-BC71-BAF6950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EDB21-02FD-4AE5-B996-6B8F988F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6E4B5-80F8-4CC8-9920-DAA687B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9EF3E-FC72-4E77-80E4-5A86F629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798C8-2730-47FA-8592-49E830A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B32FF-8D6F-457A-82E9-D74365F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7E6D0-7553-41DB-B7C7-2FCA93B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DA457-C89E-48A8-8748-DD6AE56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C3319-A7C0-44AF-949F-7D27B86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19E53-3CC9-4288-ABF0-E62E12C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DB5C0-DEAE-4EC9-8EA3-E4DF076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E9E0B-4F4F-4FA0-97D1-712F2409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34B8D-F214-4027-92B8-92FF6CEC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D7BC06-E7D2-462B-B46B-5447A714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5CED12-9E69-467D-8910-1FC6D0D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382FBD-A850-4D16-A788-7183BF0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4459F9-05EF-485D-9F26-CF79BBD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6C7DE4-B7D9-4209-AA58-F2142F2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D0DF79-2BFF-48FD-A4BB-4A042BA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A858DA-46DE-47A0-825D-8960024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AA3746-81E4-4822-92A8-451FABE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A4E3B1-C14F-41A3-B4C0-54ABFC1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D2794B-4250-418D-8963-8A05AF9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863260-FD4A-43D1-B0AF-61292F3D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A7378E-3456-4F1C-82E8-E13B460B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9C3D-55D7-4B3F-A4F0-B2E8E7955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03F1A-9EE7-40E7-946B-573FDDB7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4C679-1B47-41B2-A497-BDEE47A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1288F-EBAF-491A-841D-9CD19D5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977D-6D49-4677-A636-EB6CC98C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EFDB7-FC70-4D1C-A96B-CCD61010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70D5-79A0-434C-B09A-B9110B0D47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856B8-1F6F-4CC6-AA53-933E0F4A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398C5-7746-4731-9348-7F669F1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56645-8823-47A1-AF94-3FF974AC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BC7C1-0F6D-4DCC-B16E-A1F63A5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C3000-C6DB-488C-AD0E-BFC0F87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C6F38-1FDB-48D0-A90A-3A91DD6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17305-6F30-4084-8CE8-CD92AF98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6179A-545B-4122-B372-0801FFAA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21C65-E42C-47F8-A45C-BA0DC7D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6CE8D-B993-4A9E-BB6E-A21BA13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B3B7-5373-4453-8DAE-C37753F1B9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1B150-629B-4723-B36B-88F4CC52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703E9-5785-472B-ACF3-39EC1C94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9ED19-0CD2-479A-ABE3-FC6B87D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5E869-FB47-4DF5-A23A-5F708DE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6178B-EA76-4B80-BB34-2A485A0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19D14-B422-4EA9-9B78-004AC07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FE009-BB01-4196-AC62-45688F7D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0EBCE-F19A-464B-ADCA-816B6ED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035AD-AC75-4D76-A590-DABA9E9C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97C26-68EB-4BBD-B3AF-AD533C39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FF60-CEBD-4862-BEF9-14619AF31E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F7897-7304-4B24-9EE4-35D5A4A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27DD5-B84B-4A7A-BD8D-B0C369E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B165C-7405-4D3D-AF37-27E5520E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EAF15-1F19-43A9-99D6-2BC4434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5158F-67EA-46C8-8EE0-8627B92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0D803-770A-4639-ACC5-A2BE4C49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E56BC-C7F0-48B8-95ED-0A52E43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686DA-754E-40EB-B44F-B27518E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C45A7-4710-41D7-9617-FC56F3CE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C6948-74F8-44AB-BC82-B12D7043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B2A2-3418-4110-8BCD-AAF80849E6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24F29-F003-4A8B-ACB5-CF7E2B84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03AED-5FE7-4496-A4A7-26168B88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82558-29DD-44E4-9BE4-53477577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7E94D-73D2-420F-A87E-D2385F4E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73314-2F7D-4EF3-B617-BBFCABA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8A029-A07B-4CEF-9251-9C04FAF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A298D-06BE-48E1-8EC2-4E39C5CC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5FFEA-F79C-4EE1-A64E-7884D74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29929-57EA-4F08-9048-B301BA0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1B6AA-7252-4DC3-B2B7-23938A40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CE7A-1D5D-4696-9E54-AAAF17AA04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DFA69-BB16-4F71-B51F-99041A90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4471C-B499-49D3-843B-92E9A96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72A68-CCCE-49CB-A16F-3B4D612C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449C5-607E-418E-BCC4-E5119E2A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B0988-21D1-4E5B-9D11-E7DEDE2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98144-1034-4647-9D33-D9B68DB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C77A8-634F-4E93-A67E-DB69FA80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5DFCF-9096-47ED-B067-8451701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AAE513-3F89-41B1-9329-7DD995AC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F057F-DD76-40FE-9798-4BB943C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502F-5AED-4FBE-8661-0B1CEB45CA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946B9F-5B14-48F9-9C97-080C3A6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ABD497-DE0F-440A-A011-39B50FD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C0A3C-0850-4285-9269-CB44310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5F17B-9721-4950-90B8-F3A1DB4E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E7954-9057-4B25-8278-4C038FEF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8AE908-E405-4AD2-9990-D6A8AB19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73B81-23DC-4A7F-8624-14BBCCE2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82880B-7442-412D-8FE8-66DA7051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5EAAE-516D-4EB4-A4BE-681DFFE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F8EA1-D82A-419F-841F-8B69B41E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CA42-B703-4FB2-A40D-489E8603B3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10DFE-3DD1-4833-ABF4-8BB67514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64793-172D-420A-9351-76EAF62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B63E11-1291-4D3A-8AF3-BC91D61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D3C3E-318B-4777-84E8-4D8591C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793416-DD88-4B79-B93A-ADE41EE8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7466BF-844C-49AA-A3A8-CEFB5C95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E70E7-BF2A-4F5B-96E5-ABF6F1BC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A594A-1A81-4AD2-9B14-BB8C59A7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BBCA86-E710-47D0-942F-07D7E04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4BC6E-047B-4581-875A-FD867F4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2" descr="bg2"/>
          <p:cNvPicPr/>
          <p:nvPr/>
        </p:nvPicPr>
        <p:blipFill>
          <a:blip r:embed="rId2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36000" y="63086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94A12AF-B35B-4BD7-BEE4-0F857C9B775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BA3A-DF00-41FC-8556-D8ED0D4934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D02-7EAB-43F4-BCE2-35EFC2A63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4E9-2012-4B1D-8F88-06637DA5E0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CD0D-8A7C-4F53-9DDF-15A760B78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E439-EFAF-4CF1-B05A-6E4FEA8C7F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7D52-3DC7-4E66-935B-9001FDD244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D53-FB96-4412-88CF-45DC6F6F3F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F18F-8364-41A9-82FC-87937308DC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798-8A8A-4F11-9860-34B4FBCC4C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3592-5A78-40F4-8C70-1B9139698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5" descr="bg1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B3D-5781-48E7-827C-469F5431108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188-AEB7-4E7A-9400-DE5F9A687D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79B-2247-49AD-BB45-4F8E48D765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A6A-1FF9-4989-B8D6-BF9412AC48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7F1-5C9A-43FB-AE98-FCCB2DD0D6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991-6701-4C90-91E8-8A5A2B7AD2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62E-4D16-48BF-8A7E-C3950ADC51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C13-64FA-4C87-8643-83A4086E30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285-4DBB-4784-A7E3-7FE50AD419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4A2-C4C9-4D63-829B-EEA71B6E8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4F3B-3F33-4153-84B4-0C2BFB2644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7976-68ED-4009-85B5-19D2BAAC5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E306-773D-4076-8E38-7D6A10B9C8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AE5-9A8F-4649-84C3-34D56B3D2F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WordArt 11"/>
          <p:cNvSpPr txBox="1"/>
          <p:nvPr/>
        </p:nvSpPr>
        <p:spPr>
          <a:xfrm>
            <a:off x="3780000" y="5205240"/>
            <a:ext cx="466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单击此处添加标题文字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13D329F-86CD-43FF-8FA3-6601CEC892F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yellownancy</dc:creator>
  <dc:description/>
  <cp:keywords/>
  <dc:language>en-US</dc:language>
  <cp:lastModifiedBy>a</cp:lastModifiedBy>
  <dcterms:modified xsi:type="dcterms:W3CDTF">2014-07-23T08:11:37Z</dcterms:modified>
  <cp:revision>22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