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EC1-46A8-4B28-9E52-C9E5E505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090-6171-4577-BCC4-8E254C4C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7A8-A321-4D8C-8041-2B6CAC00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64D-AA37-4D04-9520-B78DD1B4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01C-DCAD-404A-B5A7-F5664E4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358-903A-47BC-BDA9-F8CA122E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C81-F71E-472C-8E54-DE14A257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B18-3845-4A34-8B42-DA9070E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082-209A-4BA8-A3C0-B74D378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6EB-114B-4F14-B9F4-DE94AA4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9F4-5D17-48DF-A7A6-D58F5A5B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0D1-0647-488D-BE74-6D4EEA77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149040"/>
            <a:ext cx="8223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981000"/>
            <a:ext cx="8223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7eea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785880"/>
            <a:ext cx="9144000" cy="50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6845400" y="785880"/>
            <a:ext cx="1847880" cy="5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5783400" y="785880"/>
            <a:ext cx="1846080" cy="50760"/>
          </a:xfrm>
          <a:prstGeom prst="rect">
            <a:avLst/>
          </a:prstGeom>
          <a:solidFill>
            <a:srgbClr val="005e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5265720" y="785880"/>
            <a:ext cx="1049400" cy="50760"/>
          </a:xfrm>
          <a:prstGeom prst="rect">
            <a:avLst/>
          </a:prstGeom>
          <a:solidFill>
            <a:srgbClr val="007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A539-038E-49A4-8FA5-20E647A789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E03-C8E6-40AB-80A6-4AFD7096D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720" y="147240"/>
            <a:ext cx="82425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图示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11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0720" y="1123920"/>
          <a:ext cx="8242560" cy="4727520"/>
        </p:xfrm>
        <a:graphic>
          <a:graphicData uri="http://schemas.openxmlformats.org/drawingml/2006/table">
            <a:tbl>
              <a:tblPr/>
              <a:tblGrid>
                <a:gridCol w="1148040"/>
                <a:gridCol w="885600"/>
                <a:gridCol w="887400"/>
                <a:gridCol w="885960"/>
                <a:gridCol w="888840"/>
                <a:gridCol w="885960"/>
                <a:gridCol w="887400"/>
                <a:gridCol w="887400"/>
                <a:gridCol w="885960"/>
              </a:tblGrid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007eea"/>
                    </a:solidFill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r>
                        <a:rPr b="0" lang="en-US" sz="1600" spc="-1" strike="noStrike">
                          <a:solidFill>
                            <a:srgbClr val="007eea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c0c0c0"/>
                      </a:solidFill>
                    </a:lnL>
                    <a:lnR w="2880">
                      <a:solidFill>
                        <a:srgbClr val="c0c0c0"/>
                      </a:solidFill>
                    </a:lnR>
                    <a:lnT w="2880">
                      <a:solidFill>
                        <a:srgbClr val="c0c0c0"/>
                      </a:solidFill>
                    </a:lnT>
                    <a:lnB w="288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" name="AutoShape 165"/>
          <p:cNvSpPr/>
          <p:nvPr/>
        </p:nvSpPr>
        <p:spPr>
          <a:xfrm>
            <a:off x="2046240" y="2019240"/>
            <a:ext cx="2293920" cy="37476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5e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8"/>
          <p:cNvSpPr/>
          <p:nvPr/>
        </p:nvSpPr>
        <p:spPr>
          <a:xfrm>
            <a:off x="4240080" y="2759040"/>
            <a:ext cx="1792440" cy="38880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5"/>
          <p:cNvSpPr/>
          <p:nvPr/>
        </p:nvSpPr>
        <p:spPr>
          <a:xfrm>
            <a:off x="3386160" y="4265640"/>
            <a:ext cx="4403880" cy="376200"/>
          </a:xfrm>
          <a:custGeom>
            <a:avLst/>
            <a:gdLst>
              <a:gd name="textAreaLeft" fmla="*/ 0 w 4403880"/>
              <a:gd name="textAreaRight" fmla="*/ 4404240 w 44038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8"/>
          <p:cNvSpPr/>
          <p:nvPr/>
        </p:nvSpPr>
        <p:spPr>
          <a:xfrm>
            <a:off x="6032520" y="3511440"/>
            <a:ext cx="1774800" cy="39060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8"/>
          <p:cNvSpPr/>
          <p:nvPr/>
        </p:nvSpPr>
        <p:spPr>
          <a:xfrm>
            <a:off x="5587920" y="5006880"/>
            <a:ext cx="3054600" cy="389160"/>
          </a:xfrm>
          <a:custGeom>
            <a:avLst/>
            <a:gdLst>
              <a:gd name="textAreaLeft" fmla="*/ 0 w 3054600"/>
              <a:gd name="textAreaRight" fmla="*/ 3054960 w 30546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55:57Z</dcterms:created>
  <dc:creator>Administrator</dc:creator>
  <dc:description/>
  <cp:keywords/>
  <dc:language>en-US</dc:language>
  <cp:lastModifiedBy>a</cp:lastModifiedBy>
  <dcterms:modified xsi:type="dcterms:W3CDTF">2014-07-16T08:58:19Z</dcterms:modified>
  <cp:revision>1</cp:revision>
  <dc:subject/>
  <dc:title>图示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