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FE2C-D2EB-4A5E-BCA2-9DBCE8DC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827-656C-4B1E-B964-652B8B5F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31F-624C-4620-978F-C8D5BF0C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D52-31B9-4657-B234-DCCCCB43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FEBE-0C5A-4C24-B82A-A5E86C5D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DB90-0293-49F7-A280-67B0908C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574B-24D7-4B81-9BA4-A3A1350B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4F42-6899-4BFF-B091-ED114DC6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05B4-82A5-4A87-B93E-A590D88A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5E3B-630A-4418-AF1C-880A0733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A7D3-21CD-4041-84C4-F69DDED6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8A8D-758F-467E-942D-FD8EB507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BBE2-C7AC-4886-B54D-1CD90998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3866-0AD3-4A2E-AB6D-20E8CA24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0203-949F-4207-9EDF-F3821161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DB10-2560-4FF9-98EE-0C7473E3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EB46-2F57-4E26-946C-886E40EB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1FFD6-E157-41BA-A258-33C853D8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F5E7D-D39B-4D42-B9AD-31F059CC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DC382-7BED-4C1D-B0D4-4FF510E1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76064-C7E1-4C0A-98F6-4A800794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0DF29-668F-4FF7-87FE-5C583F11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AB2-B6A8-4347-ABBD-BF254B08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D1336-E75E-4B02-BD7C-1582D0E0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86B10-5571-4E3E-B64A-CDC84C40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68154-AA94-4A8C-9955-6501F327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A1192-E5D4-4C0C-A6C0-F3D75F22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96813-33E2-4BE5-B2D0-1CFE98B6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A8385-DD9E-408B-93E0-83E8F99B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5E6D8-6F62-4679-B242-0743E5EB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419-8DE9-4D92-A937-BD45A878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F8B-B9C2-47FF-A4F6-4D2595DE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8070-46CB-4724-8693-15B1606E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8B4-56A3-4113-A835-17D9E7EE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FC15-3ADE-4FA7-B737-F2BED33D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44C-D1E8-4E37-8473-321F8500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5F92-4BCA-46E6-8E74-91E4D0C260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20520" y="6453360"/>
            <a:ext cx="9175680" cy="40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5625234_021223833100_2"/>
          <p:cNvPicPr/>
          <p:nvPr/>
        </p:nvPicPr>
        <p:blipFill>
          <a:blip r:embed="rId2"/>
          <a:stretch/>
        </p:blipFill>
        <p:spPr>
          <a:xfrm>
            <a:off x="8167680" y="5878440"/>
            <a:ext cx="843120" cy="8431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5625234_021223833100_2"/>
          <p:cNvPicPr/>
          <p:nvPr/>
        </p:nvPicPr>
        <p:blipFill>
          <a:blip r:embed="rId3"/>
          <a:stretch/>
        </p:blipFill>
        <p:spPr>
          <a:xfrm>
            <a:off x="7745400" y="5610240"/>
            <a:ext cx="844560" cy="8431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5625234_021223833100_2"/>
          <p:cNvPicPr/>
          <p:nvPr/>
        </p:nvPicPr>
        <p:blipFill>
          <a:blip r:embed="rId4"/>
          <a:stretch/>
        </p:blipFill>
        <p:spPr>
          <a:xfrm>
            <a:off x="7745400" y="6014880"/>
            <a:ext cx="844560" cy="84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CB45-9D45-4797-B446-EBA31E8AB26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612C-54B7-41DB-B871-0A6E0338FE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0C9D-588E-4792-92D9-A9A8D402CC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5625234_021223833100_2"/>
          <p:cNvPicPr/>
          <p:nvPr/>
        </p:nvPicPr>
        <p:blipFill>
          <a:blip r:embed="rId1"/>
          <a:stretch/>
        </p:blipFill>
        <p:spPr>
          <a:xfrm>
            <a:off x="1538280" y="404640"/>
            <a:ext cx="5805360" cy="5805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2556000" y="2644920"/>
            <a:ext cx="39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5f1524"/>
                </a:solidFill>
                <a:latin typeface="Arial"/>
                <a:ea typeface="微软雅黑"/>
              </a:rPr>
              <a:t>圈圈点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1836720" y="1701720"/>
            <a:ext cx="5986440" cy="3292560"/>
            <a:chOff x="1836720" y="1701720"/>
            <a:chExt cx="5986440" cy="3292560"/>
          </a:xfrm>
        </p:grpSpPr>
        <p:sp>
          <p:nvSpPr>
            <p:cNvPr id="130" name="AutoShape 3"/>
            <p:cNvSpPr/>
            <p:nvPr/>
          </p:nvSpPr>
          <p:spPr>
            <a:xfrm rot="10800000">
              <a:off x="2453400" y="1701360"/>
              <a:ext cx="5369760" cy="915120"/>
            </a:xfrm>
            <a:custGeom>
              <a:avLst/>
              <a:gdLst>
                <a:gd name="textAreaLeft" fmla="*/ 0 w 5369760"/>
                <a:gd name="textAreaRight" fmla="*/ 5370120 w 5369760"/>
                <a:gd name="textAreaTop" fmla="*/ 0 h 915120"/>
                <a:gd name="textAreaBottom" fmla="*/ 915480 h 91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"/>
            <p:cNvSpPr/>
            <p:nvPr/>
          </p:nvSpPr>
          <p:spPr>
            <a:xfrm>
              <a:off x="2761920" y="1701720"/>
              <a:ext cx="506124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0" rIns="391320" tIns="209520" bIns="209520" anchor="ctr">
              <a:noAutofit/>
            </a:bodyPr>
            <a:p>
              <a:pPr algn="ctr">
                <a:lnSpc>
                  <a:spcPct val="90000"/>
                </a:lnSpc>
                <a:spcAft>
                  <a:spcPts val="2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900" spc="-1" strike="noStrike">
                  <a:solidFill>
                    <a:srgbClr val="000000"/>
                  </a:solidFill>
                  <a:latin typeface="宋体"/>
                  <a:ea typeface="微软雅黑"/>
                </a:rPr>
                <a:t>文本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"/>
            <p:cNvSpPr/>
            <p:nvPr/>
          </p:nvSpPr>
          <p:spPr>
            <a:xfrm>
              <a:off x="1836720" y="1701720"/>
              <a:ext cx="1233360" cy="915120"/>
            </a:xfrm>
            <a:prstGeom prst="ellipse">
              <a:avLst/>
            </a:prstGeom>
            <a:solidFill>
              <a:srgbClr val="c1cc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6"/>
            <p:cNvSpPr/>
            <p:nvPr/>
          </p:nvSpPr>
          <p:spPr>
            <a:xfrm rot="10800000">
              <a:off x="2453400" y="2890080"/>
              <a:ext cx="5369760" cy="915120"/>
            </a:xfrm>
            <a:custGeom>
              <a:avLst/>
              <a:gdLst>
                <a:gd name="textAreaLeft" fmla="*/ 0 w 5369760"/>
                <a:gd name="textAreaRight" fmla="*/ 5370120 w 5369760"/>
                <a:gd name="textAreaTop" fmla="*/ 0 h 915120"/>
                <a:gd name="textAreaBottom" fmla="*/ 915480 h 91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2761920" y="2890440"/>
              <a:ext cx="506124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0" rIns="391320" tIns="209520" bIns="209520" anchor="ctr">
              <a:noAutofit/>
            </a:bodyPr>
            <a:p>
              <a:pPr algn="ctr">
                <a:lnSpc>
                  <a:spcPct val="90000"/>
                </a:lnSpc>
                <a:spcAft>
                  <a:spcPts val="2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900" spc="-1" strike="noStrike">
                  <a:solidFill>
                    <a:srgbClr val="000000"/>
                  </a:solidFill>
                  <a:latin typeface="宋体"/>
                  <a:ea typeface="微软雅黑"/>
                </a:rPr>
                <a:t>文本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8"/>
            <p:cNvSpPr/>
            <p:nvPr/>
          </p:nvSpPr>
          <p:spPr>
            <a:xfrm>
              <a:off x="1836720" y="2890440"/>
              <a:ext cx="1233360" cy="915120"/>
            </a:xfrm>
            <a:prstGeom prst="ellipse">
              <a:avLst/>
            </a:prstGeom>
            <a:solidFill>
              <a:srgbClr val="c1cc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9"/>
            <p:cNvSpPr/>
            <p:nvPr/>
          </p:nvSpPr>
          <p:spPr>
            <a:xfrm rot="10800000">
              <a:off x="2453400" y="4079160"/>
              <a:ext cx="5369760" cy="915120"/>
            </a:xfrm>
            <a:custGeom>
              <a:avLst/>
              <a:gdLst>
                <a:gd name="textAreaLeft" fmla="*/ 0 w 5369760"/>
                <a:gd name="textAreaRight" fmla="*/ 5370120 w 5369760"/>
                <a:gd name="textAreaTop" fmla="*/ 0 h 915120"/>
                <a:gd name="textAreaBottom" fmla="*/ 915480 h 91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"/>
            <p:cNvSpPr/>
            <p:nvPr/>
          </p:nvSpPr>
          <p:spPr>
            <a:xfrm>
              <a:off x="2761920" y="4079160"/>
              <a:ext cx="506124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0" rIns="391320" tIns="209520" bIns="209520" anchor="ctr">
              <a:noAutofit/>
            </a:bodyPr>
            <a:p>
              <a:pPr algn="ctr">
                <a:lnSpc>
                  <a:spcPct val="90000"/>
                </a:lnSpc>
                <a:spcAft>
                  <a:spcPts val="2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900" spc="-1" strike="noStrike">
                  <a:solidFill>
                    <a:srgbClr val="000000"/>
                  </a:solidFill>
                  <a:latin typeface="宋体"/>
                  <a:ea typeface="微软雅黑"/>
                </a:rPr>
                <a:t>文本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1"/>
            <p:cNvSpPr/>
            <p:nvPr/>
          </p:nvSpPr>
          <p:spPr>
            <a:xfrm>
              <a:off x="1836720" y="4079160"/>
              <a:ext cx="1233360" cy="915120"/>
            </a:xfrm>
            <a:prstGeom prst="ellipse">
              <a:avLst/>
            </a:prstGeom>
            <a:solidFill>
              <a:srgbClr val="c1cc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6453360"/>
            <a:ext cx="9180360" cy="40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2771640" y="1270080"/>
            <a:ext cx="3384720" cy="3311280"/>
          </a:xfrm>
          <a:prstGeom prst="diamond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5625234_021223833100_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0680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2"/>
          <p:cNvSpPr/>
          <p:nvPr/>
        </p:nvSpPr>
        <p:spPr>
          <a:xfrm>
            <a:off x="3348000" y="1557360"/>
            <a:ext cx="0" cy="2376360"/>
          </a:xfrm>
          <a:prstGeom prst="line">
            <a:avLst/>
          </a:prstGeom>
          <a:ln w="63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5292720" y="1557360"/>
            <a:ext cx="0" cy="2376360"/>
          </a:xfrm>
          <a:prstGeom prst="line">
            <a:avLst/>
          </a:prstGeom>
          <a:ln w="63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843720" y="1773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Estrangelo Edessa"/>
                <a:ea typeface="微软雅黑"/>
              </a:rPr>
              <a:t>谢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843720" y="27255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Estrangelo Edessa"/>
                <a:ea typeface="微软雅黑"/>
              </a:rPr>
              <a:t>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9:12:12Z</dcterms:created>
  <dc:creator>yellownancy</dc:creator>
  <dc:description/>
  <cp:keywords/>
  <dc:language>en-US</dc:language>
  <cp:lastModifiedBy>a</cp:lastModifiedBy>
  <dcterms:modified xsi:type="dcterms:W3CDTF">2014-08-12T01:58:3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