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DDB77-6AB5-4425-A5E5-AC6F77B4D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C25E-08AC-40F0-8FA3-8E163A550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70D90-1BD4-4AE5-AAFE-9A70B1058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C31EBB-DDBC-4542-8672-10D79000F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8E19CA-8973-4F0D-AC62-4070C8062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76BC1-8173-458E-9D24-008543A8E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C409E-0773-43B8-AAD3-FD3A04054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D9AE6C-3D0E-4ADE-B521-02FA59AE5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D8411-9E2B-4588-AE4A-D821DE48E0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F4BDF0-5F68-48E5-A157-C683A30D63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0DDD70-3D29-4D66-A0D2-D6965E8622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A25B69-0524-4837-941D-886E0206A8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64DD8-140C-4935-8AAC-4C42CCCF2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A3CDB6-2AB6-4AA4-985D-6260EE6D4F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76B499-F590-4300-A8E9-1DC08D292A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6667B1-1A91-48B4-80FB-F101D6B6A6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2A500A-65C8-4D73-AB29-F5EC554BF0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3BFEE3-D6B6-46B2-A9FA-E4E0511C64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4B5768-AB88-4184-A9D2-C1DBF33000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C2328-3C33-477F-A964-316930A2A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2E1D10-317C-46E5-8848-1C1991762F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B4B7E0-35E9-4BD7-B9F4-47B8B1ED64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1248B5-99A2-4F88-9EFE-0077357DE4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8A7FE-14A5-4590-8E77-4D0797988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9DFD21-E446-480B-BB31-ABFEFAD24E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94EECD-BD8C-46F0-93E9-211E2211C10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1D74EE-DF05-475B-8F97-A57F808D61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AC4C6B-4B75-4F5B-B849-F9D1FA1F10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50FA1C-AFC4-453E-9765-3AC7D1A382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CAC4B2-84CC-4E69-AD33-9A5CF6D816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6DD42-3B6A-4B2C-99E0-6F11C03C74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6EA2C-9325-49A4-B19D-DA57B4263E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8B623-847D-4EEB-A651-6428B9D421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60F68-391A-45BC-B312-1E2CBE8305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F075A-85CE-4AEA-9871-F25E5214F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A1815B-4578-4BDE-85AA-C9695D87D2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601D0F-0F4C-4D46-9807-9C25E994ED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30BAA7-E1E1-4A3E-BE7C-3B948BBE41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6F197A-5E29-4031-A5B2-CD3BA74E80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BC211F-67FF-4FBE-8A78-14C2719C8A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DBBE4B-3D3B-4825-895E-13695C6AF7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9E48A9-835F-46E6-8746-F9F98505F9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BB81D8-44B7-4B2C-B51D-91E203D500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A12364-6FC8-481C-B1C6-BF6CA3B12C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03EA37-644B-40CA-9760-630EBE1C32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2C181-BBD5-48C2-BBE7-96B7437D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1F7548-0C8E-4BA3-9B40-AFE430BA65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9A56D4-97C9-4EFB-96D3-0E25DD90AF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828D66-13AE-4DE2-951E-FAA3E1D1BC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2EBDC4-3CCD-43BF-A85B-4AD1F1B097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FDE0F1-6A49-4B5B-92D5-3667FE92CA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30E0DD-5568-4796-AD3F-5630FD5A29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E4C1A3-1D8D-4AF3-92BC-9D7930551E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DC87B5-CED8-46BB-8C47-DA74F479D7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363236-A501-4153-BFF7-1FFEFC1679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E8948E-3BD9-4533-A6A5-603968AD4A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2E338-832B-4B20-B0F4-1F75AED86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959F07-2BE7-45A4-B04B-C46636C8AC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C9617C-A12D-428F-98A0-D296DC07FA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BB8945-B083-4DCB-984C-7ED5F50EAC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E0303B-FE16-4B43-9F95-B83B5CFE56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CDE910-3404-4E3B-B243-3C237CE176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542AC3-0CA3-4AC8-96F1-3C34F1DED7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B4CF84-89C3-4765-B718-3A4BA1EBF9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73453DE-B8FB-4585-AD9B-077764B79C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2F6EA0-84A0-433C-9728-D5AAE7DB21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363344-24C4-4099-97CB-68C1DF4CD0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EFABB-444F-45C1-8923-867C4547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60F61F-A111-4F3D-909A-45B78C0EC1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AC4888-7EC9-4AE8-AE13-B5769E8092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C78124-CA54-4127-9253-BB457F1846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641822-9EBA-410E-99A3-7C761622AF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C229E4-CC06-4169-B8C2-909A58A8E7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F64730-134D-4BF6-9495-63ED012B27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B27DC1-4A7D-452C-BC97-4EAD348C90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C7DE3F-7821-44B9-AB68-1094B802DD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1E56C53-EB0E-4ADD-834C-01F7EFF752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D23AC-86B8-4059-A2DE-C6A0497EC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E6003-B504-4099-BCF2-7DE5B75CC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74E8-7379-4E9A-8ADA-F2E01CC5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40EBA-A856-4F23-A933-7D236138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4E748-E3F4-4BE2-864E-FC1B17B46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83C93-D772-4CB6-BEBB-CA5F393BB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ED43C-06E4-4701-A700-BDCA876BE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64119-9D04-407D-8AD5-6AC6942A7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DB71D-C790-4DDE-8C7D-4A9C77A98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D3A88-6DAF-4285-B5B8-B979870D5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D22B1-AD09-4004-AD06-639DCDF7B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2F67F-AEA3-4DAD-93D2-C644B5108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F7DA2-B5F3-4E20-AC19-32BF31933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AEBD9-58CE-4DA6-ABEA-16695B918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975B5-D37F-403C-A85E-C040D963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E6CF9-A028-41D6-95D9-5CEFABEFF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20545-FB34-4BCA-A0CB-C7F334DFE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7D37A-4D39-4102-9E5B-49EA36707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C2C34-115D-453F-8A7C-74BD860D8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521F2-72E9-4942-9788-4EB775F23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09EA23-E91C-4945-8D4E-429A0CC49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69D38-2FAD-436F-A0B3-10FA9D17E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C1BFFA-C7F6-4E3B-8919-84885E8B79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E4763-2DE2-46A1-8E97-580097A51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CA4A1-4F15-439F-8274-1AE3AD7FD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1E0A0-4C82-4AA0-A7FC-A3B33BD38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3D90A-D823-4F1A-A70E-923490A88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D1719-0C96-4141-AFC0-BBE0575F7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0A16B-FD35-4F31-AAE7-02ADBBBC9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E6975-AAD2-440B-B695-F4035ED26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B6024-FF88-4D85-B0E8-F0087158B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48621-5BF6-451C-8F39-D2C99E31E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0A845-B033-4EBF-8C13-E0B68CCA9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6F614E-2A14-4287-9969-DCA66FABC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E2863-F281-48F6-83AB-B89113932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F63E7-539C-4EAC-8BD5-9C0D74345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D6B2-E915-4F53-BD4B-938AD0E7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5DB3E-0492-4834-BA17-A37EF07F5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CDCF8-1AB9-4E69-844F-D5610A407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F9635-2D0D-42F5-9F4E-8B04E0888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7C68C-4F3D-4BBC-906E-686B9E299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05E580-01D1-4C56-B4EA-3C9499D13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C4FAD-3BB6-4691-9BEA-8C882D6AE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4612B-7BC7-4BFD-85EE-ACC5FDA9F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1EDDD-FB3B-45AC-92B0-0ABDDC9D4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901BF-9528-40FF-9F6B-8D16A4AC1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19359-3520-432F-8433-7262CC3BA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0B3F6-5D06-4B9E-9D37-66F2E8E2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CE39A-B8CD-4F8F-B3C6-CD7DF08E32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89031-7399-44A3-9C6D-98C6E633E1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04FD6-9BC1-4DC6-9163-1A42698CDB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1E6AD-710E-41EE-BF2D-FA2C4771A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2974D-860E-4142-9109-593F28359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C8A87-2CDF-4EA6-AA10-7B19D1754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20BD8-5202-44AF-9FF1-59AEEAD3D8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04CDB-CD3C-40D0-A5FE-4C0E12DE6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78574-7DE0-471D-A5CA-812147648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AA119-D26B-48F6-BC19-74B6E63E0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CA77-2CDB-4CC8-A981-AF75DA38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163B9-8447-466C-994C-1106358B9B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ED039-A5AA-48C4-83A5-506E656F27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299A6-4048-4FD8-A7D0-A6833FC62E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5C375A-5A65-400F-A979-16367090DA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9D6FE-176E-499F-8F21-BD4F2ED828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D32325-BC19-41A9-B1D1-3B5E9F7DAC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D0500-BFBB-4D8E-8E77-03BD74EC7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83A8B-3EB2-4628-953C-3F2F292F7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CC0A33-B2F3-48B8-8BE7-572182355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352EC-CBA0-4556-BDC2-82BA558C0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8C53-8A41-4C32-908A-A606BFD5E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029E8-FBAD-46AA-9E81-75789E0CF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BD636-64FC-464E-9911-980B09009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2F3C5-FE29-4E22-8612-874F223F7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F90F69-DF9A-4A4B-88F3-EBB575B85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90DCB-4540-4D6F-9894-ABAF4393C4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533467-F847-42DC-BE23-7A38A2F8C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D00AF-17E4-4EA4-9A1C-CEBFC55D06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56AFF-84ED-4EF9-A32C-9AFB9DBF3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145986-4F8C-4122-B31A-2934AB2B7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53917-48D7-4DB6-94E8-B0F0CAE8F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921D-FCEB-499E-9811-F4B753A8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C232D-6056-48C0-8932-3F8E3485F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C93D4-D032-4044-9116-21635D7A2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89022-AA52-406E-A596-22030C844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E0D3A-8BD1-42CE-A75C-07B8093AC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FE94C-CC88-463F-B5F6-068800AB0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97B13D-A478-4986-8979-6214071B1D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F58D9-4563-44FA-8D3C-0A11F917BB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27CF43-1163-4080-B9E1-63C575C27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4530B-6CB2-4B0D-980B-2D5D45094B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DA570-3ACB-43C8-875A-EB31E00ADB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A873-8453-4AEF-A041-995C94A3A1DE}" type="slidenum">
              <a:rPr b="0" lang="zh-CN" sz="900" spc="-1" strike="noStrike">
                <a:solidFill>
                  <a:srgbClr val="000000"/>
                </a:solidFill>
                <a:latin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F02C-8EB0-467D-A4BF-E9389829165A}"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48B3-8EC8-4A36-A742-8742203098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2580-E977-44C6-A495-6F8A4ACE03E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57F0-66A4-4821-B45C-0FAB31E4A3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C52-536F-4DB6-B2C7-2E81D7EA1BF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7DC-0BBC-44D6-8646-005CDE0378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9BBD-27A3-4CE1-B611-42AABFE8177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D40C-2B17-4AC9-9CE5-E65F2A432A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1DCC-7CEE-4B34-8CAC-718281F42CD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C091-7E9E-4E42-80BF-13F9353489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9276-6305-4F24-912A-1C43A3B0DF99}"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8348-70A9-44E1-BBCA-2DF4CFAB48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C45A-6CF2-43C3-BDD2-D0BECE85D3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2422-0907-48BB-B303-25105DEE36E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FF0D-8EDA-4F53-8404-E3802E202E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339D-6EED-4557-BB49-52B51C0267B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EC30-B85E-4723-8D12-07AACEB790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715E-822D-4250-8E19-7584E637CBA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02C9-B90F-40F6-ACDA-12CF18DC77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D674-3783-4BB4-9AC6-695567E1FCE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6349-4B45-4255-8561-4A4691F579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4470-07FD-494D-AA48-34E6631CC04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7908-E7E9-4744-BE60-3BED524AF2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FE2A-7C92-4522-8C09-A0C56A97263A}"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546C-25A9-40D0-BC00-9B89C089A8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Text Box 2"/>
          <p:cNvSpPr/>
          <p:nvPr/>
        </p:nvSpPr>
        <p:spPr>
          <a:xfrm>
            <a:off x="1979640" y="1311120"/>
            <a:ext cx="314496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ff"/>
                </a:solidFill>
                <a:uFillTx/>
                <a:latin typeface="Arial"/>
              </a:rPr>
              <a:t>轻松办公</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云处理</a:t>
            </a:r>
            <a:endParaRPr b="0" lang="en-US" sz="1800" spc="-1" strike="noStrike">
              <a:solidFill>
                <a:srgbClr val="000000"/>
              </a:solidFill>
              <a:latin typeface="Arial"/>
            </a:endParaRPr>
          </a:p>
        </p:txBody>
      </p:sp>
      <p:sp>
        <p:nvSpPr>
          <p:cNvPr id="575" name="Text Box 3"/>
          <p:cNvSpPr/>
          <p:nvPr/>
        </p:nvSpPr>
        <p:spPr>
          <a:xfrm>
            <a:off x="3492360" y="5157720"/>
            <a:ext cx="4584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某某软件开发技术有限公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2"/>
          <p:cNvSpPr/>
          <p:nvPr/>
        </p:nvSpPr>
        <p:spPr>
          <a:xfrm>
            <a:off x="4284720" y="2819520"/>
            <a:ext cx="4537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01/</a:t>
            </a:r>
            <a:r>
              <a:rPr b="0" lang="zh-CN" sz="4000" spc="-1" strike="noStrike">
                <a:solidFill>
                  <a:srgbClr val="ffffff"/>
                </a:solidFill>
                <a:latin typeface="微软雅黑"/>
              </a:rPr>
              <a:t>什么是云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     </a:t>
            </a:r>
            <a:r>
              <a:rPr b="0" lang="zh-CN" sz="4000" spc="-1" strike="noStrike">
                <a:solidFill>
                  <a:srgbClr val="ffffff"/>
                </a:solidFill>
                <a:latin typeface="微软雅黑"/>
              </a:rPr>
              <a:t>02/</a:t>
            </a:r>
            <a:r>
              <a:rPr b="0" lang="zh-CN" sz="4000" spc="-1" strike="noStrike">
                <a:solidFill>
                  <a:srgbClr val="ffffff"/>
                </a:solidFill>
                <a:latin typeface="微软雅黑"/>
              </a:rPr>
              <a:t>应用范围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         </a:t>
            </a:r>
            <a:r>
              <a:rPr b="0" lang="zh-CN" sz="4000" spc="-1" strike="noStrike">
                <a:solidFill>
                  <a:srgbClr val="ffffff"/>
                </a:solidFill>
                <a:latin typeface="微软雅黑"/>
              </a:rPr>
              <a:t>03/</a:t>
            </a:r>
            <a:r>
              <a:rPr b="0" lang="zh-CN" sz="4000" spc="-1" strike="noStrike">
                <a:solidFill>
                  <a:srgbClr val="ffffff"/>
                </a:solidFill>
                <a:latin typeface="微软雅黑"/>
              </a:rPr>
              <a:t>服务客户       </a:t>
            </a:r>
            <a:endParaRPr b="0" lang="en-US" sz="4000" spc="-1" strike="noStrike">
              <a:solidFill>
                <a:srgbClr val="000000"/>
              </a:solidFill>
              <a:latin typeface="Arial"/>
            </a:endParaRPr>
          </a:p>
        </p:txBody>
      </p:sp>
      <p:sp>
        <p:nvSpPr>
          <p:cNvPr id="577" name="Text Box 3"/>
          <p:cNvSpPr/>
          <p:nvPr/>
        </p:nvSpPr>
        <p:spPr>
          <a:xfrm>
            <a:off x="611280" y="2546280"/>
            <a:ext cx="314460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轻松办公</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云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2"/>
          <p:cNvSpPr/>
          <p:nvPr/>
        </p:nvSpPr>
        <p:spPr>
          <a:xfrm>
            <a:off x="5524920" y="3063960"/>
            <a:ext cx="175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01/</a:t>
            </a:r>
            <a:r>
              <a:rPr b="0" lang="zh-CN" sz="1800" spc="-1" strike="noStrike">
                <a:solidFill>
                  <a:srgbClr val="000000"/>
                </a:solidFill>
                <a:latin typeface="Arial"/>
                <a:ea typeface="宋体"/>
              </a:rPr>
              <a:t>什么是云 </a:t>
            </a:r>
            <a:r>
              <a:rPr b="0" lang="zh-CN" sz="2400" spc="-1" strike="noStrike">
                <a:solidFill>
                  <a:srgbClr val="000000"/>
                </a:solidFill>
                <a:latin typeface="微软雅黑"/>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Text Box 2"/>
          <p:cNvSpPr/>
          <p:nvPr/>
        </p:nvSpPr>
        <p:spPr>
          <a:xfrm>
            <a:off x="665280" y="101268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01/</a:t>
            </a:r>
            <a:r>
              <a:rPr b="0" lang="zh-CN" sz="2000" spc="-1" strike="noStrike">
                <a:solidFill>
                  <a:srgbClr val="000000"/>
                </a:solidFill>
                <a:latin typeface="微软雅黑"/>
              </a:rPr>
              <a:t>什么是云 </a:t>
            </a:r>
            <a:r>
              <a:rPr b="0" lang="zh-CN" sz="2400" spc="-1" strike="noStrike">
                <a:solidFill>
                  <a:srgbClr val="000000"/>
                </a:solidFill>
                <a:latin typeface="微软雅黑"/>
              </a:rPr>
              <a:t>   </a:t>
            </a:r>
            <a:endParaRPr b="0" lang="en-US" sz="2400" spc="-1" strike="noStrike">
              <a:solidFill>
                <a:srgbClr val="000000"/>
              </a:solidFill>
              <a:latin typeface="Arial"/>
            </a:endParaRPr>
          </a:p>
        </p:txBody>
      </p:sp>
      <p:sp>
        <p:nvSpPr>
          <p:cNvPr id="580" name="Text Box 3"/>
          <p:cNvSpPr/>
          <p:nvPr/>
        </p:nvSpPr>
        <p:spPr>
          <a:xfrm>
            <a:off x="2033640" y="2708280"/>
            <a:ext cx="6661080" cy="31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小标题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正文文字部分效果，</a:t>
            </a:r>
            <a:r>
              <a:rPr b="0" lang="zh-CN" sz="1800" spc="-1" strike="noStrike">
                <a:solidFill>
                  <a:srgbClr val="ffffff"/>
                </a:solidFill>
                <a:latin typeface="Arial"/>
              </a:rPr>
              <a:t>正文文字部分效果正文文字部分效果正文文字部分效果正文文字部分效果正文文字部分效果，正文文字部分效果正文文字部分效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标题文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正文文字部分效果，正文文字部分效果正文文字部分效果正文文字部分效果正文文字部分效果正文文字部分效果，正文文字部分效果正文文字部分效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Text Box 2"/>
          <p:cNvSpPr/>
          <p:nvPr/>
        </p:nvSpPr>
        <p:spPr>
          <a:xfrm>
            <a:off x="4322520" y="299736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微软雅黑"/>
              </a:rPr>
              <a:t>谢 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2" name="Group 2"/>
          <p:cNvGrpSpPr/>
          <p:nvPr/>
        </p:nvGrpSpPr>
        <p:grpSpPr>
          <a:xfrm>
            <a:off x="0" y="0"/>
            <a:ext cx="8466120" cy="6858000"/>
            <a:chOff x="0" y="0"/>
            <a:chExt cx="8466120" cy="6858000"/>
          </a:xfrm>
        </p:grpSpPr>
        <p:sp>
          <p:nvSpPr>
            <p:cNvPr id="58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8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8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7-25T01:44:44Z</dcterms:modified>
  <cp:revision>1</cp:revision>
  <dc:subject/>
  <dc:title>PowerPoint 演示文稿</dc:title>
</cp:coreProperties>
</file>