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677-0EA8-4B84-A756-DC19EF349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494-6CD9-4269-95ED-ACE3515A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DB0-DDA4-4C65-B046-942E6D4D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2F58-1C25-41F8-A4F2-4980A812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73D9-A700-4B95-B7EA-9ADD8ADC2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09C1-82AE-4171-99BE-89B1ACB9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32FB-0A12-4BB0-8454-6C25D2E6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94F4-F87B-4170-B061-C3F16B3B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3E17-94DB-4981-91D6-CFED31DE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069A-B25E-4ABD-8C9B-7DBDE98A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F1F2-006A-4320-A8E7-693AD551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F62-A83F-4CEA-944C-84E4F037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A249-D34E-4C89-ABB7-903ABA0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5523-5C86-4BE8-9F6B-01426028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A01C-E5D6-46C7-8F12-3765322D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A570-69E2-4B20-B9FA-1464BD437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44C6-3174-4991-874B-7AED72BA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A626-6E4A-4D7E-A91E-F17C26E4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80E2-50B4-46CB-A4EB-4900B283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74C6-01B0-435D-BD3E-627A6550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098D5-3897-4C75-AC2D-2E3CD81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D916-3014-437F-B43B-50545998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AAA-9F52-4CE9-BD51-6BB19F1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B1A9-848D-400E-8373-C33822C8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6C0A-F78F-4505-84D3-6006DBD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0DCC-5841-4076-B365-554D7777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C012-270D-4169-B62E-CB4B501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F7F86-7A6B-471C-B629-D8C1B907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C4833-B673-4443-8EA0-EF4F1A87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79F3F-CBD5-419D-907E-1DF1B1AD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198A-5793-48E1-9687-51EB3FCC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D8E2-2FD8-4782-ACAC-1ADD3474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16DC-7121-4240-B47C-BF57ED26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EB5-71E3-4072-9B2D-8213708E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FEB4-C9C0-49FD-8489-4AC74A69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C1A50-4B8D-4C8C-B4FB-A586B3C8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9039F-3AE0-42E0-8636-DBF36A39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18695-2450-4128-B7BE-9E6F3ADB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18830-A491-4E87-8112-28F1BDE6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8259E-EC31-411C-9AB4-66B8DF5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959E6-880D-4E47-BF99-A737F2BE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E4139-DF20-46FF-92EB-44B6D519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3B1E8-ABBC-42BF-8B32-A3AF344A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A0C5A-8998-40E6-BB83-9DEEA186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54B-22D8-45D8-B8C3-2B43052B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D0E86-F199-468B-82D2-10BBCC7D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68A6-D9DB-4E10-812B-92A208CC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2DA26-C1FE-4662-92D6-9CEC267F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73153-EA57-4818-9961-3A6C51E1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43B9B-9AFA-4412-857F-8B7AC090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B71F5-C6D2-40BB-A60B-F523A126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5109E-C405-4167-825B-0460B084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346C4-A954-4FF3-A278-189905D0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EA8BF-D6C5-40B3-9E3E-C0590EE8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F27B7-1420-416D-8BA2-DA17DEEF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6B8-4F60-467B-BDD9-CEE9539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BB2E-FECE-4E58-B67E-917DB72F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5B051-ED02-45BA-927F-3F3C272B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FB14F-C980-49E1-B939-46629110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3D03E-1487-4E72-A5BF-BD2A8A54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E27FE-5FB6-4327-9BED-807B8B1E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C9F4B-3E08-412E-B43A-F6AE42D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59781-F2DF-46CF-9FDC-95C7ECB3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5175D-A82F-48C9-961F-A149758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0E23F-B8A3-459A-8FDE-ADC825FD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A8455-0A69-4463-9A0F-84B3950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88B-36DC-44C5-BF85-DB558ECA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4FE25-DA39-4443-831F-E2A78BE6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DCF15-9B29-4248-AD0D-B5CE2E8D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E3F8A-3FBB-41C1-94D8-EF36898F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10DE-3041-443B-AB40-791F956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0409-15E5-4433-9738-741BE0F4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6A83-89C8-43D3-9EF1-790B39EAAE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7D0B-AF35-43A7-ADD2-E623423A1B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FA05-77C3-4732-B7B2-771FCC42A6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34D7-95D6-4C9B-AAB2-659F01460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DD61-DB6B-4966-9430-8BEB0D8F77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5CB7-19F9-4AE2-96A7-99B3601489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1831-C1CB-4D3D-8C88-9D82DB6DC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1269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静蕾简体"/>
              </a:rPr>
              <a:t>轻松生活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Simple, Powerful and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68360" y="444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很多时候，我们需要给 自己 的生命留下一点空隙，就像乐高积木一样，可以随时调整。留下一些生活的空间，心灵的空间，让我们能够更好的思考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4581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静蕾简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静蕾简体"/>
              </a:rPr>
              <a:t>在这个社会里每个人都有自己的压力，方方面面都不是我们能预料的。往往我们会注重得与失，就像植物希望自己面对阳光，那样才能茁壮的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5280" y="44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静蕾简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静蕾简体"/>
              </a:rPr>
              <a:t>美好的生活应该拥有一颗轻松的心，那样我们会觉得生活的空间变大，不管外界如何变化，自己还是能开心的面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方正静蕾简体"/>
              </a:rPr>
              <a:t>谢谢聆听！</a:t>
            </a:r>
            <a:br>
              <a:rPr sz="72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66840" y="206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THANK YOU FOR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9T07:11:09Z</dcterms:modified>
  <cp:revision>1</cp:revision>
  <dc:subject/>
  <dc:title>轻松生活 Simple, Powerful and free</dc:title>
</cp:coreProperties>
</file>