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0A6-2A18-4BE7-A408-3C7D4CD1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3F1-F19E-48FC-8027-96D2E713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04B-6313-4CDF-9EBE-AA7F8F6E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70E-BC68-443B-9F1E-F0B60DDB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8213-80CC-4F77-A931-A8CBDF15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35D1-D5A6-41BF-ADE7-020C545D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B9C5-9AC9-435F-9921-23841DAC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29A2-2A23-4C3A-98A4-25374EAB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B34B-B8DE-4FCD-9B68-7D1CC6D3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2B1-A599-4B30-93C3-7592BFF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9CE7-DF15-405F-BB0F-9FEAA5D2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A66-C9EC-4822-A54A-09CF8F8B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7A9A-38B1-4881-BDED-7E219049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B971-B93D-44F7-88DF-FD7941DD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05C5-6674-4D7A-BA3E-A2D82269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BD47-B1FE-4869-82ED-A6784D89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1B83-6FEC-4146-BA90-159AD583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723-2710-45DF-A2A3-9A1ED803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E2A-5A91-42B8-BFDA-5F9D349D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D7B-3C1A-46A4-9BAB-C0F62CB7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48A-CEFE-4C46-BF4A-21A26EFA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EAA-F86A-4A14-91FE-AB8B0E1D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A7C-8947-4F9A-B182-BDC36199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916-5C7B-4EAC-8767-7E510C7C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9EAE-A390-4218-872C-EFB3A8E7F06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BB8C-9EE6-440B-A9B3-D1D5C523F1B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858C-C31C-4CB8-8B64-9564126CE0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人类进化主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</cp:lastModifiedBy>
  <dcterms:modified xsi:type="dcterms:W3CDTF">2015-01-15T11:41:27Z</dcterms:modified>
  <cp:revision>30</cp:revision>
  <dc:subject/>
  <dc:title>Tex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