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E6606-D66F-4200-9443-C69241A5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7BC8-FBDE-4091-AE3C-A9E1D127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1AD74-C448-4EFE-B798-6FA48BC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ED921-98F7-4DF9-8739-B2C44A82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F9780-1BF5-423D-9333-E2D8B21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58FCB-9D02-4BEA-AF5C-C3E8F94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0A034-EDF0-49C1-B68B-D14627FB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65998-277F-4A87-BDC6-FD057ED2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62AD6-F72A-4B45-803E-AF18D5DF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436B7-CD4A-4CD4-B79B-4BE99996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EF71-F0CE-4063-B75B-0D3073AC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DCE0-611F-46BD-9BE7-81AB7F26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5D91C-1A9A-476E-B18F-228AE5DE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45BE0-6244-4A1A-87AE-B504F46E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8E8BC-68D6-43FE-99B4-3D10E7B0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6B877-FBC4-48DE-A667-4E4AF45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ED173-91DD-4853-93AB-C73C7F86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169F2-CAC0-44AF-B101-5B45759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719EA-16C6-4B61-80F3-9F3CA6F0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8F292-6E31-4190-81E2-F02F9C66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D802A-8802-42C5-A602-AD1463B1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6969D-0A36-4FA8-AD01-1BC33CF3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950B0-0423-4995-86B0-082AB888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AEBF2-C159-4819-B3E9-EC31D74A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FCBAA-6C22-4AD8-9AD1-C6663DFC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79F85-D740-4EB6-BEFA-265E3338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F8ECB-8DF7-42AB-8ACB-4A95C8FB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44310-646B-41FB-BE42-4CB8019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3B2BF-561F-49D1-B436-4C6BCA21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B05C2-95AD-4184-A32D-57A82138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C40-2340-4812-8E8B-BDAAADB0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3E6F7-93B9-4B9B-9D2D-CF34CC43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172EF-EC49-46FB-8DB1-205DBAF3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98047-132F-4468-9068-EF35F807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EED6D-8830-4D68-AC39-0FB3EF3D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24593-C5CD-428F-9856-D32962BE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A080E-495F-4690-9968-9CF7AF89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0614A-57D8-4EA0-81FF-6FC3AB5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94A0A-914E-4158-9609-6C2BA395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97744-D34A-4C20-9312-2EB2789E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A4696-0A70-41AE-9602-15A4B673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A51-9B5F-47D6-82B8-5520133C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8A649-0F4E-44F6-9EE4-C16AC6F3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1A89D-7A21-4DA1-8285-AA42210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931A1-86EB-41D7-BBA5-D39DD15F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02117-6AB0-41F0-9FF7-681732EE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EE606-9BF9-4D17-97E1-1D884EC7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52D0C-9038-4820-B5A3-894841CF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36B72-959A-4A24-B45A-B3056B49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D4BB2-1BDF-4170-89F4-53E438F9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83909-BCDF-4E46-8AB1-B6D069AE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5AC09-40AB-4F31-86A6-B55F41F1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1E5-1E22-4031-8A6D-F2F9B4B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4E9F7-A75C-4894-A081-468B87FB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FDA93-5BE6-457A-8777-C1AFAD5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75B48-4611-48EF-A9DB-24D8CE75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B097B-6F42-4F21-ACC9-A96C0E35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771B8-0B23-4F13-800A-E947FFD7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10360-87AD-45A7-8A35-6E902966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F3F4E-2546-44E8-9439-0585356D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5CC5D-860A-43CC-BB9D-6F1238DC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592DD-2603-4819-A41C-B222DBD1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1891D-D0AD-4E4C-A29F-D61D2D1A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ABB-E5B3-42FC-A8C2-0D355FA2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A4367-3526-4E8F-B294-EF2CDC69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1D87D-4314-4ADE-BFE6-50D1A899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90103-1D67-4619-84AB-B2B0309A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EFB08-3B98-4000-9FA3-03FFBDB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E9647-43A0-450B-9AB0-2A493D9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BC48C-21EF-4680-BF58-8597D354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FB17A-60AB-4FC5-A5D8-17D1A7C5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8535D-677E-458D-9444-CEACFF9D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044F4-D465-41C7-B9C6-42402848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911-133F-4D6C-9129-27B0559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974-BE36-4AE6-872C-7FE5352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2D6-5046-4503-B3E5-3E4C671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DCD-2734-4857-8F22-4EE11FA4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9A3-CE2E-4491-B90B-EF85860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43F-C112-40EF-9A6F-866BDDE0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5C2-E3F5-4F0F-AAEA-B0E287BB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DB5-8B05-4D17-9148-5D3E1987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4410-FE29-497F-B24E-33C8C0B0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5C01-590E-4155-8AE8-A19E325C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1C84-7FBF-4254-B672-3BFFCAEC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B495-3179-45A7-8381-9D80EF99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458B-C955-4547-8187-F1C4510B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58B0-A5D3-4777-9C47-9ADFA899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A740-C3D5-4A48-9608-309D8FBF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9879-5EC3-4EEC-BFC3-8ED47B92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C040-9EB4-4791-8B26-C1AEBF3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C269-F278-491D-AD25-C1BBDC6E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A2FE-BDAC-48CF-96F4-E6659109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A608-1B32-4ADF-9127-076937B2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B2A9-3C99-4E6D-9CAB-95212298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F03F-0358-40CF-BA7B-355795BC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AE06-8C45-4FF4-A8CD-50A192AE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155C-D327-4F25-A5F3-34C7E5DB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401A-A8B4-4FEB-B806-09B992D5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2392-90BE-4374-88B1-D9D810E7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008C-CC31-42B1-B1F4-D0998167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5DBC-1BCF-4882-A0FA-6BD33678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1F907-E06A-4979-B03F-C70BFD8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AAE7-DC49-427A-A3D8-FB5932A2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444A-ABA0-43C7-B5AA-29B9E703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CB64-C352-4153-8CB3-B0A94796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C289-2FA1-44E4-8BB3-8271CBA3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3DF3-5B33-42F7-B266-895D3727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BEE9-9226-4223-9F8E-68328DA2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3654-62BF-4B5A-81F6-FDE671D7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6B94-B2FB-45B6-8405-67768626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4E941-2793-4BFD-941A-314C561C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F2391-190D-42F8-9EE6-870E479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87DA3-6740-418E-BCA3-F1A12AD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2562-9C84-4B7B-B185-A010ACA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76F1-6A81-495A-BBAC-2A9DE2C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B2B4-FD93-4F1E-B570-3ADC17B8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E4C2-C910-42C9-BC44-F75BB94A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2CB51-77B2-423D-B873-C13C3FBA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C998-CF8C-4DF9-9CE2-80C7C945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126B-26C6-4589-81DB-23029489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3CA64-4FCD-4DB1-8A59-042C79B7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0A071-85D1-4116-8ED0-41D3FC09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411D-4A2A-4B30-84BC-773A976B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0B4A-004B-4075-B58C-CAE8765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3B922-5132-4B70-B826-13608818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C5774-7DDA-4AB3-9691-06D8E87A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4B48-12F6-4544-8A10-18D26E2F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9741-614B-4865-A651-7A229663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A3381-58C0-48F9-8D79-91E68D9E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B557-FA68-4A1F-B98A-CE7BF1A4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D2508-9FFC-43E6-9243-7BCF36A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EF12D-2DE3-4629-ADEB-818CFC6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1463-8226-4C1B-86EB-0E1CDC96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8A67A-A623-42F8-A794-D382506C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F77FE-FE81-43EC-B4BC-D405FB0C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BCA57-B47E-4821-9CAC-28A1BF40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D6E6-8F6C-43A0-97A7-8052BB6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B47BE-1C53-4A57-88B7-6C43100C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9CE4-F812-4E82-8B17-702872CE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A8B32-84AE-498E-9E32-EDB66B24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AC6F-774E-4AE3-A424-F64A0F25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07C44-5EAE-4AE0-ACD6-C573CE75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2E1E4-7F20-4AE8-9000-87306C7E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8FF3-F023-46A1-B759-35E98C97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t底板白-英文大写4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287280" y="83340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0B1E-A14A-470A-A49C-253947FB9E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909-AFAB-4812-86C6-755411DF4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0653-C640-45B2-9A7C-8853ACF8ED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60FA-9F72-416A-966F-EF7AE0C20A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FF43-46EB-472F-AE23-B4A4751E5A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FB3-A635-4BD4-A330-AEA96E4907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5F29-52AE-4A72-9257-A895E3F17C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E63E-5F3E-4342-A708-E1553CE27B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E999-B859-4579-A266-FE7C333A9D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C2CE-8A81-49E3-BB67-4BCCA934C3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99D7-5211-49F4-AFBF-855E87FDB35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5009-6654-44A5-8FCF-4B3D0B0CF9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底板蓝-英文大写40"/>
          <p:cNvPicPr/>
          <p:nvPr/>
        </p:nvPicPr>
        <p:blipFill>
          <a:blip r:embed="rId2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10"/>
          <p:cNvPicPr/>
          <p:nvPr/>
        </p:nvPicPr>
        <p:blipFill>
          <a:blip r:embed="rId3"/>
          <a:stretch/>
        </p:blipFill>
        <p:spPr>
          <a:xfrm>
            <a:off x="6229440" y="3979800"/>
            <a:ext cx="2914560" cy="2878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图片5"/>
          <p:cNvPicPr/>
          <p:nvPr/>
        </p:nvPicPr>
        <p:blipFill>
          <a:blip r:embed="rId4"/>
          <a:stretch/>
        </p:blipFill>
        <p:spPr>
          <a:xfrm>
            <a:off x="838836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图片2"/>
          <p:cNvPicPr/>
          <p:nvPr/>
        </p:nvPicPr>
        <p:blipFill>
          <a:blip r:embed="rId5"/>
          <a:stretch/>
        </p:blipFill>
        <p:spPr>
          <a:xfrm>
            <a:off x="613404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图片1"/>
          <p:cNvPicPr/>
          <p:nvPr/>
        </p:nvPicPr>
        <p:blipFill>
          <a:blip r:embed="rId6"/>
          <a:stretch/>
        </p:blipFill>
        <p:spPr>
          <a:xfrm>
            <a:off x="539100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图片3"/>
          <p:cNvPicPr/>
          <p:nvPr/>
        </p:nvPicPr>
        <p:blipFill>
          <a:blip r:embed="rId7"/>
          <a:stretch/>
        </p:blipFill>
        <p:spPr>
          <a:xfrm>
            <a:off x="688968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图片4"/>
          <p:cNvPicPr/>
          <p:nvPr/>
        </p:nvPicPr>
        <p:blipFill>
          <a:blip r:embed="rId8"/>
          <a:stretch/>
        </p:blipFill>
        <p:spPr>
          <a:xfrm>
            <a:off x="7645320" y="179280"/>
            <a:ext cx="755640" cy="506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6269-C99E-4D88-B293-770117E7EA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9516-AC2A-4D6D-8330-46E1D847EB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26C5-3CC5-4B18-8091-E19DC44A7B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26D1-815C-4607-B710-D784892A3E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76A8-7FDE-4480-9D67-53D1843ADC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85AD-8394-4135-A661-AB76A04F3A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C338-7465-4624-9F57-E63A199EC2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DF9-9CAD-4319-A706-420DCF35F8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5B22-9707-4D9C-8884-5370562639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4EDF-31AF-401C-B34A-51E5A0B70B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03EC-A12B-4408-8655-D235E19405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1EF7-F938-4509-B7F7-212F24E9C7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1501560"/>
            <a:ext cx="883944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066680" y="327636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3T08:14:50Z</dcterms:modified>
  <cp:revision>1</cp:revision>
  <dc:subject/>
  <dc:title>PowerPoint 演示文稿</dc:title>
</cp:coreProperties>
</file>