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5E1-35A6-45B4-9C39-503CDBE1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DFC-8120-4F8E-82B7-8D7CF358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17E5C-2DDF-42ED-8DDD-EDBB907D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69A17-CE3D-4C3C-ABC4-D36EAB61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CFD23-DDA9-4857-87D4-8A8A9D1E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83273-6F89-4383-80D4-A7307720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0FD24-F9EA-4FEE-A43A-E80AB383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72ECA-8BF1-4B51-803E-D948A2A6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94730-B3FF-4F53-AB5A-24C1BB06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633C4-B398-4C09-B322-439316A3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209DF-D15A-475D-A74D-FBDF4BE6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09032-88DB-44FF-8294-CC94C596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991-4EA6-425A-9C73-18CD9286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52DF7-DCDD-484D-AB71-D51694DE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9FFA3-C334-4FCD-8F3A-7F77E191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67895-E2CD-4498-BC48-4CE6B217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906AB-D21A-4BB8-9463-17B54BCB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DE4AA-3C9C-40F2-A962-DF4AD092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BFC1A-F54E-46CD-A066-8AE3D0A2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BAD16-09EB-42C0-9DFB-51A9E04E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3AECA-5F2B-44C8-9174-04D11EB6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21D0A-EDBA-496A-AF37-AC6A18B9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DACBC-720B-4A5A-B3D0-B220D543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9AD-8CBD-427E-AEF1-7A729D02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19051-9D8F-4C5C-A34F-3FDDEAD5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C2786-CCDB-4B31-BA94-A508BC15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71F51-3B40-4715-9174-AF160917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47B8E-4E90-47C5-BB92-CA752342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E0B69-D51B-481B-987C-2F3FDF38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3392D-1F73-4B51-9269-34D2F959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67750-60FA-4B7D-A9CF-408411F6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396A0-DAFE-447E-AC2B-D524842D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8948E-2D59-4E50-924F-F35E4711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CEFB6-9D02-4178-82A2-B2C40EDF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0D94-8D3C-4F0A-86E4-7976E2A4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79881-5AAA-4655-A29B-32840EE8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28325-69A1-4D7D-9875-7486C01F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395CB-67BE-46C7-BF5F-7605086F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22B60-AB89-426A-85FB-ACEE70C1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1021B-702C-4969-AA25-CED91EAA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D209D-9317-438C-AACC-9BE9584E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5C055-F015-4DB3-BCE9-B8B61E4A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C2FBE-4EDE-46BF-9D85-BB3DB76D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8DEEA-F704-499E-9A0E-6FA65BA3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4EFF2-D47A-4797-BCB6-A2D2EC58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DC96-EE1B-4E08-ADB4-5C8A012C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60F99-FBB4-4313-8F97-E6E400EF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79156-7282-4D1E-A5AA-D2751ACC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8F7D4-75FC-4F8F-BFEF-67FD2337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FC3C8-2E3E-4E5D-A64A-1580B9AF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197CD-A045-4E4C-9AD6-2BC626C5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71787-F14A-43BF-9966-1700B268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1F3C5-5033-44D0-8C85-6DC71336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C2186-FE95-4908-9C65-C9A82BB9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C002E-156B-48FF-ACAE-18E8844A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A0FE9-3565-42AE-AA77-055255EC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B332-16FB-452D-BC44-AE859C7F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7FF1B-E5DB-49F2-8D22-F73AC9BC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DB372-8278-45C2-86C1-A4289C8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B1051-4D2B-4677-BA3B-5394F8F8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C3093-AD17-48CB-8798-BFC96503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9680B-17D1-4ED9-9DE2-30F7D07E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BA710-6CC0-4772-B740-AA8145D3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E0DF9-91E3-4811-A7ED-F84AED3F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F64E4-B3E2-4317-AE7C-3BBA3E3C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F6E11-3B07-4331-B53B-DBBBAA6E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9818B-D494-4BAB-B499-9624FD7F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E1C1-B50C-44B7-8431-5A99BDBA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903B0-B35D-431B-A10E-C88001C2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22EAA-3A66-441A-9D9F-93681AE4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E0DA3-1460-41D9-BFFB-51415E78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11D88-66F0-4CD9-80F4-8917F8AA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D330F-3EA7-4DE4-99E2-CECEDAF0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5DDD1-E9F5-482B-A73B-1EFD3D18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96BE0-07D9-48B9-B035-AB7F9F48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A419A-0F6A-4712-823A-E6D0C928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F5B8F-C590-4AB5-B6C6-58E82215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DEBD-FED1-4018-A278-D180413D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6607-4106-449C-AADE-CBBF663A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AECD-BE6F-41D3-AD4F-CDBA2B65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703-2D99-487C-9EBC-E92C601D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E908-A392-4F0D-B5B8-1BE77AEF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1B0D-67A2-463C-963F-6469B3C7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F477-34AE-4BD0-A6F8-DF373173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DE94-137A-46FF-8342-17698B0E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E7B8-BFBC-4445-AE83-5A2EEC54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31C67-18F6-4F8E-9194-7982B91B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65D2-0876-4328-A126-BF5F323C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89E1-0AD1-48BE-8BA7-3911848D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E358-A226-4407-8411-0C881A89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85331-2D44-449D-911A-13E0AA5D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F84-F4DD-4CE7-A22D-3B8D2A7E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AF56-F6F0-4B07-986E-15F35443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6836B-C544-42FA-A0FA-323F9F1E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551C-AED3-4658-9ECE-09A03511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E8A4F-397F-4742-9EC6-52681898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3721-7808-4446-BE91-6365AFED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2811-1F32-4FF3-80E4-37BF5F72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2055-4C32-4294-850C-45190A18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04F86-1E14-4ECE-B33C-23511A39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8797A-830E-4638-BAAA-51BF4DF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A09F-5D55-43D0-B1BF-33521907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C58-A18D-4E6B-983A-6A8C385C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B63B-AA41-4541-A11C-12063DBC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9E379-9406-45FD-8FBA-6E0591E9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82F17-3D2A-4C40-B195-1DBEAEE1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E8F48-BD11-43B7-9186-B9A8DD88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C5D68-B457-4E77-911B-8247DCDF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500C0-97FF-44B4-BDA9-DE81CD61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B968E-FB1E-4D4A-86FE-59A222FD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A59B4-06DC-44AB-85BC-5A268BE6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2FEDB-C581-48C2-96D3-533DE4CE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55824-7D52-43E1-BEA3-7F5E8EE3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D68-EA33-4063-BFD0-CA586EEA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D8E07-CAD5-40C4-8F9A-A5A34FA2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B0671-75C5-419A-86FA-2AB16BCF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8767B-8FF7-45AE-AE3F-64105453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C865D-002B-4F8A-A686-8038F4E9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607DE-FD55-4B28-8429-BBADC39D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8B87E-6B34-4BE7-8405-C2171406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A009C-EE51-414F-A8C3-BF04D665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855C8-1AD2-47CA-984D-CD721004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ECE8F-1C69-4C5F-A613-9102B170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0DC49-1F7E-4959-97F3-6556EB9A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8CE-87EE-4DD1-B4FA-48D27E18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39592-A530-42FB-937A-49571FD6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15D5F-17C2-414E-A361-0F2BF3F2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7FE94-20C7-400A-B722-CC7294A2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4506D-19D8-4107-85D3-124801B4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593E2-9795-4886-85D8-7CB706E7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8EC7F-A143-4F74-B530-21D967A7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83D7A-0756-4BAE-9CB9-D176BC51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EAE97-4890-44DA-8D99-6C262743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1AB2C-65BC-4D3B-8F09-399CCD20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D3BF9-D98B-4483-BB3F-BA960A61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C8BF-5024-4D46-8B04-C0F4286E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06902-A7B0-4F6A-B450-58BF05F3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1E0E4-227B-430F-8434-C206DAA7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42300-7285-4951-A6A7-923984A8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BF350-CDFC-470D-A138-9CF5C4B4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6579E-F745-4F95-961A-36C79E44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EA1C9-F6A4-4661-9CD5-6E372397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E83C3-1C6A-4894-8E84-154FA65A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99435-1FAE-484E-9FCC-B117BDA8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8E028-60DA-4E10-A6B8-7E28CC50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AC3FA-3994-4CD9-83DF-0375A1CC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C5E-19A9-4890-AA1D-BA7C95C1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30BF0-0EF1-4CB5-8659-AEBDA6EA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13A70-EF7F-4E55-9815-2404347F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D56BB-D941-44E3-AB7E-05A82919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D1522-2BA5-487F-B0F7-661C2976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8D6BD-0CC9-42D8-8113-0A660C82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C8B6B-C1A6-47AA-9320-EFCD4EB8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6EB96-E648-4CB3-A5B8-548A48B0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E7C6A-B21C-4342-92B7-C143D071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ADD6C-A2E3-4F6C-A159-6CB7197B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06AF0-9F77-43E4-A146-55C7340F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D3F-5ADA-4169-9374-1EB9B68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950B7-422D-4F37-BDF0-B658E5DB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2E01C-70FA-4C3F-8994-86EBF3B1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C334A-E74E-408F-B89C-65D7E28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97F3B-27C5-49A8-86B9-85E29CFD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3360F-AE84-4736-A8A6-7DC7761C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C3485-2F11-468A-AF2B-E565A8C2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1989E-9B45-44CF-A3FC-8EEAFAE0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4A35C-D8DD-4108-9FEA-CAD064B1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FE466-71DE-4B0C-AAEE-8DEFDFC8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E6FE6-38E6-4C82-A8ED-CC84413D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53D5-85D0-40A1-9457-2BA82B06C2A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482F-90A1-498C-B0C2-E6E8823C0F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4C47-43B1-4431-87C4-A64D474F08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C45D-DB91-4EF0-B796-C950F5A5A4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0FB6-0FA9-4CC1-8C24-64730A3CBC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F81B-9FBE-4767-B0B1-E8D844DB04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736F-24E0-48A3-B520-278327EDBB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7D64-DEFB-40F0-8617-5593B008DB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B5B6-8B6C-4726-8C3E-298DCFA252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B2B9-6DA3-4924-9B13-BBEA2D176E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A1D7-AD25-43B3-BF22-D1F81149F6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6F04-20C0-460F-B058-B2EDA4CA71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C6B6-05DA-4D07-A5CF-D8FBCDADD6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DE28-CD3E-4D65-9F1F-52C31EE8FF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1674-FF86-4CF6-A44A-5248600658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9C32-6E5D-47EF-BF96-A68421F7E4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BC44-F24D-4490-A060-E3D00FE66C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2F93-9324-4C5B-A870-E4E05288E2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3E12-602A-469A-8C42-AB0413B410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7C43-54A3-4E3C-9BCB-3413520FA7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6328-1ED7-4B04-8681-024726FC174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DCE7-FD5C-4054-B473-6EC68D9B2B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514A-2A2E-4E4F-8BF1-E0A3982E05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1429-AF16-4605-8A3E-9A5BF44C1F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CA5D-15D2-4985-A3F8-08D2E87958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CD97-CAA1-4F40-BB84-9F66FAEA7D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C:\Users\怀南\Documents\360截图\360截图20121027221621949.jpg360截图20121027221621949"/>
          <p:cNvPicPr/>
          <p:nvPr/>
        </p:nvPicPr>
        <p:blipFill>
          <a:blip r:embed="rId1"/>
          <a:stretch/>
        </p:blipFill>
        <p:spPr>
          <a:xfrm>
            <a:off x="-171360" y="-87480"/>
            <a:ext cx="9496440" cy="71200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715320" y="4581360"/>
            <a:ext cx="7176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 Black"/>
                <a:ea typeface="楷体"/>
              </a:rPr>
              <a:t>生活像一盘棋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V Boli"/>
              </a:rPr>
              <a:t>               </a:t>
            </a:r>
            <a:r>
              <a:rPr b="1" lang="zh-CN" sz="3200" spc="-1" strike="noStrike">
                <a:solidFill>
                  <a:srgbClr val="ffffff"/>
                </a:solidFill>
                <a:latin typeface="MV Boli"/>
              </a:rPr>
              <a:t>simple</a:t>
            </a:r>
            <a:r>
              <a:rPr b="1" lang="zh-CN" sz="3200" spc="-1" strike="noStrike">
                <a:solidFill>
                  <a:srgbClr val="ffffff"/>
                </a:solidFill>
                <a:latin typeface="MV Boli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MV Boli"/>
              </a:rPr>
              <a:t>powerful and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360截图20121027220703352"/>
          <p:cNvPicPr/>
          <p:nvPr/>
        </p:nvPicPr>
        <p:blipFill>
          <a:blip r:embed="rId1"/>
          <a:stretch/>
        </p:blipFill>
        <p:spPr>
          <a:xfrm>
            <a:off x="-14400" y="-77760"/>
            <a:ext cx="9194760" cy="71802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5"/>
          <p:cNvSpPr/>
          <p:nvPr/>
        </p:nvSpPr>
        <p:spPr>
          <a:xfrm>
            <a:off x="2290680" y="430200"/>
            <a:ext cx="15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546560" y="237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2674800" y="838080"/>
            <a:ext cx="9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3825360" y="2422440"/>
            <a:ext cx="48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V Boli"/>
              </a:rPr>
              <a:t>simple</a:t>
            </a:r>
            <a:r>
              <a:rPr b="0" lang="zh-CN" sz="3200" spc="-1" strike="noStrike">
                <a:solidFill>
                  <a:srgbClr val="ffffff"/>
                </a:solidFill>
                <a:latin typeface="MV Boli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MV Boli"/>
              </a:rPr>
              <a:t>powerful</a:t>
            </a:r>
            <a:r>
              <a:rPr b="0" lang="zh-CN" sz="3200" spc="-1" strike="noStrike">
                <a:solidFill>
                  <a:srgbClr val="ffffff"/>
                </a:solidFill>
                <a:latin typeface="MV Boli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MV Boli"/>
              </a:rPr>
              <a:t>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977160" y="237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360截图20121027222159565"/>
          <p:cNvPicPr/>
          <p:nvPr/>
        </p:nvPicPr>
        <p:blipFill>
          <a:blip r:embed="rId1"/>
          <a:stretch/>
        </p:blipFill>
        <p:spPr>
          <a:xfrm>
            <a:off x="1440" y="47520"/>
            <a:ext cx="9180720" cy="676908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762480" y="2252520"/>
            <a:ext cx="69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能容你的格子再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也还是要走下去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" descr="360截图20121027222853242"/>
          <p:cNvPicPr/>
          <p:nvPr/>
        </p:nvPicPr>
        <p:blipFill>
          <a:blip r:embed="rId1"/>
          <a:stretch/>
        </p:blipFill>
        <p:spPr>
          <a:xfrm>
            <a:off x="1440" y="-88920"/>
            <a:ext cx="8531280" cy="690552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-349560" y="2311560"/>
            <a:ext cx="85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能走的格很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也要小心陷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5840" y="52560"/>
            <a:ext cx="3144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" descr="360截图20121027223705298"/>
          <p:cNvPicPr/>
          <p:nvPr/>
        </p:nvPicPr>
        <p:blipFill>
          <a:blip r:embed="rId1"/>
          <a:stretch/>
        </p:blipFill>
        <p:spPr>
          <a:xfrm>
            <a:off x="-1900080" y="52560"/>
            <a:ext cx="6445080" cy="66895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4"/>
          <p:cNvSpPr/>
          <p:nvPr/>
        </p:nvSpPr>
        <p:spPr>
          <a:xfrm>
            <a:off x="5510880" y="2156040"/>
            <a:ext cx="78984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人生和棋也一样简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6300720" y="12128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615720" y="-1109880"/>
            <a:ext cx="667800" cy="9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每种格都是和局，每个人都是胜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1T04:42:17Z</dcterms:modified>
  <cp:revision>1</cp:revision>
  <dc:subject/>
  <dc:title>PowerPoint 演示文稿</dc:title>
</cp:coreProperties>
</file>