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CBF-85D1-479E-8BFF-BF7FF514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A96-60EE-4EF1-88CA-150FA906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8424B-50C5-4548-9B4B-387963BB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A6B8E-F737-4364-9673-EA0CC2F0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2B430-458D-419A-A50A-9D08B120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15B7F-3244-4ABE-8740-52F3CC0E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8B2DB-8F8C-49E1-BCED-4DCBD123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1D4FA-A05B-4516-98BF-7C6C1C5D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F5BDB-76A8-46E9-A7AE-FE8B77C0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80667-7856-49E1-A829-FD1C220B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2A644-FA1D-4A74-BD95-E5579764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33CA9-65AA-4C8C-932C-2CE8DD13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581-3C60-4851-8AC1-97F9C7B1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6A4F2-6BEF-46BF-AA36-85EE3DCD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6AC70-0EB9-46DD-9969-58E1137C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7F344-2763-4060-91F4-402BEF41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8C545-A00B-4404-A9D9-96E4B4AB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BAEC5-03F4-4308-8A8B-31F0B70B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EFCEB-46EB-4494-9DD8-E29189E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B79C4-FD45-47D5-B68D-523255D6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091DD-7D47-4E8B-BC7B-48FF97B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46D0F-80E8-444D-9EDE-8EEBB7A1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6D431-19DF-47B5-B695-51399EFD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D56-8D14-4406-960D-E05A4293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1BF3C-619C-4772-9AE5-8A6E266D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588F1-9616-4CE8-B343-ADFEB5D5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D4230-7D7D-42CC-8853-612E0803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48866-25BC-4354-9E6A-C6D5C805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D9233-6264-4659-960A-FB96E000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D154E-A797-4ECC-8EBA-AB6B34AE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787A2-6908-4CA4-9E66-19DBAD74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B7925-8333-40B0-A37F-8162C3A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A79C5-8DCA-4FE5-8C07-299DA6B0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FB79A-6E90-436D-A212-0A9CE11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D487-DF0A-495F-9C0A-16646E62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37580-88E5-4A59-960B-537BFDA3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21FA0-8B14-4134-AD03-7DEC5A2E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68543-24FE-4CCC-9FE6-2EA60521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BCBA1-0261-490D-9081-BB62A025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D5841-017E-481C-9C58-5C11AA75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52739-9A56-46CA-8B4D-7E43F6EA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10845-0444-4DC8-96DB-0220B25E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A9B42-58FD-4C64-8799-C1B682FC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97F8D-88BF-4D9B-AFB1-8D6D6C5E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5D6A7-A313-447D-A1F5-89DD591E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A710-392F-4B6F-B0CE-0AB3CC75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23920-28DA-4B95-B457-0A406C87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E68AC-07EE-4D6F-A2CC-84DE665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C116F-D69F-4DB5-B8FD-9442B88D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D36EF-BC59-4301-A499-5B5C6D9C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D988F-1528-41DF-9BAF-66A2826A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FDB1E-BF5B-429D-8FB3-A7593BD5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7E8A8-D130-4D85-8159-9F805CC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95CA7-21AA-418E-9C0A-A1B0B684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084CC-A4B0-4632-BA95-DF71980E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B43D1-0C05-4323-A51F-264359E0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DABB-EEF3-4AF8-B9D0-5FED46BB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B22EE-3D73-456E-8758-931F4A86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FBB72-AA78-4F7D-BBCD-4669F678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4DBE2-199B-4FA0-A9DA-9B7539E0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B8763-4CE7-4774-9C5A-D4A0651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164D1-08DF-4B3A-8AC2-300398A9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BD056-C01B-4EA0-9023-02D47CEA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0463C-13AF-449D-99E0-DB0BF23C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D4DD7-7837-4EC8-9506-7EAAC407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D3DB2-E6C0-4591-A48A-0051AED6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B6BF5-6E10-49A9-A10D-A75CDE7B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4961-BA28-46A4-8DE5-0DAB66E2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CB67B-1360-40BA-9745-D7D80C8D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9A36C-5CB7-442C-9DB5-C54F684F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9E927-8DF2-499F-B078-4D43FB2B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3A020-DAA8-49C8-8D14-422312A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D4E26-8E27-46D4-9AB2-EA7AC15A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88EAF-153E-40E1-A8FC-9F9637AC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8C7E0-08D6-4BF3-9FB0-13197C40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D0912-017A-42F4-836D-2C5C44E2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DB002-A0C2-4EAC-BA7E-E1807A2D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38084-6195-4C11-8AEC-7E0A1A73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D99B-D437-4F98-817E-EA0DF831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62707-71AA-4FBA-AA2D-568DB91C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A4B16-B7FE-4074-B336-F0FF6667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37E51-70E3-42F9-8A95-A975F064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DD350-33D0-499F-8124-2EBD9AB2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61C84-4A73-469B-AFDF-C00001C9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E8018-B0FB-47D3-821E-961E3BF4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181BB-8793-4DD1-90EA-F542EBA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A065F-A113-4F1B-9CC6-C7E437B0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0272A-4353-41A9-A404-B85D3E1B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6A2FD-580B-4A15-AA10-1FBD4E75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0ED7-C545-441A-9B34-F748D737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750A2-54CA-413B-B8AD-8F7F0F1F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DF39-88D5-4240-B34F-B68073AE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A13-9911-47E6-8BEC-2228D4A2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733C-0B94-43B0-B6A0-87F13C7E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9A7D-D069-4715-B945-52915F72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BC4D-6FFC-4647-8F5E-C0D688B4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686E-274D-4B79-A0B3-7BA08BD5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EA75-793A-49F8-AF44-19BC1060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8E81-7280-4272-87E1-BA89CE1A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0D1B-227C-40F1-B768-3B32427B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2FC0-21CB-4B2F-8BFF-C387B441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30A9-3060-4BC8-B5CF-06DE0BA4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898E-13B7-462A-926E-4A745918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54B-625D-4A2F-957E-497537C1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B75B-999B-4EE7-A53D-9F0923AE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95DF-B63C-46FC-A167-83F7F958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67A1-2E03-4F17-9E63-9856E47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1818-5936-4AFD-993F-BCF662C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2330-245A-4B2B-B3A3-FB47B3E5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5030-67D3-4F94-9A28-CC3FBC34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5D3A-5DBD-496A-8012-4299E21E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B467-947C-4252-A806-02F7DCF2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74F0-F56D-4A40-BB21-B0A82219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B56F-1B2E-4BEB-8B47-19C9D529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8CB-C23C-4C51-A860-EE45A997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2364-E27F-4B22-A63C-027D2B20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56AA2-748D-44C8-9D5F-087307D6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AC63-E069-4D75-B8D0-002503EF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7D65-44A0-4BB1-900F-AE45CDE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E799-2D82-4BCD-8B7D-842A926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52189-1295-4BBA-945D-5730DB4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246E-0B64-42BD-BAD1-0E9D5028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68C8-DF81-4B65-859A-ECAA1E80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0A75-963B-4DC1-B7BF-84988E61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BE301-F6FC-426C-A888-C7F26ACE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913-E792-41A2-A566-BD90682D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B792-ED02-45C8-8E66-917C1BD2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7FBA-0E64-449A-971D-0AF1E7CB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02A6A-6547-4447-8675-4D76C59B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B0111-A413-4A98-8AB7-AA9D63F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72E4-7FBE-4D3E-BBA8-099785DA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5910B-92A2-46F7-B54B-11010E64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5F027-2802-4AA0-81AE-EE4063D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31E8-E7CD-4B68-AF27-12A986C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597F9-036B-41BA-B558-84D1EBD8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FE70C-F6F6-4C48-A5B5-A49A1416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EAB-C1D6-46F4-B9E3-832AEF1E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B47A-9CDB-4FD0-8B07-A47A3204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6B2EE-A3A1-4AB2-8738-8E52D777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73E02-2C67-4CE4-BAD5-95234849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9DF5-0407-4ED7-9FD5-2770843D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86239-2AA5-4B0F-8A32-C0D76693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132D3-32B9-4EBD-8D45-CACC4431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7FD23-C14B-4FB6-A37D-94244C58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5579-8DEC-4859-AD77-7A3BA6D5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2FC0-9949-4048-A7BA-09525099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8C82F-BC04-4444-82F7-94DA043A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23A-DDC7-49B9-84AD-D4F5BDD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276AA-7FE5-4C0C-A722-6551712D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AA1B3-6300-4A1F-8A85-FBAB443C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A7B9B-B86C-4BDD-A4B5-CB31B571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25215-AC3B-49ED-A1EF-56D7BA90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1D851-93C3-4CC3-9254-6C7D07F3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C296F-42BD-4D81-8692-8AB27CDC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F84B5-5738-40FD-A5D0-AEC2FD35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E73DE-D7E3-47B9-9F78-73292F38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AE0D-3FEC-4C7A-8108-51031C8D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686B-7EF6-4234-BE3D-14408ACA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E7C-B7C1-4DA1-ABE2-D3EA3029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0B94-3D67-4526-A288-456DE51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6D6E8-FDC4-4D02-B42B-704D6F0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E2741-CA91-4DF4-A506-C3E7C47A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8A9AF-59AD-4428-80B6-2B6EB345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DCB55-2F5F-46FD-9013-BA63C1A2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065E1-8FA5-45C2-985A-0FE5AD32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22237-559F-4FE2-874B-DE3A89D3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545F7-02D2-4940-9693-1453D7D3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8E290-0770-4949-A31D-A1993EDC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3F17-325C-4123-A469-C67B8346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C4D-D83F-4045-962A-38C9262F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BB53A-4438-4CB5-852E-C2DD7C69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C28D7-442C-4618-9B54-19D67E4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0EB0E-B564-42E4-ABDF-A6320CFB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C9CA8-A1EC-43DC-94A2-A32A101B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D2E1-39A3-4404-9B72-532E6194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06DEA-845A-4509-BB63-E50721B9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16FB3-5C1F-44AB-91C3-65322A3D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99F9F-D2B1-46B6-8E81-458D5566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3F516-8CD4-4F4B-8102-4DDB6F13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3D842-B1D8-4B99-92FE-B3D88B84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F887-C8D9-42B2-959D-31D92E153F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4F5-B717-4EB1-9936-89C7FADFE9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70F8-D9F5-4C90-AA52-719C00A5AA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267F-9EDF-4838-99EB-ECAC935F27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8693-B954-4D3B-AE5C-D8ACA7FA84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D1A6-8891-4DD5-B778-CB4D492FB0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D5BE-1145-4B49-B9A4-C77C63C357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AD2C-FD61-4577-B8C8-6E151717B4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68B-1771-4F26-806C-2168E63B7B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9CD2-361D-4EF8-AC4C-C3EED6DFAF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789-3CE8-49D1-8AB0-BE030A4C55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2652-7033-4B49-BCB4-4BBF3072C7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EF6A-6BC8-40A4-BDAF-8AD82E723E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0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170-23F5-4847-9B8D-33CD21235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6550200"/>
            <a:ext cx="9144000" cy="342720"/>
          </a:xfrm>
          <a:prstGeom prst="rect">
            <a:avLst/>
          </a:prstGeom>
          <a:solidFill>
            <a:srgbClr val="0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88D6-4497-4C50-9DBA-DAD7FF0546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D895-3C27-4EE1-8577-C1CD197720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6B3C-735A-489A-999E-147B42E0C6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8C3B-DABF-41C7-8FB9-BE51F7BDEB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CD0A-4484-41D0-B04E-9A9CC88639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F123-E701-497F-AFDB-263C6A1321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412F-98A3-42E4-940F-179E20B257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51E3-A7B1-4AA3-9A2C-64194D8817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4A27-08FB-4897-AEF0-528DFC512E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2322-684E-4DCB-9D15-108E573D15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E816-6B40-4132-BA75-8FBB99D06C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F89-2788-4C5E-AC20-EADCA2AC1E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24BE-AE50-49AF-8962-81DE561359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 flipV="1">
            <a:off x="0" y="-27720"/>
            <a:ext cx="9180360" cy="6885000"/>
          </a:xfrm>
          <a:prstGeom prst="flowChartPunchedCard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0" y="2709720"/>
            <a:ext cx="7236000" cy="4148280"/>
          </a:xfrm>
          <a:prstGeom prst="rtTriangle">
            <a:avLst/>
          </a:prstGeom>
          <a:solidFill>
            <a:srgbClr val="00b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0" y="3086280"/>
            <a:ext cx="6750000" cy="3771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 rot="1740000">
            <a:off x="2758680" y="36381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绿色斜边设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1187280" y="2205000"/>
            <a:ext cx="6635520" cy="2190600"/>
            <a:chOff x="1187280" y="2205000"/>
            <a:chExt cx="6635520" cy="2190600"/>
          </a:xfrm>
        </p:grpSpPr>
        <p:sp>
          <p:nvSpPr>
            <p:cNvPr id="622" name="AutoShape 85"/>
            <p:cNvSpPr/>
            <p:nvPr/>
          </p:nvSpPr>
          <p:spPr>
            <a:xfrm>
              <a:off x="3991680" y="3453840"/>
              <a:ext cx="109512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86"/>
            <p:cNvSpPr/>
            <p:nvPr/>
          </p:nvSpPr>
          <p:spPr>
            <a:xfrm>
              <a:off x="3926160" y="3483360"/>
              <a:ext cx="12484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85"/>
            <p:cNvSpPr/>
            <p:nvPr/>
          </p:nvSpPr>
          <p:spPr>
            <a:xfrm>
              <a:off x="2621160" y="3453840"/>
              <a:ext cx="111096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86"/>
            <p:cNvSpPr/>
            <p:nvPr/>
          </p:nvSpPr>
          <p:spPr>
            <a:xfrm>
              <a:off x="2586600" y="3485160"/>
              <a:ext cx="121752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85"/>
            <p:cNvSpPr/>
            <p:nvPr/>
          </p:nvSpPr>
          <p:spPr>
            <a:xfrm>
              <a:off x="1277640" y="3453840"/>
              <a:ext cx="109620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86"/>
            <p:cNvSpPr/>
            <p:nvPr/>
          </p:nvSpPr>
          <p:spPr>
            <a:xfrm>
              <a:off x="1187280" y="3485160"/>
              <a:ext cx="12178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85"/>
            <p:cNvSpPr/>
            <p:nvPr/>
          </p:nvSpPr>
          <p:spPr>
            <a:xfrm>
              <a:off x="6712560" y="3453840"/>
              <a:ext cx="108036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86"/>
            <p:cNvSpPr/>
            <p:nvPr/>
          </p:nvSpPr>
          <p:spPr>
            <a:xfrm>
              <a:off x="6666120" y="3485160"/>
              <a:ext cx="11566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85"/>
            <p:cNvSpPr/>
            <p:nvPr/>
          </p:nvSpPr>
          <p:spPr>
            <a:xfrm>
              <a:off x="5338080" y="3453840"/>
              <a:ext cx="109656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86"/>
            <p:cNvSpPr/>
            <p:nvPr/>
          </p:nvSpPr>
          <p:spPr>
            <a:xfrm>
              <a:off x="5266080" y="3485160"/>
              <a:ext cx="127800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직선 화살표 연결선 380"/>
            <p:cNvCxnSpPr>
              <a:stCxn id="622" idx="0"/>
            </p:cNvCxnSpPr>
            <p:nvPr/>
          </p:nvCxnSpPr>
          <p:spPr>
            <a:xfrm flipV="1">
              <a:off x="4536360" y="3072600"/>
              <a:ext cx="3240" cy="379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633" name="직선 화살표 연결선 382"/>
            <p:cNvCxnSpPr/>
            <p:nvPr/>
          </p:nvCxnSpPr>
          <p:spPr>
            <a:xfrm flipV="1">
              <a:off x="320508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4" name="직선 화살표 연결선 383"/>
            <p:cNvCxnSpPr/>
            <p:nvPr/>
          </p:nvCxnSpPr>
          <p:spPr>
            <a:xfrm flipV="1">
              <a:off x="184680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5" name="직선 화살표 연결선 384"/>
            <p:cNvCxnSpPr/>
            <p:nvPr/>
          </p:nvCxnSpPr>
          <p:spPr>
            <a:xfrm flipV="1">
              <a:off x="724860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6" name="직선 화살표 연결선 385"/>
            <p:cNvCxnSpPr/>
            <p:nvPr/>
          </p:nvCxnSpPr>
          <p:spPr>
            <a:xfrm flipV="1">
              <a:off x="589032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7" name="AutoShape 18"/>
            <p:cNvCxnSpPr/>
            <p:nvPr/>
          </p:nvCxnSpPr>
          <p:spPr>
            <a:xfrm flipV="1">
              <a:off x="1849680" y="2752920"/>
              <a:ext cx="1772640" cy="18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sp>
          <p:nvSpPr>
            <p:cNvPr id="638" name="AutoShape 85"/>
            <p:cNvSpPr/>
            <p:nvPr/>
          </p:nvSpPr>
          <p:spPr>
            <a:xfrm>
              <a:off x="3743640" y="2205000"/>
              <a:ext cx="1643760" cy="85248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86"/>
            <p:cNvSpPr/>
            <p:nvPr/>
          </p:nvSpPr>
          <p:spPr>
            <a:xfrm>
              <a:off x="3682800" y="2205000"/>
              <a:ext cx="18262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0" name="AutoShape 21"/>
            <p:cNvCxnSpPr/>
            <p:nvPr/>
          </p:nvCxnSpPr>
          <p:spPr>
            <a:xfrm>
              <a:off x="5447880" y="2753280"/>
              <a:ext cx="1803960" cy="10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</p:cxnSp>
        <p:sp>
          <p:nvSpPr>
            <p:cNvPr id="641" name="Text Box 22"/>
            <p:cNvSpPr/>
            <p:nvPr/>
          </p:nvSpPr>
          <p:spPr>
            <a:xfrm>
              <a:off x="4250880" y="2348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3"/>
            <p:cNvSpPr/>
            <p:nvPr/>
          </p:nvSpPr>
          <p:spPr>
            <a:xfrm>
              <a:off x="69289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4"/>
            <p:cNvSpPr/>
            <p:nvPr/>
          </p:nvSpPr>
          <p:spPr>
            <a:xfrm>
              <a:off x="42152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5"/>
            <p:cNvSpPr/>
            <p:nvPr/>
          </p:nvSpPr>
          <p:spPr>
            <a:xfrm>
              <a:off x="55627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28526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150156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2"/>
          <p:cNvGrpSpPr/>
          <p:nvPr/>
        </p:nvGrpSpPr>
        <p:grpSpPr>
          <a:xfrm>
            <a:off x="2278080" y="1727280"/>
            <a:ext cx="4935240" cy="4269960"/>
            <a:chOff x="2278080" y="1727280"/>
            <a:chExt cx="4935240" cy="4269960"/>
          </a:xfrm>
        </p:grpSpPr>
        <p:sp>
          <p:nvSpPr>
            <p:cNvPr id="648" name="AutoShape 3"/>
            <p:cNvSpPr/>
            <p:nvPr/>
          </p:nvSpPr>
          <p:spPr>
            <a:xfrm>
              <a:off x="4208760" y="4121640"/>
              <a:ext cx="1503000" cy="15015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4"/>
            <p:cNvSpPr/>
            <p:nvPr/>
          </p:nvSpPr>
          <p:spPr>
            <a:xfrm>
              <a:off x="3797640" y="449532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9444a"/>
                </a:gs>
                <a:gs pos="100000">
                  <a:srgbClr val="3693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utomation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Network 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5"/>
            <p:cNvSpPr/>
            <p:nvPr/>
          </p:nvSpPr>
          <p:spPr>
            <a:xfrm>
              <a:off x="2278080" y="341964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>
              <a:off x="4208760" y="2993040"/>
              <a:ext cx="1503000" cy="15019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>
              <a:off x="2609280" y="3419640"/>
              <a:ext cx="150300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M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3797640" y="341964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e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M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9"/>
            <p:cNvSpPr/>
            <p:nvPr/>
          </p:nvSpPr>
          <p:spPr>
            <a:xfrm>
              <a:off x="5119200" y="322920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System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Develop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0"/>
            <p:cNvSpPr/>
            <p:nvPr/>
          </p:nvSpPr>
          <p:spPr>
            <a:xfrm>
              <a:off x="5711760" y="322920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1"/>
            <p:cNvSpPr/>
            <p:nvPr/>
          </p:nvSpPr>
          <p:spPr>
            <a:xfrm>
              <a:off x="3913920" y="219276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5e00"/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S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12"/>
            <p:cNvSpPr/>
            <p:nvPr/>
          </p:nvSpPr>
          <p:spPr>
            <a:xfrm>
              <a:off x="3913920" y="172728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2060640"/>
            <a:ext cx="9144000" cy="2205000"/>
          </a:xfrm>
          <a:prstGeom prst="rect">
            <a:avLst/>
          </a:prstGeom>
          <a:solidFill>
            <a:srgbClr val="0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7:48:05Z</dcterms:created>
  <dc:creator>yellownancy</dc:creator>
  <dc:description/>
  <cp:keywords/>
  <dc:language>en-US</dc:language>
  <cp:lastModifiedBy>a</cp:lastModifiedBy>
  <dcterms:modified xsi:type="dcterms:W3CDTF">2014-07-28T10:32:1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